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666-AB31-4347-BACF-4E048648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519-5E87-4EB2-8BBC-D8647AC3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42C-74E2-4C19-9335-31ABEC03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07AF-28E9-4A11-9459-B95A80D9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8E39-F5B8-4FB2-B3F0-B92551BB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58A1-10BB-40F1-8E95-70E3CDCE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B18A-3D82-49F2-A957-84D75F59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C23B-8C54-45B1-8390-998B8AC5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F363-DA23-4424-B116-704F0D56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1941-3CE6-40C7-AB3F-87FEB9AA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2C78-C3DF-486E-9096-9542C2B7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18DF-E202-4AD2-8D73-F44954B8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28EB-833F-408F-BD6E-21004B76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C723-39C7-41BD-A679-908C29E0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252B-4AC8-4C3D-88D3-4CF34FC5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5741-6D2F-47AA-AC04-5677AC8A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3E39-3254-4C39-9B25-8B9A5E94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940-D794-4BE9-A325-DCED696D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7EE-D0A7-41C7-8B6D-9E7606DA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D19-2B04-410E-AC85-5E0A835E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A49-4408-467C-893B-1FB3B688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BAAA-7789-46E9-8D0B-8C330765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71C-9859-42AC-A2C1-7ED8F4D0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0A9-6F64-4CEF-9500-CF1AD460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EDF0-6CA2-4DB7-A709-A042B3C77F8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76E0-7760-43A7-81CF-ACF1BCC020F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sclosure Analysis for the Census of Agricultur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National Agricultural Statistics Service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U.S. Department of Agriculture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jor Po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y large complicated data 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ear relations analysis 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hanced features of the 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agnostic Too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rge Data S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700 published t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8 million data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100 rows (geography) x 6000 columns (agricultural statistic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rgest sub-table (255 x 50 or 12,000 cell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885 linear rel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6,000 disclosure t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inear Relations Analysis Syste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mental Outp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 shel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trix number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rious listing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ctural &amp; Organizational Analy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structuring the rel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ordering the rel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bining the rel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hanced Featu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eze/maximum capacity progr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 function op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ference c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 adjustment fac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nostic Too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important component of the 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ility to review suppression patter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ystem was not a “Black-Box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ability allowed us to improve the system by continual feedback from the analy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nostic Too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ility to always tell analysts’ why cells were suppress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losure Table Fi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ression Pattern Fi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erformance Issues &amp; Future 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BM R50 UNIX Serve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TRAN (3.5 hou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BM P690 UNIX Ser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TRAN (20 minut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S (3.5 hou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jor Reason for Succ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gricultural analysts’ review of the suppression patterns, their feedback to the disclosure analysts and our ability to modify the syst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18:48:43Z</dcterms:created>
  <dc:creator>smitrb</dc:creator>
  <dc:description/>
  <dc:language>en-US</dc:language>
  <cp:lastModifiedBy>smitrb</cp:lastModifiedBy>
  <dcterms:modified xsi:type="dcterms:W3CDTF">2005-11-01T15:04:03Z</dcterms:modified>
  <cp:revision>26</cp:revision>
  <dc:subject/>
  <dc:title>Disclosure Analysis for the Census of Agriculture</dc:title>
</cp:coreProperties>
</file>