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E95-CB7B-4A8C-B056-4B4F20F5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615-DAF4-4EAD-BD7C-714A95F2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6DB-F489-4F88-9217-52881E96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496-214E-41AF-AEFB-5237CDD2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2CA1-A274-47EA-9741-0381A809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7AFC-D2C3-4A6C-A282-001AA9C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2CAB-CBCE-4A34-8787-9B8C427A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F41-7440-4412-B068-7CF7244D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92A-9806-41AE-9D0E-50531DC6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80B9-9266-49D3-9322-E1ED509E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FCB6-2F52-4B65-8625-3F93FFE5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4F9-E86D-4743-AF52-3D7195A5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7A17-5A21-4B37-BF5D-DC396A9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0804-EC40-4C20-827F-29DE7A0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D69E-6714-4C35-BEB7-99998563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2E36-B1C2-4BE0-97D3-5ACC5B0A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9399-DDC3-4FBA-BCD3-1051CCD7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A74-9CE2-4C16-9627-2B2AADB6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D13-59CF-4A3E-A589-33D8E058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321-7406-4B03-96C9-06665CAD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DEC-8E31-4302-806B-CA5ACA25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536-3DFB-4509-9FFD-88A7B283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6B5-1E6E-4776-8A4B-09E905C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709-591A-4A7F-A6B4-F84E4158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0DC39A-44EB-493F-86FD-24D2BAD709A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56B40A-4EB7-49BC-8053-0BB3B351FD94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IMPROVING CONFIDENTIALITY WITH tau-ARGUS BY FOCUSSING ON CLEVER USAGE OF MICRODATA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land van der Meijden M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940360" y="5445000"/>
            <a:ext cx="930240" cy="98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49800" y="580536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1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Content of presenta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u-Ar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ning pos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ierarch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istoryfile, information loss and bas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Tau-Argu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9148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utomated cell suppression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lculates confidentiality effects on all dimensions of a table simultane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ffers 4 confidentiality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n,k)-rule / dominance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%-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-q-rule / prior-posterior-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nimum frequency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705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Tuning possibiliti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8796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ierarchies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way hierarchies are built is of influence on how secondary suppressions are appli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istory file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preference can be given for which cells may or must be secondarily confident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formation loss weights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formation will be lost when applying secondary suppressions. The way tau-Argus calculates this information loss can be adjus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ase material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way 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icroda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preferre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outp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composed is of influence on the way secondary suppressions are appli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11280" y="1916280"/>
            <a:ext cx="52563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987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Hierarchies (1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24120" y="1981080"/>
            <a:ext cx="491328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11280" y="5734080"/>
            <a:ext cx="5256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987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Hierarchies (2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08000" y="1700280"/>
          <a:ext cx="6914880" cy="4922640"/>
        </p:xfrm>
        <a:graphic>
          <a:graphicData uri="http://schemas.openxmlformats.org/drawingml/2006/table">
            <a:tbl>
              <a:tblPr/>
              <a:tblGrid>
                <a:gridCol w="2009520"/>
                <a:gridCol w="1182960"/>
                <a:gridCol w="1269720"/>
                <a:gridCol w="1227240"/>
                <a:gridCol w="122544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row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ize 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 S -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A -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 1 -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requency un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econdary un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ize 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 S -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A -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class  1 -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requency un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econdary un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Historyfile, information loss and base material (1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0596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istory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fidential, publishable, preferably do (not) suppress secondar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nformation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ell value, frequency, equal and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as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mall area estimation, deliberately adjusting microdata and coordination of publication obl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987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Historyfile, information loss and base material (2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40160" y="23241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76360" y="1844640"/>
          <a:ext cx="7416360" cy="4320720"/>
        </p:xfrm>
        <a:graphic>
          <a:graphicData uri="http://schemas.openxmlformats.org/drawingml/2006/table">
            <a:tbl>
              <a:tblPr/>
              <a:tblGrid>
                <a:gridCol w="1319040"/>
                <a:gridCol w="771480"/>
                <a:gridCol w="738720"/>
                <a:gridCol w="739440"/>
                <a:gridCol w="739080"/>
                <a:gridCol w="739440"/>
                <a:gridCol w="802440"/>
                <a:gridCol w="802800"/>
                <a:gridCol w="763920"/>
              </a:tblGrid>
              <a:tr h="411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s for determining information lo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l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 N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requency un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9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9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dominance un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econdary un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0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2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13088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u-Argus is a tool that is helpful in calculating confidentiality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 confidentiality pattern can be influen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mproving the confidentiality pattern, takes a lot of eff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oth tooling and the way base material is used are of influence on the confidentiality patt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12:07Z</dcterms:created>
  <dc:creator>drs. Roland van der Meijden</dc:creator>
  <dc:description/>
  <dc:language>en-US</dc:language>
  <cp:lastModifiedBy>drs. Roland van der Meijden</cp:lastModifiedBy>
  <cp:lastPrinted>1997-01-15T14:42:22Z</cp:lastPrinted>
  <dcterms:modified xsi:type="dcterms:W3CDTF">2005-11-01T14:12:07Z</dcterms:modified>
  <cp:revision>15</cp:revision>
  <dc:subject/>
  <dc:title>IMPROVING CONFIDENTIALITY WITH t-ARGUS BY FOCUSSING ON CLEVER USAGE OF MICRODATA </dc:title>
</cp:coreProperties>
</file>