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01C-13D6-4535-A6C2-46BDB4AE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ary Cell suppression has been used to protect sensitive tabular data for a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E53-8EAF-4048-9FD1-9AA63056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CDE-7BEC-433A-9ADF-F8454D20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5FF-BC1A-4FF1-99BA-E538A3F2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7CB-EBB4-4B85-9B32-182C500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4F-E369-4897-B42A-1D3C1DF1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043-4F11-4C5C-8DBF-7EBCBE39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9FB-951C-4120-A885-6A61F5B7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B1F-35B9-4E4A-B790-CDFE911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606-1F28-4427-8B61-E369DA38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B79-CE41-4F2A-BA50-062EA79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34B-71E8-45CE-ADAD-A519731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F57-98D6-4B87-B2BC-CBEB1B4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17D-2847-4D27-8EC9-E9CAF905C7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60A-DC34-4EB0-9982-7E370436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ford.edu/dept/eesor/people/faculty/dantzig/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oftware Tools for Statistical Disclosure Control  by Complementary Cell Suppression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–  Reality Check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mesh A. Dandekar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. S. Department of Energy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shington DC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(Ramesh.Dandekar@EIA.DOE.G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188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914-269A-457E-88F5-77A94AD095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86640" y="6362640"/>
            <a:ext cx="54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able available from http://mysite.verizon.net/vze7w8v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A86-5B99-40A0-B9C7-008EC68DE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562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23960" y="6248520"/>
            <a:ext cx="58960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rrent Minimum Requirement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298-1534-4750-ADB0-99EF2934D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</a:rPr>
              <a:t>Statistical Est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ve Point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ver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ve Using Aver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ve Using Frequency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105520"/>
            <a:ext cx="556236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Using CTA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200" y="4038480"/>
            <a:ext cx="1575000" cy="1473480"/>
          </a:xfrm>
          <a:custGeom>
            <a:avLst/>
            <a:gdLst/>
            <a:ahLst/>
            <a:rect l="l" t="t" r="r" b="b"/>
            <a:pathLst>
              <a:path w="992" h="928">
                <a:moveTo>
                  <a:pt x="328" y="0"/>
                </a:moveTo>
                <a:cubicBezTo>
                  <a:pt x="164" y="168"/>
                  <a:pt x="0" y="336"/>
                  <a:pt x="88" y="480"/>
                </a:cubicBezTo>
                <a:cubicBezTo>
                  <a:pt x="176" y="624"/>
                  <a:pt x="720" y="800"/>
                  <a:pt x="856" y="864"/>
                </a:cubicBezTo>
                <a:cubicBezTo>
                  <a:pt x="992" y="928"/>
                  <a:pt x="948" y="896"/>
                  <a:pt x="904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648320"/>
            <a:ext cx="1143000" cy="76176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144" y="0"/>
                </a:moveTo>
                <a:cubicBezTo>
                  <a:pt x="72" y="32"/>
                  <a:pt x="0" y="64"/>
                  <a:pt x="96" y="144"/>
                </a:cubicBezTo>
                <a:cubicBezTo>
                  <a:pt x="192" y="224"/>
                  <a:pt x="456" y="352"/>
                  <a:pt x="72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00A-0352-4211-9328-7E5564034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61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651-36EA-4E37-8940-45EE3E7E85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959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612-20F7-4989-B84B-405A5FA71C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32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4F0-94EB-4697-9D08-3A0488F62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4495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098880"/>
            <a:ext cx="4876560" cy="1409760"/>
          </a:xfrm>
          <a:custGeom>
            <a:avLst/>
            <a:gdLst/>
            <a:ahLst/>
            <a:rect l="l" t="t" r="r" b="b"/>
            <a:pathLst>
              <a:path w="3072" h="888">
                <a:moveTo>
                  <a:pt x="0" y="880"/>
                </a:moveTo>
                <a:cubicBezTo>
                  <a:pt x="108" y="812"/>
                  <a:pt x="216" y="744"/>
                  <a:pt x="288" y="688"/>
                </a:cubicBezTo>
                <a:cubicBezTo>
                  <a:pt x="360" y="632"/>
                  <a:pt x="384" y="584"/>
                  <a:pt x="432" y="544"/>
                </a:cubicBezTo>
                <a:cubicBezTo>
                  <a:pt x="480" y="504"/>
                  <a:pt x="528" y="480"/>
                  <a:pt x="576" y="448"/>
                </a:cubicBezTo>
                <a:cubicBezTo>
                  <a:pt x="624" y="416"/>
                  <a:pt x="664" y="368"/>
                  <a:pt x="720" y="352"/>
                </a:cubicBezTo>
                <a:cubicBezTo>
                  <a:pt x="776" y="336"/>
                  <a:pt x="848" y="368"/>
                  <a:pt x="912" y="352"/>
                </a:cubicBezTo>
                <a:cubicBezTo>
                  <a:pt x="976" y="336"/>
                  <a:pt x="1048" y="296"/>
                  <a:pt x="1104" y="256"/>
                </a:cubicBezTo>
                <a:cubicBezTo>
                  <a:pt x="1160" y="216"/>
                  <a:pt x="1200" y="152"/>
                  <a:pt x="1248" y="112"/>
                </a:cubicBezTo>
                <a:cubicBezTo>
                  <a:pt x="1296" y="72"/>
                  <a:pt x="1328" y="32"/>
                  <a:pt x="1392" y="16"/>
                </a:cubicBezTo>
                <a:cubicBezTo>
                  <a:pt x="1456" y="0"/>
                  <a:pt x="1576" y="0"/>
                  <a:pt x="1632" y="16"/>
                </a:cubicBezTo>
                <a:cubicBezTo>
                  <a:pt x="1688" y="32"/>
                  <a:pt x="1696" y="72"/>
                  <a:pt x="1728" y="112"/>
                </a:cubicBezTo>
                <a:cubicBezTo>
                  <a:pt x="1760" y="152"/>
                  <a:pt x="1792" y="208"/>
                  <a:pt x="1824" y="256"/>
                </a:cubicBezTo>
                <a:cubicBezTo>
                  <a:pt x="1856" y="304"/>
                  <a:pt x="1872" y="344"/>
                  <a:pt x="1920" y="400"/>
                </a:cubicBezTo>
                <a:cubicBezTo>
                  <a:pt x="1968" y="456"/>
                  <a:pt x="2048" y="536"/>
                  <a:pt x="2112" y="592"/>
                </a:cubicBezTo>
                <a:cubicBezTo>
                  <a:pt x="2176" y="648"/>
                  <a:pt x="2248" y="704"/>
                  <a:pt x="2304" y="736"/>
                </a:cubicBezTo>
                <a:cubicBezTo>
                  <a:pt x="2360" y="768"/>
                  <a:pt x="2376" y="776"/>
                  <a:pt x="2448" y="784"/>
                </a:cubicBezTo>
                <a:cubicBezTo>
                  <a:pt x="2520" y="792"/>
                  <a:pt x="2656" y="776"/>
                  <a:pt x="2736" y="784"/>
                </a:cubicBezTo>
                <a:cubicBezTo>
                  <a:pt x="2816" y="792"/>
                  <a:pt x="2880" y="816"/>
                  <a:pt x="2928" y="832"/>
                </a:cubicBezTo>
                <a:cubicBezTo>
                  <a:pt x="2976" y="848"/>
                  <a:pt x="3000" y="872"/>
                  <a:pt x="3024" y="880"/>
                </a:cubicBezTo>
                <a:cubicBezTo>
                  <a:pt x="3048" y="888"/>
                  <a:pt x="3060" y="884"/>
                  <a:pt x="3072" y="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12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75640" y="2610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3360" y="43624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7720" y="42861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0240" y="42861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9144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val = (high-low)/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5105520"/>
            <a:ext cx="70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stance = ABS ( Peak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interva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– Tru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interva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165-749E-4D00-9D53-ECA27F696F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209680"/>
            <a:ext cx="8381880" cy="1326240"/>
          </a:xfrm>
          <a:prstGeom prst="rect">
            <a:avLst/>
          </a:prstGeom>
          <a:noFill/>
          <a:ln w="93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ell:   1 True Value: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14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.  Range:   409.   Dif  0    Within:  697  -  7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12.       2.        2.         6.       2.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.        7.        1.        4.       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493  -  533  -  574  -  615  -  656 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97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38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 -  779  -  820  -  861  -  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8006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3520" y="48387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LP audit based range = 4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4000680"/>
            <a:ext cx="24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eak Density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8380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UE VALUE AND FREQUENCY DIS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FIRST SUPPRESSED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590920"/>
            <a:ext cx="1219320" cy="1143000"/>
          </a:xfrm>
          <a:prstGeom prst="ellipse">
            <a:avLst/>
          </a:prstGeom>
          <a:noFill/>
          <a:ln cap="rnd" w="936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009-C309-4F5C-947D-CDBAC3DDFA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-533520"/>
            <a:ext cx="7772400" cy="1005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A46-CE78-4217-A2B3-E45ED222D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</a:rPr>
              <a:t>Conclusions and Sugg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void Tighter B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ver Protec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not same as over suppression)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t u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red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Larger Cells as Com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of Cost Function 1/( call value) or Log(cell value)/value is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nthetic Tabular Data a.k.a. Controlled Tabular Adjustments might be worth Looking i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673-DDBA-4E24-A087-D10BABF17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Equality Constraints Associated With Suppression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286000"/>
            <a:ext cx="327636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97180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A x = 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181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d To Create Solution Space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known or Suppressed Tabl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D9E-B3E4-44AE-9D20-9ED3A54BE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486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GoudyHandtooled BT"/>
              </a:rPr>
              <a:t>THANK  YOU!</a:t>
            </a:r>
            <a:br>
              <a:rPr sz="7200"/>
            </a:br>
            <a:br>
              <a:rPr sz="7200"/>
            </a:b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DDITIONAL INFORMATION FROM</a:t>
            </a:r>
            <a:br>
              <a:rPr sz="7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ttp://mysite.verizon.net/vze7w8v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AFE-0FF4-49A6-A3D7-F40ACF7374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14800" y="29718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828800"/>
            <a:ext cx="5486400" cy="3200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3276720"/>
            <a:ext cx="3049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57200"/>
            <a:ext cx="7239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Schematic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N-D Solution Space Surrounding True Table Values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1814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lution Space Defined by Lower and Upper Bounds on Suppressed Tab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ypically Multiple Solutions Satisfying Ax=b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438280" y="2514240"/>
            <a:ext cx="19814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51320" y="2514600"/>
            <a:ext cx="302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1880" y="232416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 distance away from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91F-A523-4ECC-8E56-8BE8DC0B1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-unix.mcs.anl.gov/otc/Guide/faq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wo families of solution techniques are in wide use today. Both visit a progressively improving series of trial solutions, until a solution is reached that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atisfies the conditions for an optimum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038480"/>
            <a:ext cx="807732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872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ccff"/>
                </a:solidFill>
                <a:latin typeface="Times New Roman"/>
              </a:rPr>
              <a:t>Who needs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8672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3D8-96E6-43E4-9D5B-11B5593C47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introduced by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Dantzig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about 50 years ago, visit "basic" solutions computed by fixing enough of the variables at their bounds to reduce the constraints Ax = b to a square system, which can be solved for unique values of the remaining variables. Basic solutions represent extreme boundary points of the feasible region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efined by Ax = b, x &gt;= 0, and the simplex method can be viewed as moving from one such point to another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long the edges of the boundary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45A-BFAE-49D2-AC4B-70258DC8B5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1080" y="1828800"/>
            <a:ext cx="5486400" cy="3200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572000"/>
            <a:ext cx="3049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733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057400"/>
            <a:ext cx="3049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9718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33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implex Solutions Tend to Cluster around Edges of the Solution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utral or Null 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124-91DF-48DD-9DD2-A8F44B389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arrier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48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interior-point</a:t>
            </a:r>
            <a:r>
              <a:rPr b="0" lang="en-US" sz="48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methods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by contrast,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isit points within the interior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of the feasible reg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15360" y="552456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Creates Real Big Problem  for SDL Ta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334120"/>
            <a:ext cx="48006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4267080"/>
            <a:ext cx="15264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DD0-9392-4CB8-B72B-1D6F203B6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1828800"/>
            <a:ext cx="5486400" cy="365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276720"/>
            <a:ext cx="3049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505320"/>
            <a:ext cx="30456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8954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Interior Point Solutions Tend to Cluster Towards the Center of the Solution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56386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utral or Null 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7C6-2693-4562-9482-728814874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pporting Example From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f. Jordi Castro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n 0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st.  x1 + x2 + x3 = 3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    x1, x2, x3 &gt; = 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ior point methods will provide the solution 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 x1 = x2 = x3 = 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plex methods will provide 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ome xi = 3,    the remaining two xj = 0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  N  E  C  E   2  0  0 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7AA-3761-4B9B-91AE-4E37F6AC4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38:04Z</dcterms:created>
  <dc:creator>Ramesh Dandekar</dc:creator>
  <dc:description/>
  <dc:language>en-US</dc:language>
  <cp:lastModifiedBy>RD2</cp:lastModifiedBy>
  <cp:lastPrinted>2005-01-28T14:28:23Z</cp:lastPrinted>
  <dcterms:modified xsi:type="dcterms:W3CDTF">2005-07-06T13:24:42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1880656</vt:r8>
  </property>
  <property fmtid="{D5CDD505-2E9C-101B-9397-08002B2CF9AE}" pid="3" name="_AuthorEmail">
    <vt:lpwstr>Ramesh.Dandekar@eia.doe.gov</vt:lpwstr>
  </property>
  <property fmtid="{D5CDD505-2E9C-101B-9397-08002B2CF9AE}" pid="4" name="_AuthorEmailDisplayName">
    <vt:lpwstr>Dandekar, Ramesh</vt:lpwstr>
  </property>
  <property fmtid="{D5CDD505-2E9C-101B-9397-08002B2CF9AE}" pid="5" name="_EmailSubject">
    <vt:lpwstr>Power point presentation slides attached</vt:lpwstr>
  </property>
</Properties>
</file>