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93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428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41144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WP 37</a:t>
            </a:r>
            <a:br>
              <a:rPr sz="25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roducing Standards and Guidance for tabular outputs from ON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5788080"/>
            <a:ext cx="6400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ristine Bycroft, Philip Lowthi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ffice for National Statistics, U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should standards look lik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09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9520" indent="-20952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early written for intended audienc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9520" indent="-20952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t too long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9520" indent="-20952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ructure = Framework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9520" indent="-20952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mmary of basic rules up fron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9520" indent="-20952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orked examples to illus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nciples of risk assessment apply to all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methods/rules are minimum requirement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uidance for exceptional circumstance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consistent approach across similar outpu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eet legislation and interpret Protocol on Data Access and Confidential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mework for Confidentiality Protection very useful for reviews, and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rite standar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ach ta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dentiality protection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 consistency across surveys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greed assessment of disclosure risk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ame disclosure control methods used for similar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standards and gu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K contex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80 business surv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to 20 social surv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y areas developed own approaches to confidentiality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ingle statistics legis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NS Code of Practice, Protocol on Data Access and Confidenti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16000" indent="-2160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it into “common famili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business surveys;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household surveys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pth Review of a small number of surveys - major or idiosyncra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standards on findings from examples in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DC lead; business areas producing outputs; policy division; data user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mework for Confidentiality Prote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guide review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tructure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amework for Confidentiality Prot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0840" y="2133720"/>
            <a:ext cx="472068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1c55"/>
                </a:solidFill>
                <a:latin typeface="Arial"/>
              </a:rPr>
              <a:t>Why</a:t>
            </a:r>
            <a:r>
              <a:rPr b="0" lang="en-US" sz="1800" spc="-1" strike="noStrike">
                <a:solidFill>
                  <a:srgbClr val="151c55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51c55"/>
                </a:solidFill>
                <a:latin typeface="Arial"/>
              </a:rPr>
              <a:t>is confidentiality protection need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971800"/>
            <a:ext cx="3505320" cy="91692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1c55"/>
                </a:solidFill>
                <a:latin typeface="Arial"/>
              </a:rPr>
              <a:t>Data</a:t>
            </a:r>
            <a:r>
              <a:rPr b="0" lang="en-US" sz="1800" spc="-1" strike="noStrike">
                <a:solidFill>
                  <a:srgbClr val="151c55"/>
                </a:solidFill>
                <a:latin typeface="Arial"/>
              </a:rPr>
              <a:t>:  </a:t>
            </a:r>
            <a:r>
              <a:rPr b="1" lang="en-US" sz="1800" spc="-1" strike="noStrike">
                <a:solidFill>
                  <a:srgbClr val="151c55"/>
                </a:solidFill>
                <a:latin typeface="Arial"/>
              </a:rPr>
              <a:t>what are the key characteristics and uses of the dat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2971800"/>
            <a:ext cx="3581640" cy="91692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1c55"/>
                </a:solidFill>
                <a:latin typeface="Arial"/>
              </a:rPr>
              <a:t>Disclosure risk</a:t>
            </a:r>
            <a:r>
              <a:rPr b="0" lang="en-US" sz="1800" spc="-1" strike="noStrike">
                <a:solidFill>
                  <a:srgbClr val="151c55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151c55"/>
                </a:solidFill>
                <a:latin typeface="Arial"/>
              </a:rPr>
              <a:t>what disclosure risks need to be protected again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20400" y="4800600"/>
            <a:ext cx="307800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1c55"/>
                </a:solidFill>
                <a:latin typeface="Arial"/>
              </a:rPr>
              <a:t>Disclosure control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365760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1c55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3429000"/>
            <a:ext cx="838440" cy="304920"/>
          </a:xfrm>
          <a:prstGeom prst="leftRightArrow">
            <a:avLst>
              <a:gd name="adj1" fmla="val 50000"/>
              <a:gd name="adj2" fmla="val 54739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26668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42670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42670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828800"/>
            <a:ext cx="8534160" cy="48006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5257800"/>
            <a:ext cx="380880" cy="53352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ews of Current Pract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1680" indent="-211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port from seni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1680" indent="-211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0 business and household surv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1680" indent="-211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estionaire based around Framework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evaluate existing method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are they a good model?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what are the outstanding issu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1680" indent="-211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existing documentation, published tables, interview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1680" indent="-211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port on findings of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Writing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s comple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 standards in draft, not complete, not approv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 of issues at senior management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0T11:57:21Z</dcterms:created>
  <dc:creator>Kitty Maccoll</dc:creator>
  <dc:description/>
  <dc:language>en-US</dc:language>
  <cp:lastModifiedBy>OPENET</cp:lastModifiedBy>
  <dcterms:modified xsi:type="dcterms:W3CDTF">2005-11-04T17:49:22Z</dcterms:modified>
  <cp:revision>19</cp:revision>
  <dc:subject/>
  <dc:title>Looking for a way</dc:title>
</cp:coreProperties>
</file>