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B61E-5F36-4697-B710-2E5E59149C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B82F-1B18-4563-86A4-847875C96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9038-6931-48BA-9888-5DEADA07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6CDE-0922-4C84-BE5B-2E0CC6532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46E3-5E48-41AF-A18D-7A54664C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B594-AC3B-4554-AE42-EBD8213F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52FE-9BAC-47DC-A21C-00A2217E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EB94-FBB7-4AE3-B960-8F796E75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6440-3B98-4C13-8A9B-A1B5EE4C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845A-90B3-4DF4-8F80-4F3DB975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9B14-DF73-428F-874B-A448BBBF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BF2C-94B5-439D-BA5B-5B0240C9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B178-DED3-4EFA-8B48-DECE766F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0DAF-D1B9-47CA-9486-5828B6430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48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P 3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000"/>
                </a:solidFill>
                <a:latin typeface="Times New Roman"/>
              </a:rPr>
              <a:t>Information Loss Measures for Frequency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076640"/>
            <a:ext cx="4897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alie Shlom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 of Southampt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 for National Statistic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.shlomo@soton.ac.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4005360"/>
            <a:ext cx="40338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roline Young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iversity of Southampt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fice for National Statistics</a:t>
            </a: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jy@soton.ac.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52280" y="0"/>
            <a:ext cx="8991720" cy="66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Information Loss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act on Rank Correl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original cell counts and define deciles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on perturbed cell 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loss measure: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indicator function and         the number of 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 Linear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loss measure based on the ratio of the deviance (likelihood ratio test statistic) between perturbed table and original table for a given model: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also compare different models since model for origi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ble may differ from model of  perturbed 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813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625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67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052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55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886200" y="4876920"/>
                <a:ext cx="149688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R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rig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019920" y="1143000"/>
                <a:ext cx="6094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orig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800600" y="1523880"/>
                <a:ext cx="6094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er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038480" y="1752480"/>
                <a:ext cx="36576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×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orig</m:t>
                                </m:r>
                              </m:sup>
                            </m:sSubSup>
                            <m:r>
                              <m:t xml:space="preserve">≠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pert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334120" y="2971800"/>
                <a:ext cx="360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52280" y="0"/>
            <a:ext cx="8991720" cy="53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Data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ion Area Southwest  England: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37,744  persons,   182,337 households, 70 wards (on average 6,250 persons to a war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ables were the follow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ure(3) * Age (7) * Health(4) * Ward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icity (17) * 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nomic Activity (9) *  Sex (2) * Long-Ter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llness(2) * 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2280" y="0"/>
            <a:ext cx="8991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Data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8360" y="1397160"/>
          <a:ext cx="8280360" cy="4144680"/>
        </p:xfrm>
        <a:graphic>
          <a:graphicData uri="http://schemas.openxmlformats.org/drawingml/2006/table">
            <a:tbl>
              <a:tblPr/>
              <a:tblGrid>
                <a:gridCol w="2735280"/>
                <a:gridCol w="1363680"/>
                <a:gridCol w="1817640"/>
                <a:gridCol w="2363760"/>
              </a:tblGrid>
              <a:tr h="81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Ten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Ethni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Employ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Number of ce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5,8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1,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2,5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Average cell size and 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73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(3.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387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(51.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125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(6.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% of small ce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1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% of zero ce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2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2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1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33746" t="0" r="36157" b="69648"/>
          <a:stretch/>
        </p:blipFill>
        <p:spPr>
          <a:xfrm>
            <a:off x="34920" y="1341360"/>
            <a:ext cx="3059280" cy="4032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33746" t="0" r="36157" b="69648"/>
          <a:stretch/>
        </p:blipFill>
        <p:spPr>
          <a:xfrm>
            <a:off x="6012000" y="1341360"/>
            <a:ext cx="3132000" cy="4032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rcRect l="33746" t="0" r="36157" b="69648"/>
          <a:stretch/>
        </p:blipFill>
        <p:spPr>
          <a:xfrm>
            <a:off x="3059280" y="1341360"/>
            <a:ext cx="3025440" cy="4032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08000" y="16812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00"/>
                </a:solidFill>
                <a:uFillTx/>
                <a:latin typeface="Times New Roman"/>
              </a:rPr>
              <a:t>Distance Metric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(Left)-Hellinger’s Distance, (Centre)-Relative Absolute Difference and (Right)- Absolute Distance per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95280" y="5294160"/>
            <a:ext cx="3024360" cy="374760"/>
            <a:chOff x="395280" y="5294160"/>
            <a:chExt cx="3024360" cy="374760"/>
          </a:xfrm>
        </p:grpSpPr>
        <p:sp>
          <p:nvSpPr>
            <p:cNvPr id="128" name=""/>
            <p:cNvSpPr/>
            <p:nvPr/>
          </p:nvSpPr>
          <p:spPr>
            <a:xfrm>
              <a:off x="395280" y="530064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R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00000" y="529416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a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7640" y="530064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79640" y="530064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56000" y="530064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W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348000" y="5300640"/>
            <a:ext cx="3024360" cy="374400"/>
            <a:chOff x="3348000" y="5300640"/>
            <a:chExt cx="3024360" cy="374400"/>
          </a:xfrm>
        </p:grpSpPr>
        <p:sp>
          <p:nvSpPr>
            <p:cNvPr id="134" name=""/>
            <p:cNvSpPr/>
            <p:nvPr/>
          </p:nvSpPr>
          <p:spPr>
            <a:xfrm>
              <a:off x="3348000" y="530676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R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52720" y="530064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a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00360" y="530676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32360" y="530676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08720" y="530676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W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443640" y="5300640"/>
            <a:ext cx="2881080" cy="374400"/>
            <a:chOff x="6443640" y="5300640"/>
            <a:chExt cx="2881080" cy="374400"/>
          </a:xfrm>
        </p:grpSpPr>
        <p:sp>
          <p:nvSpPr>
            <p:cNvPr id="140" name=""/>
            <p:cNvSpPr/>
            <p:nvPr/>
          </p:nvSpPr>
          <p:spPr>
            <a:xfrm>
              <a:off x="6443640" y="5306760"/>
              <a:ext cx="82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R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24240" y="5300640"/>
              <a:ext cx="82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a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41280" y="5306760"/>
              <a:ext cx="82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53120" y="5306760"/>
              <a:ext cx="82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502120" y="5306760"/>
              <a:ext cx="82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W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496000" cy="51800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Times New Roman"/>
              </a:rPr>
              <a:t>Box Plots: Difference between Perturbed and  Original Subtotals of Three Consecutive Wards (ADs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58920" y="1268280"/>
            <a:ext cx="72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s for Number of Unemployed Females with Long Term Ill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80000" y="62373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rturbation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00720" y="159228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Internal cel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947880" y="1996920"/>
          <a:ext cx="7945200" cy="401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7880" y="1996920"/>
                    <a:ext cx="794520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7394400" y="2251080"/>
            <a:ext cx="1065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08720" y="2251080"/>
            <a:ext cx="1066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8.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492960" y="2276640"/>
            <a:ext cx="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394400" y="2276640"/>
            <a:ext cx="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208080"/>
            <a:ext cx="91440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Times New Roman"/>
              </a:rPr>
              <a:t>Change in Cramer’s V Measure of Associ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Times New Roman"/>
              </a:rPr>
              <a:t>after Perturb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4360" y="2637000"/>
            <a:ext cx="1332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crease in assoc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8000" y="4869000"/>
            <a:ext cx="15476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crease in assoc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1574640"/>
            <a:ext cx="2519280" cy="703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rcent Relative Dif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03280" y="2492280"/>
            <a:ext cx="289080" cy="1584360"/>
          </a:xfrm>
          <a:prstGeom prst="upArrow">
            <a:avLst>
              <a:gd name="adj1" fmla="val 50000"/>
              <a:gd name="adj2" fmla="val 1370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03280" y="4941720"/>
            <a:ext cx="289080" cy="792360"/>
          </a:xfrm>
          <a:prstGeom prst="downArrow">
            <a:avLst>
              <a:gd name="adj1" fmla="val 50000"/>
              <a:gd name="adj2" fmla="val 685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7813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625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052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955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740720" y="2205000"/>
            <a:ext cx="1584360" cy="2764800"/>
            <a:chOff x="7740720" y="2205000"/>
            <a:chExt cx="1584360" cy="2764800"/>
          </a:xfrm>
        </p:grpSpPr>
        <p:sp>
          <p:nvSpPr>
            <p:cNvPr id="167" name=""/>
            <p:cNvSpPr/>
            <p:nvPr/>
          </p:nvSpPr>
          <p:spPr>
            <a:xfrm>
              <a:off x="7813800" y="220500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40720" y="27810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Ra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86880" y="335736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13800" y="39337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813800" y="451008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W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34920" y="115920"/>
            <a:ext cx="92170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000"/>
                </a:solidFill>
                <a:latin typeface="Times New Roman"/>
              </a:rPr>
              <a:t>Percentage of Cells in a Different Decile after Perturbation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5785" t="33807" r="0" b="27045"/>
          <a:stretch/>
        </p:blipFill>
        <p:spPr>
          <a:xfrm>
            <a:off x="704880" y="1844640"/>
            <a:ext cx="7035840" cy="37656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98520" y="1125360"/>
            <a:ext cx="798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Male (column 1) Female (column 2) Students with Long Term Illn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042920" y="1989000"/>
            <a:ext cx="12468240" cy="1326240"/>
            <a:chOff x="1042920" y="1989000"/>
            <a:chExt cx="12468240" cy="1326240"/>
          </a:xfrm>
        </p:grpSpPr>
        <p:sp>
          <p:nvSpPr>
            <p:cNvPr id="176" name=""/>
            <p:cNvSpPr/>
            <p:nvPr/>
          </p:nvSpPr>
          <p:spPr>
            <a:xfrm>
              <a:off x="4367160" y="33148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42920" y="1989000"/>
              <a:ext cx="338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Male Stud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59280" y="1989000"/>
              <a:ext cx="338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emale Stud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203640" y="558972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rcentage of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920" y="6381720"/>
            <a:ext cx="91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N.B. The selected columns are very sparse with approx 70% of cells having counts &lt; 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-324000" y="101520"/>
            <a:ext cx="96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6600"/>
                </a:solidFill>
                <a:latin typeface="Times New Roman"/>
              </a:rPr>
              <a:t>Log-Linear Models: Effect of Perturbation on Model Sele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813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625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67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052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955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57120" y="1322280"/>
                <a:ext cx="831852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l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Econ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ex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TI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ward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Econ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Sex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Econ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LTI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Econ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Ward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324000" y="83664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iginal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08720" y="497844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Choose a better mod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68360" y="3427560"/>
          <a:ext cx="6095880" cy="309708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S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5,2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1.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Ra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5,3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1.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CR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5,2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1.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6,4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1.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SW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4,7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0.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468360" y="2766960"/>
          <a:ext cx="4032360" cy="517680"/>
        </p:xfrm>
        <a:graphic>
          <a:graphicData uri="http://schemas.openxmlformats.org/drawingml/2006/table">
            <a:tbl>
              <a:tblPr/>
              <a:tblGrid>
                <a:gridCol w="2016000"/>
                <a:gridCol w="201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Origi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4,4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2484360" y="2119320"/>
          <a:ext cx="4032360" cy="5173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Devi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Ratio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(</a:t>
                      </a: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/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Orig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6588000" y="5589720"/>
            <a:ext cx="720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52280" y="0"/>
            <a:ext cx="8991720" cy="67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nsistent results for some of the information loss measures  (Cramer’s V, “between” variance) showing that stochastic processes for SDC will have varying effects on the quality of the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ergence of some guidelin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kewed tables (one or two large columns and the rest smal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umns)  - prefer rounding to cell sup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uniform tables  - less information loss due to SDC methods so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hoose method with least changes to th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sparse tables – need to have benchmarked totals so control rou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if possible) or semi-control random 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 utility by:  designing tables to avoid disclosive cells; controlling for  totals when random or small cell rounding;  giving clear guidance to users on how best to impute suppressed cells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813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625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67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052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955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52280" y="0"/>
            <a:ext cx="899172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Future Research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optimal methods of SDC depending on the use of the data and the characteristics of the table (skewed, sparse, uniform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e and expand information loss measures  for all types of statistical data (tabular and microdata) and statistical analys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software to give to suppliers of data  for assessing   information loss under different SDC methods and  choosing the optimal method which gives high utility ta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813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625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67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052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955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401760"/>
            <a:ext cx="8001000" cy="47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0240" indent="-66024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Topics of Discu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for perturbing frequency tables containing whole population 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loss measures for assessing the impact of SDC methods on utility and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description and definition of ta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and analysis of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s and future resear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0"/>
            <a:ext cx="821844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16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Introduc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16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on frequency tables containing whole population cou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16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 Neighborhood Statistics (NeSS) website which disseminates small area statistics from census and administrative data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16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ables are intentionally perturbed for statistical disclosure control (SDC) causing information lo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16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Develop quantitative information loss measures for choosing optimal SDC methods which preserves high utility in th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16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 Information loss depends on the SDC method, characteristics of the table and the use of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0"/>
            <a:ext cx="8381880" cy="57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SDC Methods for Frequency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DC for frequency tables containing population count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Cell Adjustments </a:t>
            </a:r>
            <a:r>
              <a:rPr b="0" lang="en-US" sz="2400" spc="-1" strike="noStrike">
                <a:solidFill>
                  <a:srgbClr val="006000"/>
                </a:solidFill>
                <a:latin typeface="Times New Roman"/>
              </a:rPr>
              <a:t>(SC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random rounding to base 3 of small cell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turbation has a mean of zero and variance of 2. Marginal totals obtained by adding perturbed and non-perturbe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Random Rounding </a:t>
            </a:r>
            <a:r>
              <a:rPr b="0" lang="en-US" sz="2400" spc="-1" strike="noStrike">
                <a:solidFill>
                  <a:srgbClr val="006000"/>
                </a:solidFill>
                <a:latin typeface="Times New Roman"/>
              </a:rPr>
              <a:t>(RaRo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random rounding to base 3 for all entries. Same method described above after converting all entries to residuals of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 totals rounded separately and tables aren’t add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438280" y="1752480"/>
                <a:ext cx="2819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→</m:t>
                    </m:r>
                    <m:r>
                      <m:t xml:space="preserve">0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5410080" y="1752480"/>
                <a:ext cx="2743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→</m:t>
                    </m:r>
                    <m:r>
                      <m:t xml:space="preserve">3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438280" y="2286000"/>
                <a:ext cx="2819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→</m:t>
                    </m:r>
                    <m:r>
                      <m:t xml:space="preserve">0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410080" y="2286000"/>
                <a:ext cx="2819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→</m:t>
                    </m:r>
                    <m:r>
                      <m:t xml:space="preserve">3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533520" y="6095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improve utility by semi-controlling for marginal to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0"/>
            <a:ext cx="8381880" cy="63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SDC Methods for Frequency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DC for frequency tables containing population counts (cont.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d Rounding </a:t>
            </a:r>
            <a:r>
              <a:rPr b="0" lang="en-US" sz="2400" spc="-1" strike="noStrike">
                <a:solidFill>
                  <a:srgbClr val="006000"/>
                </a:solidFill>
                <a:latin typeface="Times New Roman"/>
              </a:rPr>
              <a:t>(Cr(3)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all entries rounded to base 3 according to solution of  linear programming while ensuring that aggregated rounded internal cells equal the rounded margi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d rounding via Tau-Argus  (standard tool for NeSS tab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suppression – small cells (ones and twos) are suppressed and secondary suppressions are found to protect against recalculation   through marg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suppression via Tau-Argus and the hyper-cube method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0"/>
            <a:ext cx="8381880" cy="43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SDC Methods for Frequency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DC for frequency tables containing population counts (cont.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utation methods for cell suppres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s are known and the total of the suppressed cells are 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ute by average of the total of the suppressed cells in each row </a:t>
            </a:r>
            <a:r>
              <a:rPr b="0" lang="en-US" sz="2400" spc="-1" strike="noStrike">
                <a:solidFill>
                  <a:srgbClr val="006000"/>
                </a:solidFill>
                <a:latin typeface="Times New Roman"/>
              </a:rPr>
              <a:t>(S-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ute by  weighted average of the total of the suppressed cells in each row where weights are the column totals </a:t>
            </a:r>
            <a:r>
              <a:rPr b="0" lang="en-US" sz="2400" spc="-1" strike="noStrike">
                <a:solidFill>
                  <a:srgbClr val="006000"/>
                </a:solidFill>
                <a:latin typeface="Times New Roman"/>
              </a:rPr>
              <a:t>(S-W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2280" y="0"/>
            <a:ext cx="8991720" cy="62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Information Loss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ing distortion to distribution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 metrics between original and perturbed cells in each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 (i.e., ward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TS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  and  average across all 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be a table for war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,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cells in the ward,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the number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             the cell frequency for ce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   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inger’s Distance (HD)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Absolute Distance (RAD)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Absolute Distance per Cell (A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813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286000" y="3429000"/>
                <a:ext cx="57085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ri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sup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(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Sup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ert</m:t>
                                        </m:r>
                                      </m:sub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r>
                                      <m:t xml:space="preserve">c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rad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Sup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orig</m:t>
                                        </m:r>
                                      </m:sub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r>
                                      <m:t xml:space="preserve">c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rad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ra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44625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219320" y="1981080"/>
          <a:ext cx="457200" cy="3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81080"/>
                    <a:ext cx="4572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4367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495680" y="2362320"/>
          <a:ext cx="762120" cy="42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2362320"/>
                    <a:ext cx="76212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30052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743200" y="4724280"/>
                <a:ext cx="49244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ri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  <m:r>
                              <m:t xml:space="preserve">∈</m:t>
                            </m:r>
                            <m:r>
                              <m:t xml:space="preserve">k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|</m:t>
                                </m:r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ert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rig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|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rig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29955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276720" y="5867280"/>
                <a:ext cx="42195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A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ri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sup>
                      <m:e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r>
                                  <m:t xml:space="preserve">|</m:t>
                                </m:r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ert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rig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|</m:t>
                                </m:r>
                              </m:e>
                            </m:nary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419720" y="1981080"/>
                <a:ext cx="3459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09480" y="2286000"/>
                <a:ext cx="3952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52280" y="0"/>
            <a:ext cx="8991720" cy="65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Information Loss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ion of perturbed cells and effects on sub-tot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aggregate lower level geographies which are perturbed 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tain non-standard geograph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sub-total               wher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act on Tests for Independence:</a:t>
            </a:r>
            <a:br>
              <a:rPr sz="24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mer’s V measure of  associat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re       is the Pearson chi-square statisti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loss measur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813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625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67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052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955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580000" y="4149720"/>
                <a:ext cx="304812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χ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83" name=""/>
          <p:cNvGraphicFramePr/>
          <p:nvPr/>
        </p:nvGraphicFramePr>
        <p:xfrm>
          <a:off x="4343400" y="5715000"/>
          <a:ext cx="441972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5715000"/>
                    <a:ext cx="441972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676520" y="5105520"/>
                <a:ext cx="360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4952880" y="32004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276720" y="2057400"/>
          <a:ext cx="83808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057400"/>
                    <a:ext cx="8380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181480" y="2057400"/>
                <a:ext cx="2057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  <m:sup/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0" name=""/>
          <p:cNvGraphicFramePr/>
          <p:nvPr/>
        </p:nvGraphicFramePr>
        <p:xfrm>
          <a:off x="914400" y="2666880"/>
          <a:ext cx="4952880" cy="47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2666880"/>
                    <a:ext cx="495288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280" y="0"/>
            <a:ext cx="8991720" cy="67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Information Loss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act on Vari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tle impact on variance of cell cou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“Between” variance of target variables for proportions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wards:  Let the proportion      in a ward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and the overall propor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varianc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loss measure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xed effects for this information loss 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813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625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67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052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955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8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00200" y="5410080"/>
          <a:ext cx="457200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5410080"/>
                    <a:ext cx="45720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0" y="36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343400" y="2438280"/>
                <a:ext cx="220968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ri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sup>
                          <m:e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rig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rig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553080" y="1851120"/>
                <a:ext cx="198144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rig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(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rig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  <m:r>
                              <m:t xml:space="preserve">∈</m:t>
                            </m:r>
                            <m:r>
                              <m:t xml:space="preserve">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rig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343400" y="1905120"/>
                <a:ext cx="2826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828800" y="4114800"/>
                <a:ext cx="4419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ri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rig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rig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07:48:25Z</dcterms:created>
  <dc:creator>לשכה מרכזית לסטטיסטיקה</dc:creator>
  <dc:description/>
  <dc:language>en-US</dc:language>
  <cp:lastModifiedBy>Natalie</cp:lastModifiedBy>
  <dcterms:modified xsi:type="dcterms:W3CDTF">2005-11-03T17:48:32Z</dcterms:modified>
  <cp:revision>200</cp:revision>
  <dc:subject/>
  <dc:title>מצגת של PowerPoint</dc:title>
</cp:coreProperties>
</file>