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5C2-255D-41D8-95AF-4D5F0C6C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712-8EE7-47D6-954E-ABB5B586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2DA-5CBD-4E6F-9602-15EAF7E5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B0E-692B-4B92-B4AF-056AA0A1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2BC-F6B1-4EB4-8D12-63FD0E41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95F-7C88-471B-9B04-C03D1F90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F95-5AE5-4947-96CF-93BF2C62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463-53E3-415B-9686-B2CE5462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340-06FB-413A-AE27-E5652338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F56-8E84-4B44-AC9E-5E7C4005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EFE-E6CA-4E93-91F2-FF3CA675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A02-1DD1-410F-9908-5573549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47DD-9954-4FC5-8BC6-50059352D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s.rutgers.edu/~chvatal/notes/harmonic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.3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Effects of Rounding on Data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65760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y J. Kim ,  Lawrence H. Co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ron Katzoff,   Joe Fred Gonzalez, J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National Center for Health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379-87FD-44EC-A469-DDB26A348A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43000" y="380880"/>
          <a:ext cx="228600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228600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514600" y="1828800"/>
          <a:ext cx="601992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828800"/>
                    <a:ext cx="60199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143000" y="3352680"/>
          <a:ext cx="464328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352680"/>
                    <a:ext cx="4643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352680" y="4648320"/>
          <a:ext cx="4772160" cy="106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648320"/>
                    <a:ext cx="47721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AC9-5476-46D4-ACEA-774283536D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II.3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ventional rounding when B is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nrounde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695600"/>
          <a:ext cx="21333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95600"/>
                    <a:ext cx="21333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14400" y="2819520"/>
          <a:ext cx="3271680" cy="94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819520"/>
                    <a:ext cx="32716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905120" y="4114800"/>
          <a:ext cx="2152440" cy="103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114800"/>
                    <a:ext cx="21524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57240" y="5504040"/>
          <a:ext cx="296388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7240" y="5504040"/>
                    <a:ext cx="29638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D3E-E272-4658-A9DC-9573513F35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ified conventional roundin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0/50 roundin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nbiased r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sa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conventional rounding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778-F8F2-4711-AA63-36812C59E0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V.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tance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219320"/>
          <a:ext cx="281916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19320"/>
                    <a:ext cx="28191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981080" y="4419720"/>
          <a:ext cx="4496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419720"/>
                    <a:ext cx="4496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9C8-26D3-44B1-AA16-2B7B2D6DC4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xpressing the numerator of U,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onventional rounding with B=1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we h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38280" y="1143000"/>
          <a:ext cx="198144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143000"/>
                    <a:ext cx="1981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711440" y="4952880"/>
          <a:ext cx="526392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4952880"/>
                    <a:ext cx="526392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389240" y="3276720"/>
          <a:ext cx="417348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9240" y="3276720"/>
                    <a:ext cx="41734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B85-FC45-4FF1-9528-8EE00176EC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value of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0200" y="1371600"/>
          <a:ext cx="79786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371600"/>
                    <a:ext cx="7978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58800" y="3962520"/>
          <a:ext cx="74455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" y="3962520"/>
                    <a:ext cx="74455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2D6-432D-4C34-86FF-41D42BD5AF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V.1  Conventional rounding with even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ch can be reexpress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990720"/>
          <a:ext cx="519120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90720"/>
                    <a:ext cx="519120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3880" y="3429000"/>
          <a:ext cx="46483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429000"/>
                    <a:ext cx="46483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76520" y="5029200"/>
          <a:ext cx="508320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029200"/>
                    <a:ext cx="508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E69-284E-4D8F-A7C1-13923114B9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1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1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1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1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pper and lower bounds for harmonic series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pper bound for the first term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95280" y="380880"/>
          <a:ext cx="40719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0880"/>
                    <a:ext cx="40719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523880"/>
          <a:ext cx="3810240" cy="9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523880"/>
                    <a:ext cx="381024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676520" y="3886200"/>
          <a:ext cx="350496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886200"/>
                    <a:ext cx="3504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616120" y="1663560"/>
          <a:ext cx="914400" cy="19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6120" y="166356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248520" y="4587840"/>
          <a:ext cx="5331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4587840"/>
                    <a:ext cx="5331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86000" y="5257800"/>
          <a:ext cx="2819520" cy="89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5257800"/>
                    <a:ext cx="2819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57200" y="3276720"/>
          <a:ext cx="3378240" cy="44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" y="3276720"/>
                    <a:ext cx="33782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F76-179F-4D56-9351-6492E748C7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erm of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second term of E(U)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V.2  Modified conventional rounding with even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same E(U) as the conventional ro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9880" y="457200"/>
          <a:ext cx="3812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45720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71600" y="2971800"/>
          <a:ext cx="48006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971800"/>
                    <a:ext cx="4800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71800" y="1066680"/>
          <a:ext cx="106668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066680"/>
                    <a:ext cx="1066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E80-F860-4B18-BA56-F7CCDA7770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V.3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0/50 r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erm o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e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V.4   Unbiased r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erm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8120" y="1066680"/>
          <a:ext cx="3808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066680"/>
                    <a:ext cx="380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48320" y="2895480"/>
          <a:ext cx="182880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18288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80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267080" y="1295280"/>
          <a:ext cx="2133720" cy="79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1295280"/>
                    <a:ext cx="213372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048120" y="4876920"/>
          <a:ext cx="3808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876920"/>
                    <a:ext cx="380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952880" y="5029200"/>
          <a:ext cx="1219320" cy="79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5029200"/>
                    <a:ext cx="1219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E55-A005-4859-A65D-3DB054B917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r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unding noninteger values to integer values for statistical purpos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hance readability of the da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tect confidentiality of records in the file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keep the important digits o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33A-556A-4082-884A-58E2F75356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er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sons of three round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50/50            Unbi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3880" y="3429000"/>
          <a:ext cx="228600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22860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343400" y="3429000"/>
          <a:ext cx="167652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29000"/>
                    <a:ext cx="16765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7086600" y="3352680"/>
          <a:ext cx="106668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3352680"/>
                    <a:ext cx="10666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523880" y="4724280"/>
          <a:ext cx="213516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4724280"/>
                    <a:ext cx="21351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809880" y="4724280"/>
          <a:ext cx="2541600" cy="93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4724280"/>
                    <a:ext cx="25416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400800" y="4724280"/>
          <a:ext cx="2398680" cy="885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4724280"/>
                    <a:ext cx="23986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343400" y="228600"/>
          <a:ext cx="996840" cy="94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3400" y="228600"/>
                    <a:ext cx="9968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FD2-ABC8-4808-84AC-538CE7EF5A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of three round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50/5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i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6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49 (4.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4.5 (1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     .8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2.8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.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34120" y="4038480"/>
          <a:ext cx="7617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03848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895480" y="3962520"/>
          <a:ext cx="1067040" cy="88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962520"/>
                    <a:ext cx="106704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848720" y="4038480"/>
          <a:ext cx="7617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403848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E04-3C18-4BF6-96DE-06C9001A3F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of three round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50/50              Unbi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     193.65      3,453.88 (18)      499.5 (2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.3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322.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166.6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257800" y="39625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962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772400" y="396252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3962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276720" y="3962520"/>
          <a:ext cx="67608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962520"/>
                    <a:ext cx="67608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4D4-E684-47D6-813D-46E8304FCC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V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(1/q) for log-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ln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x has a lognormal distribution, i.e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905120" y="1465200"/>
          <a:ext cx="182880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65200"/>
                    <a:ext cx="18288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65160" y="4800600"/>
          <a:ext cx="6602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5160" y="4800600"/>
                    <a:ext cx="6602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B80-4A2F-4916-81AA-A7E4BFC9F8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V.6  E(1/q) for Pareto distribution of 2nd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eto distribution of the second kind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35040" y="685800"/>
          <a:ext cx="27194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685800"/>
                    <a:ext cx="27194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395360" y="2438280"/>
          <a:ext cx="574200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5360" y="2438280"/>
                    <a:ext cx="57420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81080" y="5105520"/>
          <a:ext cx="4496040" cy="10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105520"/>
                    <a:ext cx="44960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22D-A919-4A2C-B88C-E1B7D56144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k is the minimum value of q and c is the cumulative probability from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V.7   Upper limit for E(1/q) for multinomial             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ltinomial distribution has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,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44560" y="457200"/>
          <a:ext cx="215100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4560" y="457200"/>
                    <a:ext cx="21510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62120" y="4648320"/>
          <a:ext cx="525780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648320"/>
                    <a:ext cx="52578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248520" y="4800600"/>
          <a:ext cx="3553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4800600"/>
                    <a:ext cx="355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8C5-4551-4CBD-A892-B6D1B3496B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       be the size of the category i 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990720"/>
          <a:ext cx="50292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50292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2438280"/>
          <a:ext cx="304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438280"/>
                    <a:ext cx="30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14400" y="3124080"/>
          <a:ext cx="2433600" cy="79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124080"/>
                    <a:ext cx="24336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43000" y="4191120"/>
          <a:ext cx="6477120" cy="13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191120"/>
                    <a:ext cx="6477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C36-4B31-4CBB-81F0-B304949AD8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3818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cluding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rious methods of rounding and in some applications various choices for rounding base B are avail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question becomes:  which method and/or base is expected to perform best in terms of data quality and preserving distributional properties of original data and, quantitatively, what is the expected distortion due to rounding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paper provides a preliminary analysis toward answering these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654-F863-49A4-BEC4-8C2C373ACA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b, E.L &amp; Savage, I.R. (1954), Tables of the Expected Value of 1/X for Positive Bernoulli and Poisson Variabl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the American Statistical Assoc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69-1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.L. Johnson &amp; S. Kotz (1969)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s in Statistics, Discrete Distribu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oston:  Houghton Mifflin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.L. Johnson &amp; S. Kotz (1970)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s in Statistics, Continuous Univariate Distributions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ew York:  John Wiley and Son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m, Jay J., Cox, L.H., Gonzalez, J.F. &amp; Katzoff, M.J. (2004), Effects of Rounding Continuous Data Using Rounding Rul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edings of the American Statistical Association, Survey Research Methods 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exandria, VA, 3803-3807 (available on C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ek Chvatal. Harmonic Numbers, Natural Logarithm and the Euler-Mascheroni Constant. See 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ww.cs.rutgers.edu/~chvatal/notes/harmonic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24D-FEEA-4496-A581-F94B23FD12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effects of four rounding methods on data quality and utility in two w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bias and vari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effects on the underlying distribution of the data determined by a distance mea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D1D-4942-46CA-885A-EB88AF9C17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    :  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Rema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ypes of ro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iased round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[R(r)|r]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-unbiased rounding:  E[R(r)] = E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25680" y="152280"/>
          <a:ext cx="269100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152280"/>
                    <a:ext cx="26910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57200" y="1600200"/>
          <a:ext cx="6094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00200"/>
                    <a:ext cx="609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33520" y="2362320"/>
                <a:ext cx="565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51" name=""/>
          <p:cNvGraphicFramePr/>
          <p:nvPr/>
        </p:nvGraphicFramePr>
        <p:xfrm>
          <a:off x="2274840" y="2971800"/>
          <a:ext cx="42116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4840" y="2971800"/>
                    <a:ext cx="42116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994-6BD2-4210-8D1C-CD35B6774B43}" type="slidenum">
              <a:t>4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I.  Four  rounding 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ventional r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  r =  0, 1, 2,  .  .  .     ,9 (=B-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r        (B/2),   round r up to 10 (=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 round down r to zero (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 is odd, round r up whe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447920" y="3827520"/>
                <a:ext cx="5331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" name=""/>
          <p:cNvGraphicFramePr/>
          <p:nvPr/>
        </p:nvGraphicFramePr>
        <p:xfrm>
          <a:off x="5562720" y="5334120"/>
          <a:ext cx="9903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5334120"/>
                    <a:ext cx="990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293-F79B-4DAE-8D22-6CEEDD6DAA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ssumed to follow a discrete unifor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dified Conventional r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as conventional rounding, 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ing 5 (B/2) up or down with probability 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ero-restricted 50/50 r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zero (0), round r up or dow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 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E86-AAE6-4ABF-8C1A-147C26B78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nbiased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rounding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 r  up with probability    r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 r  down with probability    1 - r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II.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n and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II.1 Mean and variance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nrounde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0, 1, 2, 3,  .  .   .        B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95476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71E-993C-4228-9D6C-6ACBC0404D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762120"/>
          <a:ext cx="190512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2120"/>
                    <a:ext cx="1905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828800" y="2133720"/>
          <a:ext cx="228600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133720"/>
                    <a:ext cx="22860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00200" y="4648320"/>
          <a:ext cx="472428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648320"/>
                    <a:ext cx="47242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D12-F989-45BD-A0B6-B6E7F20AF1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II. 2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ventional rounding whe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B is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nrounded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00200" y="4419720"/>
          <a:ext cx="16765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16765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676520" y="533520"/>
          <a:ext cx="396216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33520"/>
                    <a:ext cx="39621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47920" y="2971800"/>
          <a:ext cx="177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2971800"/>
                    <a:ext cx="177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2F3-5D8C-430D-823E-A538B59D01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4:27:14Z</dcterms:created>
  <dc:creator>pzk3</dc:creator>
  <dc:description/>
  <dc:language>en-US</dc:language>
  <cp:lastModifiedBy>Jay J. Kim</cp:lastModifiedBy>
  <dcterms:modified xsi:type="dcterms:W3CDTF">2005-11-15T14:45:02Z</dcterms:modified>
  <cp:revision>333</cp:revision>
  <dc:subject/>
  <dc:title>Effect of Collapsing Rows/Columns on Weights</dc:title>
</cp:coreProperties>
</file>