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138-433C-46ED-896A-57453A50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66F-96D3-4667-B294-3594B4B9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EB4-344E-414C-A82C-6EDC98F9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88B-CEE7-4753-A839-BB2DF4A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594C-D6E3-4A1A-A0AB-80DF3F01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BB8-3643-4455-9D18-65D1C73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5D54-0538-4BA1-81BD-533BAB2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D02E-82B2-4527-8546-79AA312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EAC-9E08-4664-99D9-A769923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315-3BF7-4444-9364-E42ACC3C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5427-B3AE-4C9E-9238-D2A07F7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CA9-29A9-404E-BB64-E896D887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12E4-6774-4D56-B64E-A9618DA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FAA-2148-43BF-8770-7786984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F7B-A349-484B-B0B5-B1AB6664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463F-EE6D-44A2-BE98-FA5CFA30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E8B-DCD5-41E0-B779-F4F65597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FE2-AA51-417F-822C-229C2B7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5B6-38D3-44F3-892B-397491F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360-C5A6-40DD-AEEF-1DAB535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1B6-4DF5-4AC8-B169-0756F7F3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086-447C-4E6C-BA54-8B30D06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AA1-66C6-4ABF-B807-B8060B8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5A0-B7E3-40B8-BEDA-07032C4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D75-74A1-4145-84D0-0846B1B464CE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3FD-0DF8-498E-A60D-31924D297D6E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/ECE Work Session On Statistical Data Confidentiality (Geneva, 9-11 November 2005)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P30: Safety rules in statistical disclosure control for tabular dat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3284640"/>
            <a:ext cx="7631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ovanni Merol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nton Capital Management Lt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.merola@wintoncapital.co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Partially written while at ISTAT and partially supported by EU project CASC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896-EE9E-4426-B086-515E4E7EAE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4. Rational Estimat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407664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a well known property MSE is minimised by the mea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35280" y="5300640"/>
          <a:ext cx="158436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300640"/>
                    <a:ext cx="1584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4360" y="1773360"/>
            <a:ext cx="7772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can be estimated by minimising the Mean Square Error for some distribution F(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3440" y="2925720"/>
          <a:ext cx="36194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2925720"/>
                    <a:ext cx="3619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92E-A192-4739-AC13-706A10AB66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ior Distribution: Unifor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gnorance about the distribution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an be modelled with a Uniform distribution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348000" y="4437000"/>
          <a:ext cx="1816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437000"/>
                    <a:ext cx="1816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360" y="378936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is case the mean is simply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58972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e: same estimate for any symmetric F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3213000"/>
            <a:ext cx="36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~U(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B36-F3A2-4B1C-B565-AC849ECED9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ior Distribution: maximis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refer to the Gen p-rule as M-rule, and to the that derived using the Uniform as U-ru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59280" y="2781360"/>
          <a:ext cx="3111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781360"/>
                    <a:ext cx="3111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4360" y="407664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760" y="1119240"/>
            <a:ext cx="722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eneralised p-rule can be derived by assuming a prior concentrated on the maximum val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4E2-96CC-4313-9059-9BAA89C441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. U-estima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but not 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and n,     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and L contributions,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, L contributions and n,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ither as above 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for m=L=1 uniform p-rule is same as uniform domina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067280" y="2060640"/>
          <a:ext cx="13460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346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695760" y="2514600"/>
          <a:ext cx="27306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514600"/>
                    <a:ext cx="27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60520" y="3505320"/>
          <a:ext cx="394956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0520" y="3505320"/>
                    <a:ext cx="3949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700360" y="4869000"/>
          <a:ext cx="52196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4869000"/>
                    <a:ext cx="5219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586920" y="206064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(Dominance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40560" y="3449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(Gen. p-rule*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146240"/>
            <a:ext cx="60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fferent prior knowledge of the intru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62520" y="6093000"/>
            <a:ext cx="585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Merola, G., 2003b. Safety rules in statistical disclosure control for tabular data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Contributi Istat 1, istituto Nazionale di Statistica, Roma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0B8-64CA-4459-81EF-98D615938A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6. U-estimate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=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97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376,274,253,203,169,161,121,86,62,21,10),  T=27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14600" y="2852640"/>
          <a:ext cx="5297400" cy="3602160"/>
        </p:xfrm>
        <a:graphic>
          <a:graphicData uri="http://schemas.openxmlformats.org/drawingml/2006/table">
            <a:tbl>
              <a:tblPr/>
              <a:tblGrid>
                <a:gridCol w="1765440"/>
                <a:gridCol w="1444320"/>
                <a:gridCol w="20876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u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imated z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lEr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m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06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8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T=0.5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-ru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3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-Dom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5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 (1:n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65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(1;1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5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79640" y="1341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374-2A08-4AFB-A883-F89966F7A0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e applied different rules to Italian SBS data, turnover by Region and SIC for the years ’94 and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7. We considered the SIC with 2 and 3 digi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EA0-8B17-4EF3-9BC9-C8B9894AA5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00280" y="1989000"/>
            <a:ext cx="7543800" cy="434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82080" y="1146240"/>
            <a:ext cx="377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ean relative error for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354B-6A2D-4E93-BAE9-64DAAC7BB59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43800" cy="4278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97360" y="126828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ean relative error for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173-A6BA-45A0-80A5-CA78FB53C0C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8. U-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The values for                              are </a:t>
            </a:r>
            <a:r>
              <a:rPr b="0" lang="it-IT" sz="3200" spc="-1" strike="noStrike">
                <a:solidFill>
                  <a:srgbClr val="ff6b87"/>
                </a:solidFill>
                <a:latin typeface="Times New Roman"/>
              </a:rPr>
              <a:t>interval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ing only T   (Dominanc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ing T and L contributions (gen p-ru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19640" y="1989000"/>
          <a:ext cx="2222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2222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671920" y="3052800"/>
          <a:ext cx="31892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1920" y="3052800"/>
                    <a:ext cx="3189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90680" y="4957920"/>
          <a:ext cx="5048280" cy="90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0680" y="4957920"/>
                    <a:ext cx="50482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122-E324-4584-B7F2-B2219B08AB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9. MU-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772400" cy="2955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5564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ssuming both estimating approaches we obtain subadditive rules, analogous to p-rule but with stricter bounds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072-7A26-40CC-B84B-87772277B38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 of the Tal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C for Magnitude tab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isting safety ru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neralised p-rule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tional estimat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or distribution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-estimat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arison on real SBS data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-rules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luding remark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1DE-193A-4784-9C90-1A5D802D70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9. MU-rule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afety rule when only T known (Dominanc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afety rule when T and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L contributions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known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(gen p-ru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24360" y="2781360"/>
          <a:ext cx="17794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781360"/>
                    <a:ext cx="1779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492360" y="5157720"/>
          <a:ext cx="362916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157720"/>
                    <a:ext cx="36291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26E-E1D3-42D2-B29E-C8ED440270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. 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assumptions for the existing rules are unrealistic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usi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g a simple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noninformativ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distribution  much smaller relative error of estimation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rresponding rules are not subadditive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joining assumptions leads to stricter rules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iability of all largest respondents requires these ru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fferent prior can be use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5D8-7D79-49FB-833A-153328C842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SDC for Magnitude Tab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32000" y="4581360"/>
          <a:ext cx="4681440" cy="647640"/>
        </p:xfrm>
        <a:graphic>
          <a:graphicData uri="http://schemas.openxmlformats.org/drawingml/2006/table">
            <a:tbl>
              <a:tblPr/>
              <a:tblGrid>
                <a:gridCol w="609480"/>
                <a:gridCol w="687600"/>
                <a:gridCol w="718920"/>
                <a:gridCol w="720720"/>
                <a:gridCol w="648000"/>
                <a:gridCol w="576000"/>
                <a:gridCol w="7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300720" y="5516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otal T is published  n is number contrib.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2600" y="400536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ibutions in non-increasing or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87280" y="1916280"/>
          <a:ext cx="5784840" cy="1906560"/>
        </p:xfrm>
        <a:graphic>
          <a:graphicData uri="http://schemas.openxmlformats.org/drawingml/2006/table">
            <a:tbl>
              <a:tblPr/>
              <a:tblGrid>
                <a:gridCol w="1446120"/>
                <a:gridCol w="1446480"/>
                <a:gridCol w="1446120"/>
                <a:gridCol w="144612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come £K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ung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l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l Ag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l Sex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332000" y="5516640"/>
          <a:ext cx="4681440" cy="647640"/>
        </p:xfrm>
        <a:graphic>
          <a:graphicData uri="http://schemas.openxmlformats.org/drawingml/2006/table">
            <a:tbl>
              <a:tblPr/>
              <a:tblGrid>
                <a:gridCol w="609840"/>
                <a:gridCol w="687240"/>
                <a:gridCol w="719280"/>
                <a:gridCol w="720720"/>
                <a:gridCol w="647640"/>
                <a:gridCol w="576000"/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227640" y="458136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tal 600 (Old Mal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292720" y="2708280"/>
            <a:ext cx="1295280" cy="20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253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bles showing the sums of non-negative contribution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each cell. Exampl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32C-02D0-4007-AD0E-A4E324EB12B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1. SDC for Magnitude Tables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700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C policy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he categories are confidential, (likely) identification of respondents is disclosure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se only the contributions of (likely) identifiable respondents cannot be disclosed (too precisely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e rule for all cells, else microdata protec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D9C-CC4C-4635-9A8D-58395C97F1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. Existing Safety 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are respondents are identifi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reshold rule: n &gt; 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spondents with large contrib. are identifi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ominance: (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···+z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gest contributor is identifiable, hence second largest must not estimate z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losel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-rule: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[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-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gt; 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D16-6600-4E1E-8AFE-DAE5C5C3D3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3. Generalised p-r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400500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with largest sum identifiable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with second largest sum must not estimate largest sum too closely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32000" y="2492280"/>
          <a:ext cx="4267080" cy="6476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012000" y="256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is 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2840" y="170028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the existence of groups of respond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1200" y="3429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92360" y="3141720"/>
            <a:ext cx="1655280" cy="358560"/>
            <a:chOff x="1692360" y="3141720"/>
            <a:chExt cx="1655280" cy="358560"/>
          </a:xfrm>
        </p:grpSpPr>
        <p:sp>
          <p:nvSpPr>
            <p:cNvPr id="113" name=""/>
            <p:cNvSpPr/>
            <p:nvPr/>
          </p:nvSpPr>
          <p:spPr>
            <a:xfrm flipH="1">
              <a:off x="2050920" y="3141720"/>
              <a:ext cx="1447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2360" y="3141720"/>
              <a:ext cx="1429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203280" y="3141720"/>
              <a:ext cx="14436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4720" y="3141720"/>
              <a:ext cx="1429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939400" y="3378240"/>
            <a:ext cx="67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,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50A-D579-4E30-B8A6-948BAAFFE9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3. Generalised p-rul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0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en. p-rule ((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-R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m,l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-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&gt; 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1700280"/>
            <a:ext cx="56563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me estimate as p-rule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aximum possible val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^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=T-R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,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71640" y="5013360"/>
            <a:ext cx="4535280" cy="582840"/>
            <a:chOff x="2771640" y="5013360"/>
            <a:chExt cx="4535280" cy="582840"/>
          </a:xfrm>
        </p:grpSpPr>
        <p:sp>
          <p:nvSpPr>
            <p:cNvPr id="122" name=""/>
            <p:cNvSpPr/>
            <p:nvPr/>
          </p:nvSpPr>
          <p:spPr>
            <a:xfrm>
              <a:off x="2771640" y="5013360"/>
              <a:ext cx="4535280" cy="576000"/>
            </a:xfrm>
            <a:prstGeom prst="ellipse">
              <a:avLst/>
            </a:prstGeom>
            <a:noFill/>
            <a:ln w="9360">
              <a:solidFill>
                <a:srgbClr val="ff6b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7640" y="5086080"/>
              <a:ext cx="378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=z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 and R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,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=z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 p-rul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1F3-ACC1-4606-B697-36D80C9391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3. Generalised p-rul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zero contributions are known (external intruder):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Dominance ru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ith k=1/(1+p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no groups: simpl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-ru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intruding group formed of (m-1) respondents: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reshold rule n&gt;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rotects against exact estimation (p=0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5880" y="6093000"/>
            <a:ext cx="513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</a:rPr>
              <a:t>Merola, G. M., 2003a. Generalized risk measures for tabular data. Proceedings o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</a:rPr>
              <a:t>the 54th Session of the International Statistical Institute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197-19D8-42B6-BF26-8177196944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4. Rational Estimat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 intruder can compute a lower and an upper bound for the value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3141720"/>
          <a:ext cx="17780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141720"/>
                    <a:ext cx="17780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26920" y="3933720"/>
            <a:ext cx="727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xample, i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40 and T=100: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0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=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-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0;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bounds are different for different prior knowledge of the intruder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B37-F024-46CC-BC33-848688A9A0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9:55:29Z</dcterms:created>
  <dc:creator>giovanni</dc:creator>
  <dc:description/>
  <dc:language>en-US</dc:language>
  <cp:lastModifiedBy>g.merola</cp:lastModifiedBy>
  <dcterms:modified xsi:type="dcterms:W3CDTF">2005-10-31T11:21:19Z</dcterms:modified>
  <cp:revision>55</cp:revision>
  <dc:subject/>
  <dc:title>Subadditivity of disclosure rules</dc:title>
</cp:coreProperties>
</file>