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7DC-A248-4F32-AB7F-697BBC7D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12C-DC25-4487-A6BA-12C84B53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169-638B-4C97-945F-42225032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232-DC94-4F11-9931-C1F4E266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30D6-53FC-4045-9020-F5244F8F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5879-AF2B-4842-9223-CB2CA87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D344-7908-4607-9042-214316A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77BF-B3E1-4C00-870C-D4E687A7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5229-40C5-4276-8694-E93D74FF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8A5-73B7-4306-BBB7-A625FE4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3285-72DB-43F1-94F6-B1B3F87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10E-4345-4C82-835D-AD09D21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21CB-634A-4571-9FBE-C3E78E9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C0F-9ADF-4346-A745-90085665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DD66-AF33-4FD0-90B7-668E379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CBE-C9FE-458D-8158-0BDBA3E4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1C3-FB2F-4FF7-B820-2F7CC68F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9E7-268F-4866-8647-C6AD615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57E-E15F-4DBE-9314-1753E3B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347-3BB7-4199-8663-F5AE533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E38-4FB1-467B-87FB-C2BDA08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04C-A239-4DAC-9376-E3961C1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9DF-6E82-475B-880A-1CDBA9B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9F4-EA28-42EE-A819-0D28DC2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2E9-B46F-410D-A82B-5D2FA9B056A5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6C48-66B9-4DA5-8161-73CABA0F1720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/ECE Work Session On Statistical Data Confidentiality (Geneva, 9-11 November 2005)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P30: Safety rules in statistical disclosure control for tabular dat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3284640"/>
            <a:ext cx="7631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ovanni Merol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nton Capital Management Lt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.merola@wintoncapital.co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Partially written while at ISTAT and partially supported by EU project CASC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C6B-86FC-481C-B5B8-E87C9A2964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4. Rational Estimat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407664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a well known property MSE is minimised by the mea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35280" y="5300640"/>
          <a:ext cx="158436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300640"/>
                    <a:ext cx="1584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4360" y="1773360"/>
            <a:ext cx="7772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can be estimated by minimising the Mean Square Error for some distribution F(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3440" y="2925720"/>
          <a:ext cx="36194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2925720"/>
                    <a:ext cx="3619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B5E-4A97-4462-9C70-EE52ED247A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ior Distribution: Unifor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gnorance about the distribution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an be modelled with a Uniform distribution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348000" y="4437000"/>
          <a:ext cx="1816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437000"/>
                    <a:ext cx="1816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360" y="378936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is case the mean is simply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58972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e: same estimate for any symmetric F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3213000"/>
            <a:ext cx="36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~U(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A77-8DEC-4FFD-A355-AA0CC13B8B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ior Distribution: maximis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refer to the Gen p-rule as M-rule, and to the that derived using the Uniform as U-ru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59280" y="2781360"/>
          <a:ext cx="3111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781360"/>
                    <a:ext cx="3111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4360" y="407664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760" y="1119240"/>
            <a:ext cx="722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eneralised p-rule can be derived by assuming a prior concentrated on the maximum val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0C0-FD4C-41E8-B846-F5611D59A0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. U-estima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but not 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and n,     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 and L contributions,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s T, L contributions and n,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ither as above 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for m=L=1 uniform p-rule is same as uniform domina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067280" y="2060640"/>
          <a:ext cx="13460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346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695760" y="2514600"/>
          <a:ext cx="27306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514600"/>
                    <a:ext cx="27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60520" y="3505320"/>
          <a:ext cx="394956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0520" y="3505320"/>
                    <a:ext cx="3949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700360" y="4869000"/>
          <a:ext cx="52196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4869000"/>
                    <a:ext cx="5219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586920" y="206064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(Dominance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40560" y="3449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(Gen. p-rule*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146240"/>
            <a:ext cx="60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fferent prior knowledge of the intru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62520" y="6093000"/>
            <a:ext cx="585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Merola, G., 2003b. Safety rules in statistical disclosure control for tabular data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Contributi Istat 1, istituto Nazionale di Statistica, Roma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EA6-46CA-47CB-9C7E-ADB4A6ABE4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6. U-estimate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=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97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376,274,253,203,169,161,121,86,62,21,10),  T=27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14600" y="2852640"/>
          <a:ext cx="5297400" cy="3602160"/>
        </p:xfrm>
        <a:graphic>
          <a:graphicData uri="http://schemas.openxmlformats.org/drawingml/2006/table">
            <a:tbl>
              <a:tblPr/>
              <a:tblGrid>
                <a:gridCol w="1765440"/>
                <a:gridCol w="1444320"/>
                <a:gridCol w="20876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u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imated z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lEr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m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06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8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T=0.5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-rul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3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-Dom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5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 (1:n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65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(1;1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5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79640" y="1341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AB7-16B8-4BA6-ACDD-CFC68B500B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e applied different rules to Italian SBS data, turnover by Region and SIC for the years ’94 and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7. We considered the SIC with 2 and 3 digi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423-0F74-425E-994E-3FBAA35290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00280" y="1989000"/>
            <a:ext cx="7543800" cy="434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82080" y="1146240"/>
            <a:ext cx="377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ean relative error for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6395-4F0C-4F03-9951-1323B321FB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7. Comparison on real SBS data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43800" cy="4278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97360" y="126828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ean relative error for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F64-FBA7-4EB4-9BA6-FC6C772BCE4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8. U-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The values for                              are </a:t>
            </a:r>
            <a:r>
              <a:rPr b="0" lang="it-IT" sz="3200" spc="-1" strike="noStrike">
                <a:solidFill>
                  <a:srgbClr val="ff6b87"/>
                </a:solidFill>
                <a:latin typeface="Times New Roman"/>
              </a:rPr>
              <a:t>intervals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ing only T   (Dominanc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nowing T and L contributions (gen p-ru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19640" y="1989000"/>
          <a:ext cx="2222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2222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671920" y="3052800"/>
          <a:ext cx="318924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1920" y="3052800"/>
                    <a:ext cx="3189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90680" y="4957920"/>
          <a:ext cx="5048280" cy="90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0680" y="4957920"/>
                    <a:ext cx="50482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600-D808-4AF7-8D1E-2C5BB2B93B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9. MU-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772400" cy="2955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5564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ssuming both estimating approaches we obtain subadditive rules, analogous to p-rule but with stricter bounds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993-83B9-400D-A0E1-40DCEE6E632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 of the Tal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C for Magnitude tab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isting safety ru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neralised p-rule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tional estimat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or distribution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-estimat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arison on real SBS data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-rules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luding remark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901-409F-4BDF-BB23-D94F3E8FE3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9. MU-rule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afety rule when only T known (Dominanc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afety rule when T and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L contributions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known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(gen p-ru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24360" y="2781360"/>
          <a:ext cx="17794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781360"/>
                    <a:ext cx="1779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492360" y="5157720"/>
          <a:ext cx="362916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157720"/>
                    <a:ext cx="36291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8D4-020E-4692-8F33-8BC87ED76D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. 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assumptions for the existing rules are unrealistic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usi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g a simple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noninformativ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distribution  much smaller relative error of estimation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rresponding rules are not subadditive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joining assumptions leads to stricter rules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iability of all largest respondents requires these rules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fferent prior can be use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0B4-5F6D-418A-905D-7975117D28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SDC for Magnitude Tab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32000" y="4581360"/>
          <a:ext cx="4681440" cy="647640"/>
        </p:xfrm>
        <a:graphic>
          <a:graphicData uri="http://schemas.openxmlformats.org/drawingml/2006/table">
            <a:tbl>
              <a:tblPr/>
              <a:tblGrid>
                <a:gridCol w="609480"/>
                <a:gridCol w="687600"/>
                <a:gridCol w="718920"/>
                <a:gridCol w="720720"/>
                <a:gridCol w="648000"/>
                <a:gridCol w="576000"/>
                <a:gridCol w="7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300720" y="5516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otal T is published  n is number contrib.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2600" y="400536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ibutions in non-increasing or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87280" y="1916280"/>
          <a:ext cx="5784840" cy="1906560"/>
        </p:xfrm>
        <a:graphic>
          <a:graphicData uri="http://schemas.openxmlformats.org/drawingml/2006/table">
            <a:tbl>
              <a:tblPr/>
              <a:tblGrid>
                <a:gridCol w="1446120"/>
                <a:gridCol w="1446480"/>
                <a:gridCol w="1446120"/>
                <a:gridCol w="144612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come £K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ung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l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l Ag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l Sex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5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332000" y="5516640"/>
          <a:ext cx="4681440" cy="647640"/>
        </p:xfrm>
        <a:graphic>
          <a:graphicData uri="http://schemas.openxmlformats.org/drawingml/2006/table">
            <a:tbl>
              <a:tblPr/>
              <a:tblGrid>
                <a:gridCol w="609840"/>
                <a:gridCol w="687240"/>
                <a:gridCol w="719280"/>
                <a:gridCol w="720720"/>
                <a:gridCol w="647640"/>
                <a:gridCol w="576000"/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227640" y="458136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tal 600 (Old Mal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292720" y="2708280"/>
            <a:ext cx="1295280" cy="20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253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bles showing the sums of non-negative contribution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each cell. Exampl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033-9A32-4D97-8B68-8BDB64B9EDF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1. SDC for Magnitude Tables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700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C policy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he categories are confidential, (likely) identification of respondents is disclosure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se only the contributions of (likely) identifiable respondents cannot be disclosed (too precisely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e rule for all cells, else microdata protec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59F-36C9-4D20-965E-E86903538B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. Existing Safety 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are respondents are identifi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reshold rule: n &gt; 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spondents with large contrib. are identifi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ominance: (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···+z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gest contributor is identifiable, hence second largest must not estimate z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losel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-rule: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[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-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gt; 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933-2BA7-4AAD-8086-AA8BE56A6A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3. Generalised p-r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400500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with largest sum identifiable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with second largest sum must not estimate largest sum too closely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32000" y="2492280"/>
          <a:ext cx="4267080" cy="6476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GB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012000" y="256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is 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2840" y="170028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the existence of groups of respond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1200" y="3429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92360" y="3141720"/>
            <a:ext cx="1655280" cy="358560"/>
            <a:chOff x="1692360" y="3141720"/>
            <a:chExt cx="1655280" cy="358560"/>
          </a:xfrm>
        </p:grpSpPr>
        <p:sp>
          <p:nvSpPr>
            <p:cNvPr id="113" name=""/>
            <p:cNvSpPr/>
            <p:nvPr/>
          </p:nvSpPr>
          <p:spPr>
            <a:xfrm flipH="1">
              <a:off x="2050920" y="3141720"/>
              <a:ext cx="1447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2360" y="3141720"/>
              <a:ext cx="1429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203280" y="3141720"/>
              <a:ext cx="14436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4720" y="3141720"/>
              <a:ext cx="142920" cy="358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939400" y="3378240"/>
            <a:ext cx="67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,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124-A180-4C0D-AEB7-D21E8AFA85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3. Generalised p-rul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0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en. p-rule ((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-R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m,l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-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&gt; 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1700280"/>
            <a:ext cx="56563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me estimate as p-rule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aximum possible val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^</a:t>
            </a:r>
            <a:r>
              <a:rPr b="0" i="1" lang="en-GB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=T-R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Times New Roman"/>
              </a:rPr>
              <a:t>m,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71640" y="5013360"/>
            <a:ext cx="4535280" cy="582840"/>
            <a:chOff x="2771640" y="5013360"/>
            <a:chExt cx="4535280" cy="582840"/>
          </a:xfrm>
        </p:grpSpPr>
        <p:sp>
          <p:nvSpPr>
            <p:cNvPr id="122" name=""/>
            <p:cNvSpPr/>
            <p:nvPr/>
          </p:nvSpPr>
          <p:spPr>
            <a:xfrm>
              <a:off x="2771640" y="5013360"/>
              <a:ext cx="4535280" cy="576000"/>
            </a:xfrm>
            <a:prstGeom prst="ellipse">
              <a:avLst/>
            </a:prstGeom>
            <a:noFill/>
            <a:ln w="9360">
              <a:solidFill>
                <a:srgbClr val="ff6b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7640" y="5086080"/>
              <a:ext cx="378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=z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 and R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1,1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=z</a:t>
              </a:r>
              <a:r>
                <a:rPr b="0" lang="en-US" sz="2400" spc="-1" strike="noStrike" baseline="-25000">
                  <a:solidFill>
                    <a:srgbClr val="ff6b87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6b87"/>
                  </a:solidFill>
                  <a:latin typeface="Times New Roman"/>
                </a:rPr>
                <a:t> p-rul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BE5-FCB2-4F74-9363-68663A54F9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3. Generalised p-rul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.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zero contributions are known (external intruder):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Dominance ru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ith k=1/(1+p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no groups: simpl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-ru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intruding group formed of (m-1) respondents: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reshold rule n&gt;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rotects against exact estimation (p=0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5880" y="6093000"/>
            <a:ext cx="513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</a:rPr>
              <a:t>Merola, G. M., 2003a. Generalized risk measures for tabular data. Proceedings o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</a:rPr>
              <a:t>the 54th Session of the International Statistical Institute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987-1EC9-43C1-9661-1C7EB1C1CA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4. Rational Estimat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 intruder can compute a lower and an upper bound for the value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3141720"/>
          <a:ext cx="17780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141720"/>
                    <a:ext cx="17780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26920" y="3933720"/>
            <a:ext cx="727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xample, i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40 and T=100: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0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=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-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0;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bounds are different for different prior knowledge of the intruder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C89-653A-4E3C-914E-D05C6D06BF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. Merola Winton Capital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9:55:29Z</dcterms:created>
  <dc:creator>giovanni</dc:creator>
  <dc:description/>
  <dc:language>en-US</dc:language>
  <cp:lastModifiedBy>g.merola</cp:lastModifiedBy>
  <dcterms:modified xsi:type="dcterms:W3CDTF">2005-10-31T11:21:19Z</dcterms:modified>
  <cp:revision>55</cp:revision>
  <dc:subject/>
  <dc:title>Subadditivity of disclosure rules</dc:title>
</cp:coreProperties>
</file>