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155-13FD-456E-AEBD-250AE1B4D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9416-87E2-45B0-A299-986C53AA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9960" y="77004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7000" y="4695480"/>
            <a:ext cx="49500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EEAD-0817-44D8-8BF2-20F6B832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60480" y="76824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0880" y="4683240"/>
            <a:ext cx="4992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5649b"/>
                </a:solidFill>
                <a:latin typeface="Arial"/>
              </a:rPr>
              <a:t>RSA SecurID® two-factor authentication is based on something you know (a password or PIN) and something you have (an authenticator)—providing a much more reliable level of user authentication than reusable pass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5564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5649b"/>
                </a:solidFill>
                <a:latin typeface="Arial"/>
              </a:rPr>
              <a:t>Available in hardware and software toke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99B-0DC2-482B-A2C1-1123ED78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F2C-9959-45D6-B259-B6DFCA9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ED3-568D-4F07-AD3B-6E442D91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4DF-EDE5-43F6-91EB-CD192258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9FF-300A-45A2-956F-4AA7E006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48E-1395-4978-920E-F43FC716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152-291E-46A1-BA6C-396286BB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892-D39F-4DE4-9D8E-C52DEBDA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036-1F0A-4FE3-804C-DC6C0A4D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52F-5E8E-442F-9947-A1DFF466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700-4A92-4011-9D7B-2F42E19A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5F0-1FD8-47BB-9BA7-189D825A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F8A4-8BCD-406C-A879-D7C1A78AE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809468&amp;memlevel=A&amp;a=c&amp;q=history&amp;s=1&amp;e=30&amp;show=all&amp;c=&amp;cid=&amp;findincat=&amp;g=&amp;cc=&amp;page=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www.konstruktions-bakelit.com/bild/siffror.jpg&amp;imgrefurl=http://www.konstruktions-bakelit.com/ekonomi.html&amp;h=149&amp;w=147&amp;prev=/images%3Fq%3Dsiffror%26svnum%3D10%26hl%3Dsv%26lr%3D%26ie%3DUTF-8%26oe%3DUTF-8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333399"/>
                </a:solidFill>
                <a:latin typeface="Arial"/>
              </a:rPr>
              <a:t>Presentation Genéva november 2005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Claus-Göran Hje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Statistics Sw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ccess to microdata – System components and applic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ows 2003 Standard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soft Termin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soft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S, SPSS, STATA, GA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soft Query Analyzer (SQL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Cross for tab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l and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l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99"/>
                </a:solidFill>
                <a:latin typeface="Arial"/>
              </a:rPr>
              <a:t>Microdata domai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41320" y="1484280"/>
          <a:ext cx="537228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1484280"/>
                    <a:ext cx="537228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418560" y="24922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Reverse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99"/>
                </a:solidFill>
                <a:latin typeface="Arial"/>
              </a:rPr>
              <a:t>Database  structure of a resarch datalayer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12720" y="1628640"/>
          <a:ext cx="6637680" cy="39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628640"/>
                    <a:ext cx="663768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99"/>
                </a:solidFill>
                <a:latin typeface="Arial"/>
              </a:rPr>
              <a:t>Microdata access - Roles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76720" y="5516640"/>
            <a:ext cx="1228680" cy="110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093080" y="1413000"/>
            <a:ext cx="1095120" cy="723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32000" y="3357720"/>
            <a:ext cx="143964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ubject Matter D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2924280"/>
            <a:ext cx="15829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Microdata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4581360"/>
            <a:ext cx="2520720" cy="863640"/>
          </a:xfrm>
          <a:prstGeom prst="ellipse">
            <a:avLst/>
          </a:prstGeom>
          <a:solidFill>
            <a:srgbClr val="e2e6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Data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1484280"/>
            <a:ext cx="331308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0920" y="2158920"/>
            <a:ext cx="7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2276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146400">
            <a:off x="1909440" y="2476440"/>
            <a:ext cx="93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Subject matter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3258000">
            <a:off x="5089320" y="25495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7512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2800" y="402732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ystems management, Help De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771640" y="3357720"/>
            <a:ext cx="244800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43600">
            <a:off x="3268800" y="306828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Users,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333399"/>
                </a:solidFill>
                <a:latin typeface="Arial"/>
              </a:rPr>
              <a:t>User statist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tarted vinter 2005 at 0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uring autumn 2005 the number of users are expected to increase to approx. 120-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006 – man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479736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000" spc="-1" strike="noStrike">
                <a:solidFill>
                  <a:srgbClr val="333399"/>
                </a:solidFill>
                <a:latin typeface="Arial"/>
              </a:rPr>
              <a:t>Bulletin Board for information and exchange of inform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42920" y="1600200"/>
            <a:ext cx="7643880" cy="4525920"/>
            <a:chOff x="1042920" y="1600200"/>
            <a:chExt cx="7643880" cy="45259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042920" y="1600200"/>
              <a:ext cx="76438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042920" y="1600200"/>
              <a:ext cx="76438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84360" y="5516640"/>
            <a:ext cx="3810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333399"/>
                </a:solidFill>
                <a:uFillTx/>
                <a:latin typeface="Arial"/>
              </a:rPr>
              <a:t>claus-goran.hjelm@scb.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916360" y="1989000"/>
            <a:ext cx="29415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99"/>
                </a:solidFill>
                <a:latin typeface="Arial Black"/>
              </a:rPr>
              <a:t>Confidentiality in Sweden – main ru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8640" y="1790280"/>
            <a:ext cx="587556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ed for statistical purposes are confidenti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may be granted in forms which do not allow direct or indirect identification of persons or of other data subjects like ente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99"/>
                </a:solidFill>
                <a:latin typeface="Arial Black"/>
              </a:rPr>
              <a:t>Confidentiality - exep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8640" y="1790280"/>
            <a:ext cx="587556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fidential data may be released to a third party for the purpose of statistical surveys and research.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99"/>
                </a:solidFill>
                <a:latin typeface="Arial Black"/>
              </a:rPr>
              <a:t>Confidential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88640" y="1790280"/>
            <a:ext cx="587556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bligation of confidentiality will also – according to Swedish law or by imposition of a duty of non-disclosure – apply to the recipient of the data.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6282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99"/>
                </a:solidFill>
                <a:latin typeface="Arial Black"/>
              </a:rPr>
              <a:t>Legal contrac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88640" y="1790280"/>
            <a:ext cx="587556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imitations to the access by specifying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Background to MON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268280"/>
            <a:ext cx="634536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stics Sweden has distributed microdata to research institutions in Sweden for many years by CD-ROM and other me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day there are new needs to distribute microdat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– primary larger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ontrol over distribu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1803240"/>
            <a:ext cx="1325520" cy="146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651640" y="5877000"/>
            <a:ext cx="1272960" cy="839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39000" y="3598920"/>
            <a:ext cx="10065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333399"/>
                </a:solidFill>
                <a:latin typeface="Arial"/>
              </a:rPr>
              <a:t>Main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ays at Statistics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friendl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ime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don’t need their own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researchers data with Statistics Swede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333399"/>
                </a:solidFill>
                <a:latin typeface="Arial"/>
              </a:rPr>
              <a:t>MONA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Serverbas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- Microsoft Terminal Services / Windows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- User have their own deskt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- Only screen updates are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- No cut and paste between s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- Email for result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- SSL tunnel - HTTPS://mikrodata.scb.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- RSA Secure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- Domain logon and reauthentication with security 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- SAS, SPSS, Microsoft Office, </a:t>
            </a:r>
            <a:r>
              <a:rPr b="1" lang="sv-SE" sz="1600" spc="-1" strike="noStrike">
                <a:solidFill>
                  <a:srgbClr val="333399"/>
                </a:solidFill>
                <a:latin typeface="Arial"/>
              </a:rPr>
              <a:t>SQL Query Analyzer, 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Super Cross, </a:t>
            </a:r>
            <a:r>
              <a:rPr b="1" lang="sv-SE" sz="1600" spc="-1" strike="noStrike">
                <a:solidFill>
                  <a:srgbClr val="333399"/>
                </a:solidFill>
                <a:latin typeface="Arial"/>
              </a:rPr>
              <a:t>STATA och GAUSS.</a:t>
            </a: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508720" y="1484280"/>
          <a:ext cx="32432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484280"/>
                    <a:ext cx="32432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Dissemination - Access to microdat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74520" y="1917720"/>
            <a:ext cx="66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for on-line access to microdata in first phase of operation/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s, analy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ays at Statistics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can be sent via 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factor authentication (password and hardware authenticator/tok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L/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SA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Directory / Domain 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QL-server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9:35:02Z</dcterms:created>
  <dc:creator>Lars-Johan Söderberg</dc:creator>
  <dc:description/>
  <dc:language>en-US</dc:language>
  <cp:lastModifiedBy>scbhjec</cp:lastModifiedBy>
  <dcterms:modified xsi:type="dcterms:W3CDTF">2005-11-07T15:33:34Z</dcterms:modified>
  <cp:revision>18</cp:revision>
  <dc:subject/>
  <dc:title>The four Basic Registers:</dc:title>
</cp:coreProperties>
</file>