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93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428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Access to business microdata in the UK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09800" y="4519080"/>
            <a:ext cx="640080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ix Ritchie, Office for National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 to confidential micro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“remote laboratory” service since Jan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 client service i.e. no data transfer at user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working across different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isation of data management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access to identifiabl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ly secure fence around the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researchers trained in disclosur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=&gt; 150 accredited resear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=&gt; 90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increase in internal research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range of external data brought into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for policy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rreducible ri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identifiable micro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reducible person r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strictions on type of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 disclosure control won’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ning of both researchers and manag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ning based on principle and example, not prescrip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possible from any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to allow access based on risk, not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datasets available to resear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ility of “unwanted” analysis of official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lix Ritch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cial and Economic Micro Analysis and Reporting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ffice for National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lix.ritchie@ons.gov.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2:49:44Z</dcterms:created>
  <dc:creator>Felix Ritchie</dc:creator>
  <dc:description/>
  <dc:language>en-US</dc:language>
  <cp:lastModifiedBy>Felix Ritchie</cp:lastModifiedBy>
  <dcterms:modified xsi:type="dcterms:W3CDTF">2005-10-06T16:54:14Z</dcterms:modified>
  <cp:revision>11</cp:revision>
  <dc:subject/>
  <dc:title>No Slide Title</dc:title>
</cp:coreProperties>
</file>