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41F7-DC03-4AA0-AB26-EBF6826D5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B6BC-BB12-4D9C-8045-44DFB4D9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3663-75ED-4D36-8629-60002C5C5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3E17-D6CB-4C11-9BB8-90318182A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0FF9-8429-400B-8D62-08E131A84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3366-3244-4396-A676-0E247125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835B-C9CF-4330-9F0E-55B21AE0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E71C-A28E-45D8-B3C6-D0732FE7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F612-C139-4545-8024-0F7A790C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373C-B4A5-4D43-A51F-9A057628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5D8D-49DF-4D9A-819E-70510E5F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5369-7F5A-4B88-B3F7-0BA132C4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170A-0234-48CD-B49D-F7117698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D46E-2449-454F-8BCE-52B1BD88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0B65-CAD0-4FC1-A919-99A3E8E2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FF32-F6E0-48A8-A665-5578F229D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3138-50C0-451F-981D-3C2C702CE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8981-B003-43E1-A52B-238FA34B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3824-5D7C-4E48-91D5-17E02538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6579-C151-492C-96EA-21D941BA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449D-54A4-40C9-B55E-4531A66D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8BC9-D681-4EB2-8167-A5242641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681C-CB49-4AB0-8F8D-FE1EE3BC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D9C0-5F5A-466A-8836-072E34B8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0000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311B-D69D-45EA-9239-835C08384EB6}" type="slidenum">
              <a:rPr b="0" lang="en-US" sz="1400" spc="-1" strike="noStrike">
                <a:solidFill>
                  <a:srgbClr val="ffcc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66cc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1D2C-970F-4A86-ACD3-D8DA532F7826}" type="slidenum">
              <a:rPr b="0" lang="en-US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19047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thods of Secure Computation and Data Integr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520" y="3505320"/>
            <a:ext cx="8534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Jerome Reiter, Duke University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lan Karr, NISS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Xiaodong Lin, University of Cincinnati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shish Sanil, Bristol Myers Squibb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ynthetic data approach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hnen (PhD thesis, 200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gency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uses partially synthetic data methods (Reiter,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Surv. Meth.,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003) for inferences based on Y|X.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gency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can release fully synthetic data to public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ynthetic data approaches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hnen (PhD thesis, 200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gency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imulates disguiser X that look like the genuine values of X, ideally from distribution close to f(X|Y). 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ass real X and disguisers to Agency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gency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B 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imulates multiple copies of Y for each f(Y|X) estimated using the datasets from Agency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. 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ass the copies to Agency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A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ynthetic data approaches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hnen (PhD thesis, 200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gency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discards disguisers and uses partially synthetic data methods (Reiter,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Surv. Meth.,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003) to obtain inferences using the real X.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gency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can release fully synthetic data to public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rtially overlapping, vertical partition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cure EM algorithm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-- uses secure dot products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-- continuous data: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 estimate covariance matrix for 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 multivariate normal data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-- categorical data: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 estimate parameters of log-linear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 mode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imitations of methods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ng a research agend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ecure computation methods: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- How to specify models without viewing data?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- What if sophisticated models needed?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- How to do posterior simulation?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ynthetic data methods: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- How to generate good disguisers?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ll methods: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- How to incorporate matching errors, differences in data quality and definitions?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- How to account for disclosure risks from models that “fit too well?” 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eneral set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ultiple agencies seek to improve analyses by “pooling” their data.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o not want to reveal individual data values unknown to other agencies.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ant accurate results from pooling procedures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oling situ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Horizontally Partitioned: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gencies have different records but same variables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Purely Vertically Partitioned: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gencies have same records but different variables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Partially Overlapping, Vertically Partitioned: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gencies have different records and different variables, with some common records and variables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rizontal partitioning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arr, Lin, Sanil, Reiter (JCGS, 200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cure data integration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-- shares data but protects sources.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-- allows any analysis to be done.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cure summation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-- shares sums without sharing data 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-- allows regressions, association rules,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 classifications, cluster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98440" y="6091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cure summ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Obtain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without sharing individual values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ffcc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gency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asses (x + R) to 2</a:t>
            </a:r>
            <a:r>
              <a:rPr b="0" lang="en-US" sz="2800" spc="-1" strike="noStrike" baseline="30000">
                <a:solidFill>
                  <a:srgbClr val="ffcc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 agency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ffcc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gency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B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dds its x to this value and passes sum to Agency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C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ffcc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rocess continues until all agencies have added their x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ffcc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gency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ubtracts R from the sum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362320" y="1874880"/>
                <a:ext cx="10666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urely vertical partitio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ecure dot/matrix product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-- shares dot/matrix products without sharing data.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-- allows regressions, association rules, classification,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  clustering.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-- assumes semi-honest.  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ynthetic data approaches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-- share synthetic copies of data across agencies.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-- allows any analysis when distributions used to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  generate data are accurate.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-- generates public use data file.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cure dot/matrix products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arr, Lin, Reiter, Sanil (NISS tech. repor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80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Compute            not revealing individual values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gency 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asses          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where                        for all i,j to Agency 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. 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gency 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ends   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o Agency 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gency 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computes 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90920" y="1844640"/>
                <a:ext cx="9903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343400" y="2847960"/>
                <a:ext cx="29718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819520" y="3487680"/>
                <a:ext cx="19047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038480" y="4267080"/>
                <a:ext cx="304812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ZZ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648320" y="5446800"/>
                <a:ext cx="25128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W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urely vertical partitio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ecure dot/matrix product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-- share dot/matrix products without sharing data.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-- allows regressions, association rules, classification,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  clustering.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-- assumes semi-honest.  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ynthetic data approaches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-- share synthetic copies of data across agencies.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-- allows any analysis when distributions used to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  generate data are accurate.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-- generates public use data file.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ynthetic data approach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hnen (PhD thesis, 200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ssume X not sensitive.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ass real X to Agency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gency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B 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imulates multiple copies of Y for from f(Y|X) estimated using the dataset from Agency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. 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ass the copies to Agency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A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7T01:05:46Z</dcterms:created>
  <dc:creator/>
  <dc:description/>
  <dc:language>en-US</dc:language>
  <cp:lastModifiedBy>jerry</cp:lastModifiedBy>
  <dcterms:modified xsi:type="dcterms:W3CDTF">2005-11-01T14:22:46Z</dcterms:modified>
  <cp:revision>408</cp:revision>
  <dc:subject/>
  <dc:title>PSTAT 5A: Statistics</dc:title>
</cp:coreProperties>
</file>