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C1F-C864-43D9-9381-82C32353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008-4CF9-47F4-A22F-5D557031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4D5-3F71-4887-91CD-22EAEA4B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B2F-CB26-407F-9092-9DDEE9C8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64C2-1B11-4A48-AE30-D0451620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ED96-85EC-4D8E-BA28-DF61C78F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DD82-8F5B-467D-A2E1-80AA4001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63D5-7987-467C-82EB-A14EBF39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6129-E9F2-41B3-B601-367B2A24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3F00-772B-4C30-8F41-7A7D9914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E0F5-D0BD-45E8-BE45-780B43E7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0A2-8D3C-4667-96D6-D1F25791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2068-E20E-4720-91BC-73379CE9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7D60-7E8F-4013-9F5E-90FAE7FE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34A1-9638-4F93-85C7-37508089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9DD7-4A7E-440A-9E52-9F911730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880D-766E-4178-92FF-C2767A83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E78-0397-4F88-9A79-122F95FC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E51F-EE74-4457-9F46-AA2EF97D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995-5424-4584-BA58-91C0DA4D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12D-B493-4BCB-8897-3B333D7F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5C8-E442-4C7B-95F6-D8BBA310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2DC-2958-4330-85BD-252DFE94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929-46DE-4234-8D67-05E61677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981E-61F8-4E93-AC09-6AF699770AD9}" type="slidenum">
              <a:rPr b="0" lang="en-US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D68F-E10B-4A9E-8A6B-742D8141AA93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904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thods of Secure Computation and Data Integ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520" y="35053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erome Reiter, Duke Univers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an Karr, NIS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Xiaodong Lin, University of Cincinnati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shish Sanil, Bristol Myers Squibb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nthetic data approach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nen (PhD thesis, 200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uses partially synthetic data methods (Reiter,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urv. Meth.,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003) for inferences based on Y|X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can release fully synthetic data to public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nthetic data approaches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nen (PhD thesis, 200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imulates disguiser X that look like the genuine values of X, ideally from distribution close to f(X|Y). 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ss real X and disguisers to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B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imulates multiple copies of Y for each f(Y|X) estimated using the datasets from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 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ss the copies to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nthetic data approaches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nen (PhD thesis, 200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discards disguisers and uses partially synthetic data methods (Reiter,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urv. Meth.,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003) to obtain inferences using the real X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can release fully synthetic data to public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ially overlapping, vertical partitio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ure EM algorithm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uses secure dot product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continuous data: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estimate covariance matrix for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multivariate normal data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categorical data: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estimate parameters of log-linea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mode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mitations of method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ng a research 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cure computation methods: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How to specify models without viewing data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What if sophisticated models needed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How to do posterior simulation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ynthetic data methods: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How to generate good disguisers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ll methods: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How to incorporate matching errors, differences in data quality and definitions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 How to account for disclosure risks from models that “fit too well?”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neral set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ultiple agencies seek to improve analyses by “pooling” their data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o not want to reveal individual data values unknown to other agencies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ant accurate results from pooling procedure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ling situ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Horizontally Partitioned: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ies have different records but same variable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Purely Vertically Partitioned: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ies have same records but different variable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Partially Overlapping, Vertically Partitioned: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ies have different records and different variables, with some common records and variables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rizontal partitioning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rr, Lin, Sanil, Reiter (JCGS, 200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ure data integration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shares data but protects sources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allows any analysis to be done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ure summation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shares sums without sharing data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-- allows regressions, association rules,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classifications, cluster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9844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ure summ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btain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ithout sharing individual values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sses (x + R) to 2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agency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dds its x to this value and passes sum to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cess continues until all agencies have added their x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btracts R from the sum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362320" y="1874880"/>
                <a:ext cx="1066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rely vertical partit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cure dot/matrix product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shares dot/matrix products without sharing data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allows regressions, association rules, classification,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clustering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assumes semi-honest. 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ynthetic data approach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share synthetic copies of data across agencies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allows any analysis when distributions used to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generate data are accurate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generates public use data file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ure dot/matrix products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rr, Lin, Reiter, Sanil (NISS tech. repor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ompute            not revealing individual values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asses       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here                        for all i,j to Agency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nds  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o Agency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omputes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90920" y="1844640"/>
                <a:ext cx="990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43400" y="2847960"/>
                <a:ext cx="29718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819520" y="3487680"/>
                <a:ext cx="19047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038480" y="4267080"/>
                <a:ext cx="30481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ZZ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48320" y="5446800"/>
                <a:ext cx="2512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rely vertical partit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cure dot/matrix product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share dot/matrix products without sharing data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allows regressions, association rules, classification,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clustering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assumes semi-honest. 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ynthetic data approach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share synthetic copies of data across agencies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allows any analysis when distributions used to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generate data are accurate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-- generates public use data file.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nthetic data approach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nen (PhD thesis, 200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ssume X not sensitive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ss real X to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B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imulates multiple copies of Y for from f(Y|X) estimated using the dataset from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ss the copies to Agency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A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1:05:46Z</dcterms:created>
  <dc:creator/>
  <dc:description/>
  <dc:language>en-US</dc:language>
  <cp:lastModifiedBy>jerry</cp:lastModifiedBy>
  <dcterms:modified xsi:type="dcterms:W3CDTF">2005-11-01T14:22:46Z</dcterms:modified>
  <cp:revision>408</cp:revision>
  <dc:subject/>
  <dc:title>PSTAT 5A: Statistics</dc:title>
</cp:coreProperties>
</file>