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MOTOR.WAV" ContentType="audio/x-wav"/>
  <Override PartName="/ppt/media/image6.png" ContentType="image/png"/>
  <Override PartName="/ppt/media/image11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A72E-416C-4687-9653-BD532C7D3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534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520" y="4020840"/>
            <a:ext cx="8534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E00C-5F93-4447-821D-B533C7E63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4164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54160" y="1752120"/>
            <a:ext cx="4164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4020840"/>
            <a:ext cx="4164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54160" y="4020840"/>
            <a:ext cx="4164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75B8-D3A9-47A5-9CC3-53B9F0EC2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66280" y="17521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51680" y="17521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520" y="40208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66280" y="40208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51680" y="40208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D7D0-97A4-4684-A4B1-4D33DA453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80520" y="17521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41648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54160" y="1752120"/>
            <a:ext cx="41648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09480" y="4572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4164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4160" y="1752120"/>
            <a:ext cx="41648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80520" y="4020840"/>
            <a:ext cx="4164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520" y="17521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9745-C887-409C-8505-33CA288B9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41648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4160" y="1752120"/>
            <a:ext cx="4164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54160" y="4020840"/>
            <a:ext cx="4164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4164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54160" y="1752120"/>
            <a:ext cx="4164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80520" y="4020840"/>
            <a:ext cx="8534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534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80520" y="4020840"/>
            <a:ext cx="8534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4164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4160" y="1752120"/>
            <a:ext cx="4164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4020840"/>
            <a:ext cx="4164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54160" y="4020840"/>
            <a:ext cx="4164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66280" y="17521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51680" y="17521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80520" y="40208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66280" y="40208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51680" y="40208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1F3C-882C-4C71-A770-78194EA7B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41648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54160" y="1752120"/>
            <a:ext cx="41648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9AA9-1450-4D22-93D6-7B67DE5FF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4B79-AA8B-400D-B3B7-97E0B4D46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480" y="4572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7B29-FD41-4DC2-8BAB-BE93C9C32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4164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54160" y="1752120"/>
            <a:ext cx="41648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520" y="4020840"/>
            <a:ext cx="4164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FCC9-AF03-4C9E-B57E-F4D3464A5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41648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54160" y="1752120"/>
            <a:ext cx="4164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54160" y="4020840"/>
            <a:ext cx="4164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BAA2-F0DC-43C2-8498-765A9966B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4164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4160" y="1752120"/>
            <a:ext cx="4164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4020840"/>
            <a:ext cx="8534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DFB8-EEB5-4A5B-BF4D-BF06415FA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520" y="17521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Gerd Ronn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38280" y="6381720"/>
            <a:ext cx="510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UNECE Work Session on Statistical Data Confidentiality, Geneva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9 – 11 November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596000" y="6400800"/>
            <a:ext cx="1090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1FA4E-951D-4406-9E08-8355FC285249}" type="slidenum">
              <a:rPr b="0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6400800"/>
            <a:ext cx="85345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2895840" cy="8636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6553080" y="228600"/>
            <a:ext cx="2298960" cy="9334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MOTOR.WAV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MOTOR.WAV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MOTOR.WAV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MOTOR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MOTOR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MOTOR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MOTOR.WAV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audio" Target="../media/MOTOR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audio" Target="../media/MOTOR.WAV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MOTOR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MOTOR.WAV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MOTOR.WAV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MOTOR.WAV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audio" Target="../media/MOTOR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MOTOR.WAV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MOTOR.WAV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MOTOR.WAV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MOTOR.WAV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MOTOR.WAV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MOTOR.WAV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MOTOR.WAV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MOTOR.WAV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MOTOR.WAV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99640" y="1267920"/>
            <a:ext cx="770436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3333cc"/>
                </a:solidFill>
                <a:latin typeface="Arial"/>
              </a:rPr>
              <a:t>Estimation of the Probit Model From Anonymized Micro Data</a:t>
            </a:r>
            <a:br>
              <a:rPr sz="3600"/>
            </a:br>
            <a:br>
              <a:rPr sz="3600"/>
            </a:br>
            <a:r>
              <a:rPr b="1" lang="en-GB" sz="3600" spc="-1" strike="noStrike">
                <a:solidFill>
                  <a:srgbClr val="3333cc"/>
                </a:solidFill>
                <a:latin typeface="Arial"/>
                <a:ea typeface="Times New Roman"/>
              </a:rPr>
              <a:t> </a:t>
            </a:r>
            <a:br>
              <a:rPr sz="3600"/>
            </a:b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447920" y="350532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Gerd Ronning and Martin Roseman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Universität Tübingen &amp; IAW Tüb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ECE Work Session on Statistical Data Confidentiality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eneva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9 – 11 November 20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990360"/>
            <a:ext cx="838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cc"/>
                </a:solidFill>
                <a:latin typeface="Arial"/>
              </a:rPr>
              <a:t>Examples of „corrected“ estimation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or example, in the </a:t>
            </a:r>
            <a:r>
              <a:rPr b="0" lang="en-GB" sz="2800" spc="-1" strike="noStrike">
                <a:solidFill>
                  <a:srgbClr val="ff6600"/>
                </a:solidFill>
                <a:latin typeface="Arial"/>
                <a:ea typeface="Times New Roman"/>
              </a:rPr>
              <a:t>linear regression model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microaggregation can easily be handled by specifying an adequate covariance structur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n case of  addition of noise we have ‘errors in variables’ which ask for instrumental variable estima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lternatively we may use the “SIMEX” approach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ost-randomization of a binary dependent variable leads to a generalization of the </a:t>
            </a:r>
            <a:r>
              <a:rPr b="0" lang="en-GB" sz="2800" spc="-1" strike="noStrike">
                <a:solidFill>
                  <a:srgbClr val="ff6600"/>
                </a:solidFill>
                <a:latin typeface="Arial"/>
                <a:ea typeface="Times New Roman"/>
              </a:rPr>
              <a:t>probit model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which allows consistent estima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42EE-096C-4CC2-8B22-25948B24945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Arial"/>
              </a:rPr>
              <a:t>Problems of „Corrected“ estimation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ffect of anonymization of a variable depends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...on the procedu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...and whether  we use the variable as regressor or as regressan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For example, if we post randomize a binary variable, it can be used as dependent variable in the probit model or as a „dummy variable“ in the linear regression mode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The first case will be discussed below in more detai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A2C2-BF0A-480D-B34F-E4CC1F0EA4D5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Arial"/>
              </a:rPr>
              <a:t>The probit model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8534520" cy="4343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10E9-6BEA-47AD-90DD-0F365D0381B9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Arial"/>
              </a:rPr>
              <a:t>(Symmetric) Post randomization of binary variable 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8534520" cy="4343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E12A-DD13-4141-86C7-88D64B4B22C2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Arial"/>
              </a:rPr>
              <a:t>ML Estimation of the probit model under PRAM (1)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0880" y="1066680"/>
            <a:ext cx="8534520" cy="487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766B-6452-497A-BD1A-1B37AC5CBE0C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Arial"/>
              </a:rPr>
              <a:t>ML Estimation of the probit model under PRAM (2)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Consistent Estimation of probit model under PRAM is possible if right hand regressors are left unprotect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s we will see, it is also possible to estimate consistently the probit model if only right hand variables are protected by addition of noi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However, no satisfactory procedure has been found so far for the most relevant case that both the dependent and the independent variables had been anonymiz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9F51-106F-4CF7-AF7D-AD6513B32412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Arial"/>
              </a:rPr>
              <a:t>Addition of noise (in the linear model)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80880" y="1752480"/>
            <a:ext cx="85345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dditive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ultiplicative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286000" y="2259000"/>
            <a:ext cx="4343400" cy="7351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905120" y="4130640"/>
            <a:ext cx="4724280" cy="717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4E7E-75A1-4BB1-B908-92A00F26185F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Arial"/>
              </a:rPr>
              <a:t>Estimation under (additive) noise of regressor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104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consistency of estim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stimate from SIMEX procedure (adding error by purpose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219320" y="2292480"/>
            <a:ext cx="2666880" cy="8888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2133720" y="4495680"/>
            <a:ext cx="3733560" cy="8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478C-24CD-45FD-9327-494C2692C3F6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Arial"/>
              </a:rPr>
              <a:t>Extrapolation in the SIMEX procedure 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05560" y="1752120"/>
            <a:ext cx="609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SimExt2" descr=""/>
          <p:cNvPicPr/>
          <p:nvPr/>
        </p:nvPicPr>
        <p:blipFill>
          <a:blip r:embed="rId1"/>
          <a:stretch/>
        </p:blipFill>
        <p:spPr>
          <a:xfrm>
            <a:off x="1219320" y="1600200"/>
            <a:ext cx="6781680" cy="4379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CB34-C65E-4307-9533-741C1F755CBF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Arial"/>
              </a:rPr>
              <a:t>Report on recent work from estimating the probit model from anonymized micro data (1)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ML estimation of generalized probit model combined with SIMEX procedure did not work satisfactorily even in the case of no post randomizaion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However estimation of the generalized linear model for the special case representing the probit model gave good results for the case „noise addition but no PRAM“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TATA SIMEX Procedure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955A-C0BB-4BF4-B8FF-3C9DDD5D890C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Agenda: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The German anonymization project (see also the earlier presentation by Rainer Lenz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Main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stimation of the probit model from anonymized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EC9D-6846-49CB-9C94-E0449B9EC209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Arial"/>
              </a:rPr>
              <a:t>Report on recent work from estimating the probit model from anonymized micro data (2)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o far we have no adequate estimation procedure for the case that both the dependent variable is masked by PRAM and the regressor variable(s) is (are) protected by noise addi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Note that we consider here a (frequently used) </a:t>
            </a:r>
            <a:r>
              <a:rPr b="0" lang="de-DE" sz="2800" spc="-1" strike="noStrike">
                <a:solidFill>
                  <a:srgbClr val="ff6600"/>
                </a:solidFill>
                <a:latin typeface="Arial"/>
              </a:rPr>
              <a:t>nonlinear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mode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However for </a:t>
            </a:r>
            <a:r>
              <a:rPr b="0" lang="de-DE" sz="2800" spc="-1" strike="noStrike">
                <a:solidFill>
                  <a:srgbClr val="ff6600"/>
                </a:solidFill>
                <a:latin typeface="Arial"/>
              </a:rPr>
              <a:t>linear models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 correcting estimation procedures seem to work f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ee the research report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8457-0EEA-4CA3-9C52-0DACFDE217A9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-62640"/>
            <a:ext cx="82296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de-DE" sz="20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900000" y="189000"/>
            <a:ext cx="6408720" cy="5937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C2E1-7F58-4E88-8FB2-0964D439F487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cc"/>
                </a:solidFill>
                <a:latin typeface="Arial"/>
              </a:rPr>
              <a:t>Concluding Remarks (Importance of the project) :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For the first time simultaneous consideration of confidentiality issues and data quality aspects as seen from user‘s side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For the first time consideration of impacts of anonymization on statistical infer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Use of real data sets from German statistical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Use of modern matching algorithms in simulating scenarios for disclosure. See earlier presentation by </a:t>
            </a:r>
            <a:r>
              <a:rPr b="0" lang="de-DE" sz="2800" spc="-1" strike="noStrike">
                <a:solidFill>
                  <a:srgbClr val="ff6600"/>
                </a:solidFill>
                <a:latin typeface="Arial"/>
              </a:rPr>
              <a:t>Rainer Lenz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Use of commercial data bases for simulating external knowledg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E3C8-22DC-4C3B-A818-ED5ADFE8F9AA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Future Research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o far only cross-section da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xtension to the case of </a:t>
            </a:r>
            <a:r>
              <a:rPr b="0" lang="de-DE" sz="2800" spc="-1" strike="noStrike">
                <a:solidFill>
                  <a:srgbClr val="ff6600"/>
                </a:solidFill>
                <a:latin typeface="Arial"/>
              </a:rPr>
              <a:t>panel data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6600"/>
                </a:solidFill>
                <a:latin typeface="Arial"/>
              </a:rPr>
              <a:t>Multiple imputation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as a masking proced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 project will start very soon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E26E-93CF-43AF-9C24-51282837C2B5}" type="slidenum">
              <a:t>23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3333cc"/>
                </a:solidFill>
                <a:latin typeface="Arial"/>
              </a:rPr>
              <a:t>Overview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erman project run jointly by the German Statistical Office and Institute for Applied Economic Research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erman law allows the Statistical Office to provide scientific researchers with data which are only moderately anonymized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se data are said to satisfy “factual anonymization” (in German “faktische Anonymisierung”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y can be seen as scientific-use fil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main emphasis of the project  is on data from enterprises for which confidentiality is a more sensitive topic than for data from households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9F32-C486-4C1C-9F73-903795AB46A8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3333cc"/>
                </a:solidFill>
                <a:latin typeface="Arial"/>
              </a:rPr>
              <a:t>Two objectives of anonymization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nonymization of data has to satisfy  two objectives which are  opposing each other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a) minimization of risk of disclosur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b) minimization of loss of data qualit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 compromise has to be reach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However, factual anonymization has to guarantueed before we may consider the quality of these dat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lternative strategies may be possible and  some may lead to a smaller loss of data qualit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8E52-3421-451E-96B7-A6A0669A35B9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cc"/>
                </a:solidFill>
                <a:latin typeface="Arial"/>
              </a:rPr>
              <a:t>The business micro data used in the project</a:t>
            </a: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Kostenstrukturerhebung im Verarbeitenden Gewerbe und Bergbau (1999) (</a:t>
            </a:r>
            <a:r>
              <a:rPr b="0" lang="de-DE" sz="3200" spc="-1" strike="noStrike">
                <a:solidFill>
                  <a:srgbClr val="ff6600"/>
                </a:solidFill>
                <a:latin typeface="Arial"/>
              </a:rPr>
              <a:t>cost structure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Umsatzsteuerstatistik (2000) (</a:t>
            </a:r>
            <a:r>
              <a:rPr b="0" lang="de-DE" sz="2800" spc="-1" strike="noStrike">
                <a:solidFill>
                  <a:srgbClr val="ff6600"/>
                </a:solidFill>
                <a:latin typeface="Arial"/>
              </a:rPr>
              <a:t>value added tax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inzelhandelsstatistik (1999) (</a:t>
            </a:r>
            <a:r>
              <a:rPr b="0" lang="de-DE" sz="2800" spc="-1" strike="noStrike">
                <a:solidFill>
                  <a:srgbClr val="ff6600"/>
                </a:solidFill>
                <a:latin typeface="Arial"/>
              </a:rPr>
              <a:t>retail business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Only partly relat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IAB-Betriebspanel (</a:t>
            </a:r>
            <a:r>
              <a:rPr b="0" lang="de-DE" sz="2800" spc="-1" strike="noStrike">
                <a:solidFill>
                  <a:srgbClr val="ff6600"/>
                </a:solidFill>
                <a:latin typeface="Arial"/>
              </a:rPr>
              <a:t>IAB panel of firms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1C10-3942-4A6B-AA2E-62D7B5ABD66C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990360"/>
            <a:ext cx="838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3333cc"/>
                </a:solidFill>
                <a:latin typeface="Arial"/>
              </a:rPr>
              <a:t>Different masking procedures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We compare different masking procedures, in particular microaggregation and “addition” of noise (also in a multiplicative manner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or discrete variables we consider masking by post-randomization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Other masking  procedures, in particular data swapping,  have been found to imply too much distortion with respect to data qualit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CFDE-AA4D-43EA-8423-4E45868C0667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990360"/>
            <a:ext cx="838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cc"/>
                </a:solidFill>
                <a:latin typeface="Arial"/>
              </a:rPr>
              <a:t>„</a:t>
            </a:r>
            <a:r>
              <a:rPr b="1" lang="de-DE" sz="2800" spc="-1" strike="noStrike">
                <a:solidFill>
                  <a:srgbClr val="3333cc"/>
                </a:solidFill>
                <a:latin typeface="Arial"/>
              </a:rPr>
              <a:t>Corrected“ estimation under anonymization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We also consider the possibility of correcting the estimation procedures in linear and nonlinear models  in such a way that consistent (unbiased) estimators are deriv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xamples given bel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571E-27F6-4EF5-914B-1C98E83CB5C3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Arial"/>
              </a:rPr>
              <a:t>Two different strategies of anonymization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Information reducing procedures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duction with respect to observational un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duction with respect to certain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duction or coarsening of possible 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ata modifying procedures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icroaggreg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oise add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ost randomization (PRA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3CA2-DA27-411A-B20C-C7E7ADFA9AD6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Arial"/>
              </a:rPr>
              <a:t>Emphasis of project on „data modifying procedures“</a:t>
            </a:r>
            <a:br>
              <a:rPr sz="2400"/>
            </a:b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....employing, however, some „information reducing procedures“ at the outs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For example, regional information was deleted with exception of „west“ and „east“ of German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ata modifying procedures“ have the advantage that impact on estimation of stochastic models can be formally analyz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For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A0A0-B436-4C13-99FE-4A870C7A6FA8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1T09:52:13Z</dcterms:created>
  <dc:creator>sthiwi</dc:creator>
  <dc:description/>
  <dc:language>en-US</dc:language>
  <cp:lastModifiedBy>Ronning</cp:lastModifiedBy>
  <cp:lastPrinted>2002-09-04T08:32:44Z</cp:lastPrinted>
  <dcterms:modified xsi:type="dcterms:W3CDTF">2005-11-08T10:52:24Z</dcterms:modified>
  <cp:revision>85</cp:revision>
  <dc:subject/>
  <dc:title>Lagerhaltung und Logistik   Neue Strukturen im Dienstleistungsbereich</dc:title>
</cp:coreProperties>
</file>