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29B9-9BB8-4E0E-970B-3D328ADED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D58E-6C62-4C9F-AD14-9918464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94F0-A0BB-4C9F-80A2-E16C240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8B89-E2FA-473E-A132-92979550D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A64C-932C-4D00-B3B8-40B46E3D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252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1880" y="17521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252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1880" y="410220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0DD1-22C4-49BD-A5BF-A3FBE49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37D5-FB8D-4B5D-AF80-D71DF3B2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DC66-DAE2-4FFC-B3F0-96D3E5ED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1440" y="1133640"/>
            <a:ext cx="82771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AAA9-6E21-40B6-BE3F-CB1EC0E7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E60D-F7EE-4645-AE2C-B82956B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760" y="410220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D406-C053-462C-A99B-144DC46C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760" y="17521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02200"/>
            <a:ext cx="8278560" cy="21459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1AFF-2B29-4304-9FB8-FB21B43B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29844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7840" y="6400800"/>
            <a:ext cx="1078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227055-7415-47E9-8F33-F81822045C42}" type="datetime">
              <a:rPr b="0" lang="de-DE" sz="11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02600" y="6400800"/>
            <a:ext cx="70488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NormalLF-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MetaNormalLF-Roman"/>
              </a:rPr>
              <a:t>Folie </a:t>
            </a:r>
            <a:fld id="{5FA22C69-BE20-45B9-8BAF-E17AA0038114}" type="slidenum">
              <a:rPr b="0" lang="de-DE" sz="11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6351480"/>
            <a:ext cx="6121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351480"/>
            <a:ext cx="2261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© Statistisches Bundesamt, I/B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440" y="1402920"/>
            <a:ext cx="82771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6351480"/>
            <a:ext cx="5756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© Statistisches Bundesamt, I/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256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278560" cy="44989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666666"/>
                </a:solidFill>
                <a:latin typeface="Arial"/>
              </a:rPr>
              <a:t>UNECE Work Session on Statistical Data Confidenti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666666"/>
                </a:solidFill>
                <a:latin typeface="Arial"/>
              </a:rPr>
              <a:t>Geneva, november 9-11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781360"/>
            <a:ext cx="827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 standard for the release of microdata</a:t>
            </a:r>
            <a:endParaRPr b="0" lang="en-US" sz="4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ts val="314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724280"/>
            <a:ext cx="8277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iner Lenz, Daniel Vorgrimler, Michael Scheffler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deral Statistical Office of Germany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9B93-A9DB-483B-9B3F-3FEB2C5F0F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A6C8F-9E81-41A0-A9E0-030302D7B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3120" y="1133640"/>
            <a:ext cx="8839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Scenario of a database cross match</a:t>
            </a:r>
            <a:r>
              <a:rPr b="0" lang="en-GB" sz="3000" spc="-1" strike="noStrike">
                <a:solidFill>
                  <a:srgbClr val="666666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5146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33"/>
                </a:solidFill>
                <a:latin typeface="Arial"/>
              </a:rPr>
              <a:t>Scenario 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ssignment between original and anonymised dat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stimation of an upper bound for the disclosure risk)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396252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33"/>
                </a:solidFill>
                <a:latin typeface="Arial"/>
              </a:rPr>
              <a:t>Scenario 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ssignment between external and anonymised dat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stimation of the disclosure risk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C0A7-1DB2-4DD0-9F10-780CF5759F0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EF2BA-5D16-4ED6-A756-2FF15FE8A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3120" y="1133640"/>
            <a:ext cx="883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6666"/>
                </a:solidFill>
                <a:latin typeface="Arial"/>
              </a:rPr>
              <a:t>German Structure of Costs Surve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844640"/>
            <a:ext cx="746784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ctable sample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 or more employees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ple contains about 17 000 record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0 numerical and 3 categorical variabl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most important variables are: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anch of economic activity (NACE 2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onal key (types of districts delimited on the basis o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settlement structure, BBR 9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tal turnove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 of employe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195120" indent="-195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AFA8-023F-4A72-803B-5677D2A1DD0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9D80A-B1D6-4F41-B48F-078582748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1700280"/>
            <a:ext cx="7632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arsening of categorical variabl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onymisations on trial:  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 anonymisation (deletion of direct identifiers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croaggregation: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30G (weakest variant)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11G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8G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1G (strongest variant)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197000"/>
            <a:ext cx="8839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12536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6666"/>
                </a:solidFill>
                <a:latin typeface="Arial"/>
              </a:rPr>
              <a:t>German Structure of Costs Survey</a:t>
            </a:r>
            <a:br>
              <a:rPr sz="3000"/>
            </a:br>
            <a:r>
              <a:rPr b="0" lang="en-GB" sz="30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66"/>
                </a:solidFill>
                <a:latin typeface="Arial"/>
              </a:rPr>
              <a:t>Anonymisations on trial</a:t>
            </a:r>
            <a:r>
              <a:rPr b="0" lang="en-GB" sz="30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0245-8A1C-443F-B55F-A2BF1949EC3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2158F-16EE-49A5-80F2-1C3CE3D5C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00000" y="2924280"/>
            <a:ext cx="7391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ternal data 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erman Turnover Tax statistics (TTS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 sample containing about 9 300 records)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y variables are: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anch of economic activity (NACE 2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onal key (types of districts delimited on the basis o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settlement structure, BBR 9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tal turnove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83808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Carrying out scenario 2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700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33"/>
                </a:solidFill>
                <a:latin typeface="Arial"/>
              </a:rPr>
              <a:t>Scenario 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ssignment between external and anonymised dat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stimation of the disclosure risk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C038-35FC-4ECF-B296-F0D67C78496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C97EE-7CA8-45B8-B70C-5A4090B7E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2852640"/>
            <a:ext cx="73152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ternal data 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MARKUS - database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 sample containing about 9 400 records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y variables are: 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anch of economic activity (NACE 2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ional key (types of districts delimited on the basis o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settlement structure, BBR 9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tal turnove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 of employees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836640"/>
            <a:ext cx="883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Carrying out scenario 2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62864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33"/>
                </a:solidFill>
                <a:latin typeface="Arial"/>
              </a:rPr>
              <a:t>Scenario 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ssignment between external and anonymised data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stimation of the disclosure risk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2B0E-7E08-4DCE-947D-681982B7029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355E1-39B3-4CF0-B8E5-3D6A339788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Disclosure</a:t>
            </a: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risks associated with scenarios 1 / 2         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1" lang="de-DE" sz="2400" spc="-1" strike="noStrike">
                <a:solidFill>
                  <a:srgbClr val="666666"/>
                </a:solidFill>
                <a:latin typeface="Symbol"/>
                <a:ea typeface="Symbol"/>
              </a:rPr>
              <a:t></a:t>
            </a: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 = 10%)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66640" y="1787400"/>
          <a:ext cx="82105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87400"/>
                    <a:ext cx="82105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AA21-CB00-433D-9DA9-D5E57C67674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6813-74F3-4282-820C-4B1E54EEFD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3120" y="1133640"/>
            <a:ext cx="8839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Combination of scenarios 1 and 2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438280"/>
            <a:ext cx="259092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438280"/>
            <a:ext cx="259092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2438280"/>
            <a:ext cx="2514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2708280"/>
            <a:ext cx="20811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enario 1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orst-Case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666880"/>
            <a:ext cx="21333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enario 2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TS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2666880"/>
            <a:ext cx="2286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enario 2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RKUS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62120" y="3809880"/>
            <a:ext cx="2153880" cy="1559160"/>
            <a:chOff x="762120" y="3809880"/>
            <a:chExt cx="2153880" cy="1559160"/>
          </a:xfrm>
        </p:grpSpPr>
        <p:cxnSp>
          <p:nvCxnSpPr>
            <p:cNvPr id="186" name=""/>
            <p:cNvCxnSpPr/>
            <p:nvPr/>
          </p:nvCxnSpPr>
          <p:spPr>
            <a:xfrm>
              <a:off x="1761480" y="3809880"/>
              <a:ext cx="1080" cy="1067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87" name=""/>
            <p:cNvSpPr/>
            <p:nvPr/>
          </p:nvSpPr>
          <p:spPr>
            <a:xfrm>
              <a:off x="762120" y="4876920"/>
              <a:ext cx="21538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de-DE" sz="2300" spc="-1" strike="noStrike" baseline="-25000">
                  <a:solidFill>
                    <a:srgbClr val="3366cc"/>
                  </a:solidFill>
                  <a:latin typeface="Symbol"/>
                  <a:ea typeface="Symbol"/>
                </a:rPr>
                <a:t></a:t>
              </a:r>
              <a:r>
                <a:rPr b="0" i="1" lang="de-DE" sz="2300" spc="-1" strike="noStrike" baseline="-25000">
                  <a:solidFill>
                    <a:srgbClr val="000000"/>
                  </a:solidFill>
                  <a:latin typeface="Arial"/>
                </a:rPr>
                <a:t>,1</a:t>
              </a:r>
              <a:r>
                <a:rPr b="0" lang="de-DE" sz="2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de-DE" sz="2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de-DE" sz="2300" spc="-1" strike="noStrike" baseline="30000">
                  <a:solidFill>
                    <a:srgbClr val="000000"/>
                  </a:solidFill>
                  <a:latin typeface="Arial"/>
                </a:rPr>
                <a:t>(i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closed</a:t>
              </a:r>
              <a:r>
                <a:rPr b="0" lang="de-DE" sz="2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23920" y="3809880"/>
            <a:ext cx="2943720" cy="1545480"/>
            <a:chOff x="4723920" y="3809880"/>
            <a:chExt cx="2943720" cy="1545480"/>
          </a:xfrm>
        </p:grpSpPr>
        <p:cxnSp>
          <p:nvCxnSpPr>
            <p:cNvPr id="189" name=""/>
            <p:cNvCxnSpPr/>
            <p:nvPr/>
          </p:nvCxnSpPr>
          <p:spPr>
            <a:xfrm>
              <a:off x="4723920" y="3809880"/>
              <a:ext cx="1080" cy="602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/>
            <p:nvPr/>
          </p:nvCxnSpPr>
          <p:spPr>
            <a:xfrm>
              <a:off x="7666920" y="3809880"/>
              <a:ext cx="1080" cy="602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/>
            <p:nvPr/>
          </p:nvCxnSpPr>
          <p:spPr>
            <a:xfrm>
              <a:off x="4723920" y="4411440"/>
              <a:ext cx="2943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235560" y="4411800"/>
              <a:ext cx="2160" cy="45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93" name=""/>
            <p:cNvSpPr/>
            <p:nvPr/>
          </p:nvSpPr>
          <p:spPr>
            <a:xfrm>
              <a:off x="5281200" y="4863240"/>
              <a:ext cx="2147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de-DE" sz="2300" spc="-1" strike="noStrike" baseline="-25000">
                  <a:solidFill>
                    <a:srgbClr val="3366cc"/>
                  </a:solidFill>
                  <a:latin typeface="Symbol"/>
                  <a:ea typeface="Symbol"/>
                </a:rPr>
                <a:t></a:t>
              </a:r>
              <a:r>
                <a:rPr b="0" i="1" lang="de-DE" sz="2300" spc="-1" strike="noStrike" baseline="-25000">
                  <a:solidFill>
                    <a:srgbClr val="000000"/>
                  </a:solidFill>
                  <a:latin typeface="Arial"/>
                </a:rPr>
                <a:t>,2</a:t>
              </a:r>
              <a:r>
                <a:rPr b="0" lang="de-DE" sz="2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de-DE" sz="2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de-DE" sz="2300" spc="-1" strike="noStrike" baseline="30000">
                  <a:solidFill>
                    <a:srgbClr val="000000"/>
                  </a:solidFill>
                  <a:latin typeface="Arial"/>
                </a:rPr>
                <a:t>(i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closed</a:t>
              </a:r>
              <a:r>
                <a:rPr b="0" lang="de-DE" sz="2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52120" y="4876560"/>
            <a:ext cx="4420080" cy="1219320"/>
            <a:chOff x="1752120" y="4876560"/>
            <a:chExt cx="4420080" cy="1219320"/>
          </a:xfrm>
        </p:grpSpPr>
        <p:cxnSp>
          <p:nvCxnSpPr>
            <p:cNvPr id="195" name=""/>
            <p:cNvCxnSpPr/>
            <p:nvPr/>
          </p:nvCxnSpPr>
          <p:spPr>
            <a:xfrm>
              <a:off x="1752120" y="4876560"/>
              <a:ext cx="4420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3962160" y="4876560"/>
              <a:ext cx="1080" cy="686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97" name=""/>
            <p:cNvSpPr/>
            <p:nvPr/>
          </p:nvSpPr>
          <p:spPr>
            <a:xfrm>
              <a:off x="2895480" y="5562720"/>
              <a:ext cx="2133720" cy="53316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de-DE" sz="2300" spc="-1" strike="noStrike" baseline="-25000">
                  <a:solidFill>
                    <a:srgbClr val="3366cc"/>
                  </a:solidFill>
                  <a:latin typeface="Symbol"/>
                  <a:ea typeface="Symbol"/>
                </a:rPr>
                <a:t></a:t>
              </a:r>
              <a:r>
                <a:rPr b="0" lang="de-DE" sz="23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de-DE" sz="2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de-DE" sz="2300" spc="-1" strike="noStrike" baseline="30000">
                  <a:solidFill>
                    <a:srgbClr val="000000"/>
                  </a:solidFill>
                  <a:latin typeface="Arial"/>
                </a:rPr>
                <a:t>(i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closed</a:t>
              </a:r>
              <a:r>
                <a:rPr b="0" lang="de-DE" sz="2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4650-6127-4F43-AFBC-662DE9369699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BFB1F-E70F-430E-ADFE-1BD336898D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143000"/>
            <a:ext cx="883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Combination of scenarios 1 and 2</a:t>
            </a:r>
            <a:br>
              <a:rPr sz="3200"/>
            </a:b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666666"/>
                </a:solidFill>
                <a:latin typeface="Symbol"/>
                <a:ea typeface="Symbol"/>
              </a:rPr>
              <a:t></a:t>
            </a: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 = 5%, </a:t>
            </a:r>
            <a:r>
              <a:rPr b="0" lang="de-DE" sz="2400" spc="-1" strike="noStrike">
                <a:solidFill>
                  <a:srgbClr val="666666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 = 35%</a:t>
            </a: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04920" y="2743200"/>
          <a:ext cx="84121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4121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7360" y="5791320"/>
            <a:ext cx="685800" cy="276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 - 49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1560" y="5867280"/>
            <a:ext cx="380880" cy="397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1760" y="5791320"/>
            <a:ext cx="685800" cy="276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0 - 99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3520" y="5791320"/>
            <a:ext cx="838440" cy="276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0 - 249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7920" y="5791320"/>
            <a:ext cx="838440" cy="276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50 - 499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2320" y="5791320"/>
            <a:ext cx="838440" cy="276480"/>
          </a:xfrm>
          <a:prstGeom prst="rect">
            <a:avLst/>
          </a:prstGeom>
          <a:solidFill>
            <a:srgbClr val="cccccc"/>
          </a:solidFill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00 - 999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6720" y="5791320"/>
            <a:ext cx="762120" cy="276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7440" y="5867280"/>
            <a:ext cx="457200" cy="397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060640"/>
            <a:ext cx="8381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stimation of the disclosure risks distributed to employee size classes.</a:t>
            </a:r>
            <a:endParaRPr b="0" lang="en-US" sz="17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114800"/>
            <a:ext cx="6324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572D-E2DB-4FFC-92B9-3360565520E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9C0DA-D453-40DB-8AED-7B26486409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48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800"/>
            </a:b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German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Turnover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Tax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Statistics</a:t>
            </a: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1337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759600" indent="-25344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out 2.9 million record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59600" indent="-25344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ains all branches of economic activit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59600" indent="-25344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1 numerical and 6 categorical variabl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59600" indent="-25344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most important variables are: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33280" indent="-20376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Branch of economic activity (NACE 2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33280" indent="-20376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Regional key (types of districts delimited on the basis of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ettlement structure, BBR 9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33280" indent="-20376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33280" indent="-20376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Total turnover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59600" indent="-2534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A8EF-8709-48E0-B66F-656B9998D6B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4CE29-76F8-44FF-AEC2-8D239E55B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800"/>
            </a:b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German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Turnover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Tax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666666"/>
                </a:solidFill>
                <a:latin typeface="Arial"/>
              </a:rPr>
              <a:t>Statistics</a:t>
            </a:r>
            <a:br>
              <a:rPr sz="3000"/>
            </a:b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Anonymisations on tri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492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2" marL="1146600" indent="-205920">
              <a:lnSpc>
                <a:spcPct val="10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ormal anonymisation (deletion of direct identifiers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524960" indent="-20592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524960" indent="-2059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6600" indent="-205920">
              <a:lnSpc>
                <a:spcPct val="10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Traditional anonymisation (rounding, coarsening,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opcoding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524960" indent="-20592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524960" indent="-2059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6600" indent="-205920">
              <a:lnSpc>
                <a:spcPct val="10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icro aggregation: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524960" indent="-20592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A21G (weakest variant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524960" indent="-20592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A1G  (strongest variant)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AD9C-1E61-4C6E-9D2D-8B286C82015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EFB51-9E2C-4525-92E3-C8E294088E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133640"/>
            <a:ext cx="8240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989000"/>
            <a:ext cx="81378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enario of a database cross match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-identification and disclosure risk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Structure of Costs Surve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Turnover Tax Statistic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Retail Trade Statistic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tion process of Scientific-Use-Fil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ook Antiqua"/>
              </a:rPr>
              <a:t>Destatis-Anonymeter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FB91-B94B-4C5E-8376-F607B1412E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DACB6-19C1-4D5D-9729-A3896DE1D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Disclosure risks associated with scenario 2</a:t>
            </a:r>
            <a:br>
              <a:rPr sz="2800"/>
            </a:br>
            <a:r>
              <a:rPr b="1" lang="de-DE" sz="1800" spc="-1" strike="noStrike">
                <a:solidFill>
                  <a:srgbClr val="666666"/>
                </a:solidFill>
                <a:latin typeface="Arial"/>
              </a:rPr>
              <a:t>(using the MARKUS-database as external data) 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55320" y="1555920"/>
            <a:ext cx="7853760" cy="4830120"/>
            <a:chOff x="1255320" y="1555920"/>
            <a:chExt cx="7853760" cy="4830120"/>
          </a:xfrm>
        </p:grpSpPr>
        <p:sp>
          <p:nvSpPr>
            <p:cNvPr id="217" name=""/>
            <p:cNvSpPr/>
            <p:nvPr/>
          </p:nvSpPr>
          <p:spPr>
            <a:xfrm>
              <a:off x="2823120" y="5136480"/>
              <a:ext cx="0" cy="2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21320" y="5136480"/>
              <a:ext cx="0" cy="2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19880" y="5136480"/>
              <a:ext cx="0" cy="2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68200" y="5136480"/>
              <a:ext cx="0" cy="2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15080" y="5136480"/>
              <a:ext cx="0" cy="2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9680" y="5251320"/>
              <a:ext cx="54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64440" y="1792800"/>
              <a:ext cx="13320" cy="345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8200" y="2028600"/>
              <a:ext cx="14976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67640" y="2381040"/>
              <a:ext cx="14976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60440" y="3148200"/>
              <a:ext cx="14832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51440" y="3800520"/>
              <a:ext cx="14976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42440" y="4561200"/>
              <a:ext cx="14976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9440" y="53298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&lt; 1 Mio.</a:t>
              </a: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 €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0240" y="532836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&gt; 1 Mrd. €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39680" y="5329800"/>
              <a:ext cx="101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0 Mio. €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76400" y="532980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 Mio. €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13120" y="53298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 Mio. €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4320" y="536436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5320" y="155592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it rate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87560" y="5147640"/>
              <a:ext cx="172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urnover size class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0680" y="5738400"/>
              <a:ext cx="423828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etaNormalLF-Roman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ormal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1G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 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21G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aditional</a:t>
              </a:r>
              <a:endParaRPr b="0" lang="en-US" sz="18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621880" y="5914440"/>
              <a:ext cx="2702160" cy="378000"/>
              <a:chOff x="2621880" y="5914440"/>
              <a:chExt cx="2702160" cy="378000"/>
            </a:xfrm>
          </p:grpSpPr>
          <p:sp>
            <p:nvSpPr>
              <p:cNvPr id="239" name=""/>
              <p:cNvSpPr/>
              <p:nvPr/>
            </p:nvSpPr>
            <p:spPr>
              <a:xfrm>
                <a:off x="2621880" y="5920200"/>
                <a:ext cx="204840" cy="14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21880" y="6149160"/>
                <a:ext cx="204840" cy="1432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19200" y="6149160"/>
                <a:ext cx="204840" cy="14328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19200" y="5914440"/>
                <a:ext cx="204840" cy="143280"/>
              </a:xfrm>
              <a:prstGeom prst="plus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179400" y="1733400"/>
              <a:ext cx="203760" cy="1447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8200" y="3913560"/>
              <a:ext cx="205200" cy="14292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18760" y="5031000"/>
              <a:ext cx="151560" cy="1177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3240" y="402948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3240" y="367776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13240" y="326412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3240" y="291204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3240" y="261648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33080" y="3913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33080" y="2498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33080" y="2793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33080" y="3148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3080" y="3559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13240" y="450108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13240" y="491328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33080" y="43837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4795200"/>
              <a:ext cx="32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13240" y="232272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33080" y="2205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5320" y="4619160"/>
              <a:ext cx="151200" cy="1177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6320" y="4972680"/>
              <a:ext cx="151560" cy="1177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9200" y="3677760"/>
              <a:ext cx="151560" cy="11736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28200" y="1733400"/>
              <a:ext cx="151200" cy="1177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13240" y="202860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3080" y="1910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19200" y="2381040"/>
              <a:ext cx="205200" cy="14436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10200" y="3148200"/>
              <a:ext cx="205200" cy="14292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03000" y="3768840"/>
              <a:ext cx="203760" cy="14472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94000" y="4561200"/>
              <a:ext cx="205200" cy="14292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0760" y="2440440"/>
              <a:ext cx="205200" cy="1432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0760" y="3148200"/>
              <a:ext cx="203760" cy="142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54560" y="3768840"/>
              <a:ext cx="203400" cy="1447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45560" y="4561200"/>
              <a:ext cx="205200" cy="142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61FA-C076-4EEA-9E3A-CF4D847C1CEE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7D434-6321-4D72-B0DA-538507088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6666"/>
                </a:solidFill>
                <a:latin typeface="Book Antiqua"/>
              </a:rPr>
              <a:t>Destatis-Anonymeter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EEB5-A04F-437D-8C36-17E5F05E21A8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21713-FC58-4A8F-B559-A77BD3F169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ED2D-AE9F-4021-B9C2-3E4CB4C34B8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29DB0-E92C-4032-B2A7-0DD3B0C73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2E44-6050-46BB-9583-2AE1C4252815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E1C01-4C89-4989-A614-CFF9FCD6D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FE90-5928-48EA-96ED-67652DE95C7A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05A01-0410-40AA-BB66-70C476F7EA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3DFA-69AD-49B5-96B7-7E96C155DDFA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D4AE2-503D-4B6A-8210-583E411F9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82C7-D8C4-42C9-994B-CF4BBF344BE4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8D796-AE7E-4E9A-93C9-8E7F8E292F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3D22-80E6-4E4E-BB01-D3DFD11C579F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FCA3-DCDA-4E12-91C3-D1BDC4E72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37F2-86E0-4A95-8880-FD8131735614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56B6-BB13-4185-A38A-49539259A9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05C3-2D72-434A-9B90-67D3792D6C14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F8BA2-9FCB-4CB0-9AD1-D3E59927E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3120" y="1133640"/>
            <a:ext cx="8839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 = {a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ords of extern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 = {b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...,b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ords of targ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 = {v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...,v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y variables of A and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0400" y="3324240"/>
            <a:ext cx="140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y variables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3080" y="4162320"/>
            <a:ext cx="1095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04600" y="4162320"/>
            <a:ext cx="1207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tegoric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440" y="53341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de-DE" sz="1400" spc="-1" strike="noStrike" baseline="-25000">
                <a:solidFill>
                  <a:srgbClr val="000000"/>
                </a:solidFill>
                <a:latin typeface="Arial"/>
              </a:rPr>
              <a:t>nom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2320" y="53341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de-DE" sz="1400" spc="-1" strike="noStrike" baseline="-25000">
                <a:solidFill>
                  <a:srgbClr val="000000"/>
                </a:solidFill>
                <a:latin typeface="Arial"/>
              </a:rPr>
              <a:t>ord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4920" y="37339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7920" y="37339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341960" y="46479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6360" y="464832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412C-9D05-4D6A-A942-EC637A59F1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B685A-91E7-46A5-81DC-534D7A3F1B0F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"/>
                            </p:stCondLst>
                            <p:childTnLst>
                              <p:par>
                                <p:cTn id="51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534C-76AF-4EA3-ACF5-B24B7E50D9FB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51D39-1668-48B1-ACC7-C4271557E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70D5-B1C9-4306-8B02-30F9E6AE09CB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EC468-1EFA-4652-B6C5-6C96052908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999F-E22E-4C16-BD4E-80AAEEBE1A59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30E1-5E7D-4597-ACAC-9383721EF1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0223-EDE7-438C-A361-493591F4B128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EEDD8-CB6D-40DC-AB85-D078BCF827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3DAC-01A5-42AE-A2E3-CBBD1C45991E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D07A7-0866-4716-A9DC-AB7D6B7DC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89DD-D801-4A53-87B2-9321EDE7340E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4935C-34D9-4D87-8FAC-144E02B10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7B35-8D16-4EE3-81CE-F272AAFAC095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2BE6-503E-48AB-89F1-EC0AEE368E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216000" y="1773720"/>
            <a:ext cx="7524360" cy="4534200"/>
            <a:chOff x="216000" y="1773720"/>
            <a:chExt cx="7524360" cy="4534200"/>
          </a:xfrm>
        </p:grpSpPr>
        <p:grpSp>
          <p:nvGrpSpPr>
            <p:cNvPr id="294" name=""/>
            <p:cNvGrpSpPr/>
            <p:nvPr/>
          </p:nvGrpSpPr>
          <p:grpSpPr>
            <a:xfrm>
              <a:off x="1396440" y="5135400"/>
              <a:ext cx="6343920" cy="1172520"/>
              <a:chOff x="1396440" y="5135400"/>
              <a:chExt cx="6343920" cy="1172520"/>
            </a:xfrm>
          </p:grpSpPr>
          <p:sp>
            <p:nvSpPr>
              <p:cNvPr id="295" name=""/>
              <p:cNvSpPr/>
              <p:nvPr/>
            </p:nvSpPr>
            <p:spPr>
              <a:xfrm flipH="1" rot="10800000">
                <a:off x="1396080" y="5213160"/>
                <a:ext cx="6269400" cy="1094760"/>
              </a:xfrm>
              <a:prstGeom prst="rtTriangle">
                <a:avLst/>
              </a:prstGeom>
              <a:solidFill>
                <a:srgbClr val="66cc66"/>
              </a:solidFill>
              <a:ln w="12600">
                <a:solidFill>
                  <a:srgbClr val="66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7880" y="5135400"/>
                <a:ext cx="1032480" cy="390600"/>
              </a:xfrm>
              <a:prstGeom prst="rect">
                <a:avLst/>
              </a:prstGeom>
              <a:solidFill>
                <a:srgbClr val="d1d1d1"/>
              </a:solidFill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16000" y="1773720"/>
              <a:ext cx="6343920" cy="1172520"/>
              <a:chOff x="216000" y="1773720"/>
              <a:chExt cx="6343920" cy="1172520"/>
            </a:xfrm>
          </p:grpSpPr>
          <p:sp>
            <p:nvSpPr>
              <p:cNvPr id="298" name=""/>
              <p:cNvSpPr/>
              <p:nvPr/>
            </p:nvSpPr>
            <p:spPr>
              <a:xfrm flipH="1">
                <a:off x="290160" y="1773720"/>
                <a:ext cx="6269400" cy="1094400"/>
              </a:xfrm>
              <a:prstGeom prst="rtTriangle">
                <a:avLst/>
              </a:prstGeom>
              <a:solidFill>
                <a:srgbClr val="66cc66"/>
              </a:solidFill>
              <a:ln w="12600">
                <a:solidFill>
                  <a:srgbClr val="66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0800000">
                <a:off x="216000" y="2555640"/>
                <a:ext cx="1032480" cy="390600"/>
              </a:xfrm>
              <a:prstGeom prst="rect">
                <a:avLst/>
              </a:prstGeom>
              <a:solidFill>
                <a:srgbClr val="d1d1d1"/>
              </a:solidFill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6378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Generation of Scientific-Use-Files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4292640"/>
            <a:ext cx="1143000" cy="68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Formal anonymised data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7280" y="4317840"/>
            <a:ext cx="1295280" cy="489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nonymisation on trial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1880" y="4317840"/>
            <a:ext cx="1295280" cy="489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nonymisation on trial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5680" y="3556080"/>
            <a:ext cx="1600200" cy="489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nonymisation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3240" y="2565360"/>
            <a:ext cx="1295640" cy="489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st for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3960" y="3390840"/>
            <a:ext cx="1600200" cy="68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tronger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nonymisation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1880" y="2565360"/>
            <a:ext cx="1295280" cy="489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st for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3240" y="5689440"/>
            <a:ext cx="1295640" cy="68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st for information loss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1880" y="5689440"/>
            <a:ext cx="1295280" cy="68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st for information loss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4280" y="46990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2560" y="46990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6760" y="309888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6080" y="408924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21360" y="309888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506760" y="50796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021360" y="50796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7160" y="4699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7440" y="408924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11280" y="2565360"/>
            <a:ext cx="1295280" cy="1727280"/>
            <a:chOff x="611280" y="2565360"/>
            <a:chExt cx="1295280" cy="1727280"/>
          </a:xfrm>
        </p:grpSpPr>
        <p:sp>
          <p:nvSpPr>
            <p:cNvPr id="320" name=""/>
            <p:cNvSpPr/>
            <p:nvPr/>
          </p:nvSpPr>
          <p:spPr>
            <a:xfrm>
              <a:off x="611280" y="2565360"/>
              <a:ext cx="1295280" cy="48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Test for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confidentiality</a:t>
              </a:r>
              <a:endParaRPr b="0" lang="en-US" sz="13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115640" y="3098880"/>
              <a:ext cx="28440" cy="119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451640" y="256536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Degree of confidentiality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6000" y="566100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Degree of analysis   potential</a:t>
            </a:r>
            <a:endParaRPr b="0" lang="en-US" sz="1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93080" y="5516640"/>
            <a:ext cx="1800000" cy="72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93080" y="2492280"/>
            <a:ext cx="1726920" cy="64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0B43-BBAF-477B-B5B9-6852520E2ABC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72C0F-31AD-4119-8CCC-EFE117FE2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7748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Scientific-Use-Files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828800"/>
            <a:ext cx="78469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an Structure of Costs Survey 1999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Turnover Tax Statistics 2000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19000" indent="-361800">
              <a:lnSpc>
                <a:spcPct val="100000"/>
              </a:lnSpc>
              <a:spcBef>
                <a:spcPts val="499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Retail Trail Statistics 1999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276200" indent="-36180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Contains about 14.500 records 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276200" indent="-36180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31 numerical and 3 categorical variable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276200" indent="-36180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Most important variables are: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33400" indent="-3618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Branch of economic activity (NACE 2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33400" indent="-3618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Regional key (new/old federal states)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33400" indent="-3618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Number of branch office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33400" indent="-3618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Total turnover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33400" indent="-3618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Number of employees</a:t>
            </a: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33400" indent="-361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19000" indent="-361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925B-0669-4E57-AB04-326E04168AFB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0DD83-CA05-4AF0-9FC1-1137C3A86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2211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9040" y="33526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3080" y="33526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4840" y="33526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8920" y="33526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6666"/>
                </a:solidFill>
                <a:latin typeface="Arial"/>
              </a:rPr>
              <a:t>attention.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4B7C-EF43-49DA-906A-51B919CE5CB3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B49EF-4DE9-409C-9114-81E6BA9E2AC8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14600" y="3925800"/>
                <a:ext cx="41911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71760" y="4611600"/>
                <a:ext cx="6486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d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1447920" y="3164040"/>
            <a:ext cx="5581080" cy="2615400"/>
            <a:chOff x="1447920" y="3164040"/>
            <a:chExt cx="5581080" cy="261540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447920" y="3164040"/>
                  <a:ext cx="3200400" cy="80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pSp>
          <p:nvGrpSpPr>
            <p:cNvPr id="106" name=""/>
            <p:cNvGrpSpPr/>
            <p:nvPr/>
          </p:nvGrpSpPr>
          <p:grpSpPr>
            <a:xfrm>
              <a:off x="1905480" y="5292720"/>
              <a:ext cx="5123520" cy="486720"/>
              <a:chOff x="1905480" y="5292720"/>
              <a:chExt cx="5123520" cy="486720"/>
            </a:xfrm>
          </p:grpSpPr>
          <p:sp>
            <p:nvSpPr>
              <p:cNvPr id="107" name=""/>
              <p:cNvSpPr/>
              <p:nvPr/>
            </p:nvSpPr>
            <p:spPr>
              <a:xfrm>
                <a:off x="1905480" y="5292720"/>
                <a:ext cx="87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where</a:t>
                </a:r>
                <a:endParaRPr b="0" lang="en-US" sz="20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" name=""/>
                  <p:cNvSpPr txBox="1"/>
                  <p:nvPr/>
                </p:nvSpPr>
                <p:spPr>
                  <a:xfrm>
                    <a:off x="2743200" y="5297040"/>
                    <a:ext cx="1687680" cy="482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9" name=""/>
              <p:cNvSpPr/>
              <p:nvPr/>
            </p:nvSpPr>
            <p:spPr>
              <a:xfrm>
                <a:off x="4342680" y="5297040"/>
                <a:ext cx="268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are individual weights.</a:t>
                </a:r>
                <a:endParaRPr b="0" lang="en-US" sz="20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682560" y="2743200"/>
            <a:ext cx="5641920" cy="398880"/>
            <a:chOff x="682560" y="2743200"/>
            <a:chExt cx="5641920" cy="39888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191120" y="2743200"/>
                  <a:ext cx="213336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:</m:t>
                      </m:r>
                      <m:r>
                        <m:t xml:space="preserve">A</m:t>
                      </m:r>
                      <m:r>
                        <m:t xml:space="preserve">×</m:t>
                      </m:r>
                      <m:r>
                        <m:t xml:space="preserve">B</m:t>
                      </m:r>
                      <m:r>
                        <m:t xml:space="preserve">→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682560" y="2743200"/>
              <a:ext cx="359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 define the overall distance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1960" y="2209680"/>
            <a:ext cx="8415720" cy="568440"/>
            <a:chOff x="381960" y="2209680"/>
            <a:chExt cx="8415720" cy="5684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87480" y="2209680"/>
                  <a:ext cx="419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A</m:t>
                      </m:r>
                      <m:r>
                        <m:t xml:space="preserve">×</m:t>
                      </m:r>
                      <m:r>
                        <m:t xml:space="preserve">B</m:t>
                      </m:r>
                      <m:r>
                        <m:t xml:space="preserve">→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381960" y="2286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77160" y="2286000"/>
              <a:ext cx="36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nent distance functions.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249240" y="2743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440" y="1133640"/>
            <a:ext cx="883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Calculation of distances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1217-1C8A-47BE-B008-23AC25BCC4A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E1744-F490-4732-B560-6EB2F6526BD9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218B-E867-4DDC-8A4B-271A0F090B35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37EE-EC41-4C66-BEAC-332DF507A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68360" y="2060640"/>
            <a:ext cx="84978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vex combination of the risks associated with </a:t>
            </a:r>
            <a:r>
              <a:rPr b="0" lang="de-DE" sz="2000" spc="-1" strike="noStrike">
                <a:solidFill>
                  <a:srgbClr val="cc0033"/>
                </a:solidFill>
                <a:latin typeface="Arial"/>
              </a:rPr>
              <a:t>scenarios 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cc0033"/>
                </a:solidFill>
                <a:latin typeface="Arial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cc0033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P</a:t>
            </a:r>
            <a:r>
              <a:rPr b="0" i="1" lang="de-DE" sz="2300" spc="-1" strike="noStrike" baseline="-25000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(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0" i="1" lang="de-DE" sz="2300" spc="-1" strike="noStrike" baseline="30000">
                <a:solidFill>
                  <a:srgbClr val="3366cc"/>
                </a:solidFill>
                <a:latin typeface="Arial"/>
              </a:rPr>
              <a:t>(i)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66cc"/>
                </a:solidFill>
                <a:latin typeface="Arial"/>
              </a:rPr>
              <a:t>disclosed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) := </a:t>
            </a:r>
            <a:r>
              <a:rPr b="0" i="1" lang="de-DE" sz="2300" spc="-1" strike="noStrike">
                <a:solidFill>
                  <a:srgbClr val="3366cc"/>
                </a:solidFill>
                <a:latin typeface="Symbol"/>
                <a:ea typeface="Symbol"/>
              </a:rPr>
              <a:t>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i="1" lang="de-DE" sz="2300" spc="-1" strike="noStrike">
                <a:solidFill>
                  <a:srgbClr val="3366cc"/>
                </a:solidFill>
                <a:latin typeface="Symbol"/>
                <a:ea typeface="Symbol"/>
              </a:rPr>
              <a:t>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 P</a:t>
            </a:r>
            <a:r>
              <a:rPr b="0" i="1" lang="de-DE" sz="2300" spc="-1" strike="noStrike" baseline="-25000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r>
              <a:rPr b="0" i="1" lang="de-DE" sz="2300" spc="-1" strike="noStrike" baseline="-25000">
                <a:solidFill>
                  <a:srgbClr val="3366cc"/>
                </a:solidFill>
                <a:latin typeface="Arial"/>
              </a:rPr>
              <a:t>,1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(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0" i="1" lang="de-DE" sz="2300" spc="-1" strike="noStrike" baseline="30000">
                <a:solidFill>
                  <a:srgbClr val="3366cc"/>
                </a:solidFill>
                <a:latin typeface="Arial"/>
              </a:rPr>
              <a:t>(i)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66cc"/>
                </a:solidFill>
                <a:latin typeface="Arial"/>
              </a:rPr>
              <a:t>disclosed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) + (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1-</a:t>
            </a:r>
            <a:r>
              <a:rPr b="0" i="1" lang="de-DE" sz="2300" spc="-1" strike="noStrike">
                <a:solidFill>
                  <a:srgbClr val="3366cc"/>
                </a:solidFill>
                <a:latin typeface="Symbol"/>
                <a:ea typeface="Symbol"/>
              </a:rPr>
              <a:t>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) </a:t>
            </a:r>
            <a:r>
              <a:rPr b="0" lang="de-DE" sz="2300" spc="-1" strike="noStrike">
                <a:solidFill>
                  <a:srgbClr val="3366cc"/>
                </a:solidFill>
                <a:latin typeface="Symbol"/>
                <a:ea typeface="Symbol"/>
              </a:rPr>
              <a:t>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P</a:t>
            </a:r>
            <a:r>
              <a:rPr b="0" i="1" lang="de-DE" sz="2300" spc="-1" strike="noStrike" baseline="-25000">
                <a:solidFill>
                  <a:srgbClr val="3366cc"/>
                </a:solidFill>
                <a:latin typeface="Symbol"/>
                <a:ea typeface="Symbol"/>
              </a:rPr>
              <a:t></a:t>
            </a:r>
            <a:r>
              <a:rPr b="0" i="1" lang="de-DE" sz="2300" spc="-1" strike="noStrike" baseline="-25000">
                <a:solidFill>
                  <a:srgbClr val="3366cc"/>
                </a:solidFill>
                <a:latin typeface="Arial"/>
              </a:rPr>
              <a:t>,2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(</a:t>
            </a:r>
            <a:r>
              <a:rPr b="0" i="1" lang="de-DE" sz="23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0" i="1" lang="de-DE" sz="2300" spc="-1" strike="noStrike" baseline="30000">
                <a:solidFill>
                  <a:srgbClr val="3366cc"/>
                </a:solidFill>
                <a:latin typeface="Arial"/>
              </a:rPr>
              <a:t>(i)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66cc"/>
                </a:solidFill>
                <a:latin typeface="Arial"/>
              </a:rPr>
              <a:t>disclosed</a:t>
            </a:r>
            <a:r>
              <a:rPr b="0" lang="de-DE" sz="2300" spc="-1" strike="noStrike">
                <a:solidFill>
                  <a:srgbClr val="3366cc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some given </a:t>
            </a: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[0, 1]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or instance </a:t>
            </a: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0,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risk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de-DE" sz="1800" spc="-1" strike="noStrike" baseline="-8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de-DE" sz="1800" spc="-1" strike="noStrike" baseline="-8000">
                <a:solidFill>
                  <a:srgbClr val="000000"/>
                </a:solidFill>
                <a:latin typeface="Arial"/>
              </a:rPr>
              <a:t>,2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(o(i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losed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 the average of the scenarios using the MARKUS-database and the German Turnover Tax Statistics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3120" y="1133640"/>
            <a:ext cx="8839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Combination of scenarios 1 and 2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15FB-8194-4E6E-8195-3AE89A4B8D71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1A8ED-8E23-4E71-828E-72A4C3E448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Hit rates (total)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93840" y="1217520"/>
            <a:ext cx="6021000" cy="5106600"/>
            <a:chOff x="1293840" y="1217520"/>
            <a:chExt cx="6021000" cy="5106600"/>
          </a:xfrm>
        </p:grpSpPr>
        <p:sp>
          <p:nvSpPr>
            <p:cNvPr id="337" name=""/>
            <p:cNvSpPr/>
            <p:nvPr/>
          </p:nvSpPr>
          <p:spPr>
            <a:xfrm>
              <a:off x="2793600" y="494892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8480" y="496296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496296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6760" y="496296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14400" y="5080680"/>
              <a:ext cx="550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828440" y="1626840"/>
              <a:ext cx="0" cy="34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6160" y="366948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76160" y="326088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76160" y="278460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160" y="230796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6160" y="189936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160" y="2103840"/>
              <a:ext cx="15084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05160" y="3941640"/>
              <a:ext cx="15084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5840" y="2035440"/>
              <a:ext cx="150840" cy="13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0560" y="2035440"/>
              <a:ext cx="15084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94920" y="35334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4920" y="1763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4920" y="2171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4920" y="2647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94920" y="3124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2880" y="5233680"/>
              <a:ext cx="105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raditionell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77640" y="523368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1G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04960" y="523548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21G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57040" y="521136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ormal</a:t>
              </a: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 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4920" y="12175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it rate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76160" y="421416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6160" y="46904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94920" y="40777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3840" y="4554360"/>
              <a:ext cx="32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MetaNormalLF-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04960" y="5711760"/>
              <a:ext cx="2133720" cy="61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etaNormalLF-Roman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BR9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  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BR3</a:t>
              </a:r>
              <a:r>
                <a:rPr b="0" lang="de-DE" sz="1800" spc="-1" strike="noStrike">
                  <a:solidFill>
                    <a:srgbClr val="000000"/>
                  </a:solidFill>
                  <a:latin typeface="MetaNormalLF-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657240" y="5983920"/>
              <a:ext cx="1143000" cy="135720"/>
              <a:chOff x="3657240" y="5983920"/>
              <a:chExt cx="1143000" cy="135720"/>
            </a:xfrm>
          </p:grpSpPr>
          <p:sp>
            <p:nvSpPr>
              <p:cNvPr id="368" name=""/>
              <p:cNvSpPr/>
              <p:nvPr/>
            </p:nvSpPr>
            <p:spPr>
              <a:xfrm>
                <a:off x="3657240" y="5983920"/>
                <a:ext cx="1508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47960" y="5983920"/>
                <a:ext cx="152280" cy="135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etaNormalLF-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590560" y="2920680"/>
              <a:ext cx="152280" cy="135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85840" y="2920680"/>
              <a:ext cx="152640" cy="135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160" y="4554360"/>
              <a:ext cx="152280" cy="135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4480" y="2988720"/>
              <a:ext cx="152280" cy="135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798D-4908-4C59-BAAC-8B43F53248FA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10F6F-7DF6-4755-B3FF-001F5E2AB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838080"/>
            <a:ext cx="86868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Risk of disclosure (</a:t>
            </a:r>
            <a:r>
              <a:rPr b="1" lang="de-DE" sz="3200" spc="-1" strike="noStrike">
                <a:solidFill>
                  <a:srgbClr val="666666"/>
                </a:solidFill>
                <a:latin typeface="Symbol"/>
                <a:ea typeface="Symbol"/>
              </a:rPr>
              <a:t></a:t>
            </a: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 = 5%)</a:t>
            </a:r>
            <a:br>
              <a:rPr sz="3200"/>
            </a:b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1" lang="de-DE" sz="2800" spc="-1" strike="noStrike">
                <a:solidFill>
                  <a:srgbClr val="666666"/>
                </a:solidFill>
                <a:latin typeface="Symbol"/>
                <a:ea typeface="Symbol"/>
              </a:rPr>
              <a:t>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= 35% -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4235400"/>
            <a:ext cx="158760" cy="11124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28880" y="5073480"/>
            <a:ext cx="180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0000" y="5073480"/>
            <a:ext cx="144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9320" y="5073480"/>
            <a:ext cx="144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38840" y="5073480"/>
            <a:ext cx="144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46920" y="5073480"/>
            <a:ext cx="144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5181480"/>
            <a:ext cx="5772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800360" y="2107800"/>
            <a:ext cx="1440" cy="307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1600" y="457056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41600" y="4065480"/>
            <a:ext cx="31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1600" y="350676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1600" y="294804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41600" y="244332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97600" y="2611440"/>
            <a:ext cx="15876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64000" y="3116160"/>
            <a:ext cx="158760" cy="1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97160" y="3562200"/>
            <a:ext cx="158760" cy="113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84720" y="4235400"/>
            <a:ext cx="158760" cy="11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2360" y="4738680"/>
            <a:ext cx="15876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88080" y="2611440"/>
            <a:ext cx="158760" cy="1126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26040" y="3171960"/>
            <a:ext cx="158760" cy="1108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17960" y="3730680"/>
            <a:ext cx="157320" cy="11124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43480" y="4290840"/>
            <a:ext cx="156960" cy="11124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3600" y="4794120"/>
            <a:ext cx="158760" cy="11124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59120" y="3675240"/>
            <a:ext cx="156960" cy="11088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38320" y="3171960"/>
            <a:ext cx="158760" cy="11088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16080" y="2668680"/>
            <a:ext cx="158760" cy="10944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35120" y="5667480"/>
            <a:ext cx="53136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MA1G3          MA1G9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21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Traditional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00360" y="4738680"/>
            <a:ext cx="158760" cy="11268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95360" y="2643120"/>
            <a:ext cx="158760" cy="11124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05240" y="3003480"/>
            <a:ext cx="158760" cy="1126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8760" y="3618000"/>
            <a:ext cx="158400" cy="1126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63920" y="4121280"/>
            <a:ext cx="157320" cy="11412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2360" y="4626000"/>
            <a:ext cx="158760" cy="1126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4160" y="46972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 1 Mio.</a:t>
            </a: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120" y="25718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gt; 1 Mrd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2800" y="30751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0200" y="36352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2280" y="4194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11480" y="5295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1960" y="5295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3880" y="5295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63920" y="5297400"/>
            <a:ext cx="5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52974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61720" y="182736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urnover size clas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69000" y="501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NormalLF-Roman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26320" y="5186520"/>
            <a:ext cx="180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257800" y="2133360"/>
            <a:ext cx="1440" cy="302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74640" y="3098880"/>
          <a:ext cx="6407280" cy="153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3098880"/>
                    <a:ext cx="640728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2616120" y="5848200"/>
            <a:ext cx="21744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16120" y="6075360"/>
            <a:ext cx="217440" cy="14112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6097680"/>
            <a:ext cx="216000" cy="14112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5816520"/>
            <a:ext cx="216000" cy="14292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5816520"/>
            <a:ext cx="160200" cy="117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74960" y="4737240"/>
            <a:ext cx="16020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5960" y="4213080"/>
            <a:ext cx="158760" cy="117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35160" y="3632040"/>
            <a:ext cx="16020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14720" y="3166920"/>
            <a:ext cx="160200" cy="114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55920" y="2643120"/>
            <a:ext cx="16020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EF4B-2C8A-4DD4-95F2-26A51ECA44F1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2A265-4491-432C-9256-74E43989F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286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Risk of disclosure (</a:t>
            </a:r>
            <a:r>
              <a:rPr b="1" lang="de-DE" sz="3200" spc="-1" strike="noStrike">
                <a:solidFill>
                  <a:srgbClr val="666666"/>
                </a:solidFill>
                <a:latin typeface="Symbol"/>
                <a:ea typeface="Symbol"/>
              </a:rPr>
              <a:t></a:t>
            </a: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 = 10%)</a:t>
            </a:r>
            <a:br>
              <a:rPr sz="3200"/>
            </a:b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1" lang="de-DE" sz="2800" spc="-1" strike="noStrike">
                <a:solidFill>
                  <a:srgbClr val="666666"/>
                </a:solidFill>
                <a:latin typeface="Symbol"/>
                <a:ea typeface="Symbol"/>
              </a:rPr>
              <a:t></a:t>
            </a:r>
            <a:r>
              <a:rPr b="1" lang="de-DE" sz="2800" spc="-1" strike="noStrike">
                <a:solidFill>
                  <a:srgbClr val="666666"/>
                </a:solidFill>
                <a:latin typeface="Arial"/>
              </a:rPr>
              <a:t> = 35% -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71760" y="4118040"/>
            <a:ext cx="158760" cy="11412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27480" y="4989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81480" y="4989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32240" y="4989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43560" y="4989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53440" y="4989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95360" y="5103720"/>
            <a:ext cx="579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95360" y="1987560"/>
            <a:ext cx="0" cy="31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6600" y="44816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6600" y="39686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6600" y="34020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6600" y="28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6600" y="23274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02320" y="2495520"/>
            <a:ext cx="1587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23080" y="2998800"/>
            <a:ext cx="15876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99000" y="3459240"/>
            <a:ext cx="15876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4140360"/>
            <a:ext cx="15876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90960" y="4649760"/>
            <a:ext cx="1587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62520" y="2468520"/>
            <a:ext cx="158760" cy="1144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62520" y="3059280"/>
            <a:ext cx="158760" cy="1126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18000" y="3630600"/>
            <a:ext cx="158760" cy="1126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43520" y="4197240"/>
            <a:ext cx="156960" cy="1126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32200" y="4707000"/>
            <a:ext cx="158760" cy="11412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52760" y="3529080"/>
            <a:ext cx="158760" cy="11412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31960" y="3059280"/>
            <a:ext cx="158760" cy="11268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12960" y="2529000"/>
            <a:ext cx="158760" cy="11088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90760" y="4648320"/>
            <a:ext cx="158760" cy="11412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52760" y="2529000"/>
            <a:ext cx="158760" cy="1108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08520" y="2894040"/>
            <a:ext cx="158760" cy="1126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40240" y="3517920"/>
            <a:ext cx="158760" cy="1126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4025880"/>
            <a:ext cx="158760" cy="1144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90960" y="4537080"/>
            <a:ext cx="158760" cy="1126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4840" y="45705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 1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04480" y="241776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gt; 1 Mrd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6360" y="2930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5560" y="34956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85840" y="40622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Mio. €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18000" y="5214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06680" y="5214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95360" y="5214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5216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11400" y="5216400"/>
            <a:ext cx="6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57080" y="170172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urnover size class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92800" y="494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etaNormalLF-Roman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50120" y="5119560"/>
            <a:ext cx="0" cy="5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791320" y="2057400"/>
            <a:ext cx="0" cy="3062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12960" y="5532480"/>
            <a:ext cx="5400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MA1G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MA1G9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21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ditional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79560" y="5691240"/>
            <a:ext cx="2178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92520" y="5946840"/>
            <a:ext cx="217440" cy="14112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94160" y="5970600"/>
            <a:ext cx="217800" cy="14292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4160" y="5691240"/>
            <a:ext cx="217800" cy="14292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47000" y="5691240"/>
            <a:ext cx="160200" cy="117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52760" y="4648320"/>
            <a:ext cx="160200" cy="118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31960" y="4118040"/>
            <a:ext cx="160560" cy="117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12960" y="3529080"/>
            <a:ext cx="160560" cy="119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33720" y="3059280"/>
            <a:ext cx="160200" cy="117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3480" y="2529000"/>
            <a:ext cx="162000" cy="117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102D-4C97-414F-9811-F9050C74C12A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534A8-7EBD-4FC7-B878-E5742A9D9E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5760" y="2209680"/>
            <a:ext cx="2895480" cy="179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29600" y="220968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 calculate distanc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627960" y="2209680"/>
                <a:ext cx="990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97000" y="1133640"/>
            <a:ext cx="883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120" y="1143000"/>
            <a:ext cx="8839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Linear Assignment Problem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2120" y="2666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obtain: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8040" y="2666880"/>
            <a:ext cx="2514600" cy="914400"/>
            <a:chOff x="608040" y="2666880"/>
            <a:chExt cx="2514600" cy="914400"/>
          </a:xfrm>
        </p:grpSpPr>
        <p:sp>
          <p:nvSpPr>
            <p:cNvPr id="126" name=""/>
            <p:cNvSpPr/>
            <p:nvPr/>
          </p:nvSpPr>
          <p:spPr>
            <a:xfrm>
              <a:off x="608040" y="2666880"/>
              <a:ext cx="0" cy="91440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6480" y="2666880"/>
              <a:ext cx="0" cy="91440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4560" y="2666880"/>
              <a:ext cx="0" cy="91440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2640" y="2666880"/>
              <a:ext cx="0" cy="91440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8FBC-E31A-45E8-B9CB-B0416F4CDAD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8CF5-E03D-44D9-8B56-C7BE0FFE965E}" type="datetime1">
              <a:rPr lang="en-US"/>
              <a:t>07/30/26</a:t>
            </a:fld>
          </a:p>
        </p:txBody>
      </p: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29600" y="220968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 calculate distance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627960" y="2209680"/>
                <a:ext cx="990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3809160" y="2971800"/>
            <a:ext cx="5027040" cy="2844720"/>
            <a:chOff x="3809160" y="2971800"/>
            <a:chExt cx="5027040" cy="2844720"/>
          </a:xfrm>
        </p:grpSpPr>
        <p:sp>
          <p:nvSpPr>
            <p:cNvPr id="133" name=""/>
            <p:cNvSpPr/>
            <p:nvPr/>
          </p:nvSpPr>
          <p:spPr>
            <a:xfrm>
              <a:off x="4037760" y="32004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AP)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3920" y="320040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inimize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6211800" y="2971800"/>
                  <a:ext cx="197496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/>
                      </m:nary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</m:nary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3809160" y="38098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.t.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4968720" y="3809880"/>
                  <a:ext cx="311976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∈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4646520" y="4267080"/>
                  <a:ext cx="348300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722840" y="5029200"/>
                  <a:ext cx="34592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8228160" y="44197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000" y="1133640"/>
            <a:ext cx="883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3120" y="1143000"/>
            <a:ext cx="8839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Linear Assignment Problem (AP)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2120" y="2666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obtain: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5760" y="2209680"/>
            <a:ext cx="2895480" cy="17989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63480" y="2666880"/>
            <a:ext cx="2401200" cy="914400"/>
            <a:chOff x="663480" y="2666880"/>
            <a:chExt cx="2401200" cy="914400"/>
          </a:xfrm>
        </p:grpSpPr>
        <p:sp>
          <p:nvSpPr>
            <p:cNvPr id="146" name=""/>
            <p:cNvSpPr/>
            <p:nvPr/>
          </p:nvSpPr>
          <p:spPr>
            <a:xfrm flipH="1">
              <a:off x="1512000" y="2675880"/>
              <a:ext cx="708840" cy="89640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63480" y="2684160"/>
              <a:ext cx="729720" cy="87984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345040" y="2680200"/>
              <a:ext cx="719640" cy="88776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666880"/>
              <a:ext cx="2362320" cy="914400"/>
            </a:xfrm>
            <a:prstGeom prst="line">
              <a:avLst/>
            </a:prstGeom>
            <a:ln w="50760">
              <a:solidFill>
                <a:srgbClr val="cc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8A02-8587-4489-A037-42EBAEEC040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D284F-E42C-4DE1-844C-B56927592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Benefit from re-identification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1337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 = (a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 a record of the target data and               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o = (o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 the corresponding record of the original data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88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52480" y="3276720"/>
                <a:ext cx="365760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14400" y="50292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lds for some pregiven threshold</a:t>
            </a:r>
            <a:r>
              <a:rPr b="0" lang="de-DE" sz="2000" spc="-1" strike="noStrike">
                <a:solidFill>
                  <a:srgbClr val="cc0033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the valu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de-DE" sz="2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 interpreted as „useful“ information for the data intruder.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88D9-CF95-4B3A-993E-E21D8D08DC2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C338D-9E03-4157-87A0-765E43219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236232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 the set of re-identified records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 define 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87320" y="3962520"/>
                <a:ext cx="7594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isclosed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Estimation of the disclosure risk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0292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risk associated with the disclosure of an information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4905-6DB4-4DA5-9E6E-F6B4FA32BD1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61086-29D5-4B89-8F1E-A59D27932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2421000"/>
            <a:ext cx="7696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tulatio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target dat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 defined to be sufficient anonymised, if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de-DE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i="1" lang="de-DE" sz="4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 disclosed) &lt; </a:t>
            </a:r>
            <a:r>
              <a:rPr b="0" i="1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lds for some upper bound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[0,1].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440" y="1133640"/>
            <a:ext cx="8277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Arial"/>
              </a:rPr>
              <a:t>Upper bound for the disclosure risk 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5AE9-3D70-4276-ABD6-23CB59B6606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2C08D-0ED0-4ACE-938E-840195E4D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9:32:48Z</dcterms:created>
  <dc:creator>neeb-c</dc:creator>
  <dc:description/>
  <dc:language>en-US</dc:language>
  <cp:lastModifiedBy>Lenz-R</cp:lastModifiedBy>
  <cp:lastPrinted>2004-06-04T07:03:30Z</cp:lastPrinted>
  <dcterms:modified xsi:type="dcterms:W3CDTF">2005-11-03T09:05:13Z</dcterms:modified>
  <cp:revision>82</cp:revision>
  <dc:subject/>
  <dc:title>Kein Folientitel</dc:title>
</cp:coreProperties>
</file>