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298-691B-4FEB-A4DF-F6876CA7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1625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702320"/>
            <a:ext cx="71625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F9D-C62D-46C9-A6EC-80FB97D0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70232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8480" y="470232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8F2-0EBB-4F8D-9AE5-F8C67392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9640" y="342864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1720" y="342864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70232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9640" y="470232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1720" y="470232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617-761F-4047-84F5-CF91EDF3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98F7-A963-46AF-A918-88EDA169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337D-ADE7-4A18-AA73-5D3A75D4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BC11-CDF3-4A80-A87C-3E226546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65DA-DECA-4365-8052-9DBFA4F6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428F-0760-45CE-832B-B766336D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71625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04C5-4EA5-41E2-9907-F055C084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470232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B8B0-170B-448B-878E-497332F4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F82-BAE4-4B49-BE56-482FB6FF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8480" y="470232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E5B0-05C3-4500-9182-360A3B61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702320"/>
            <a:ext cx="71625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CEB5-5DA0-4A19-9FE0-92E58D81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1625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4702320"/>
            <a:ext cx="71625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B044-8BAF-4BE8-AD76-54355FDE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470232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8480" y="470232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9D6E-DE4C-4137-81C6-89C809BA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9640" y="342864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91720" y="342864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470232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69640" y="470232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91720" y="4702320"/>
            <a:ext cx="23061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8351-003A-4F7D-91C1-2DF8E03F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C057-FC01-46F3-AE28-FC8C541D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DD3-A51F-4D4F-87A2-6A89CF07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0F8-1747-4214-8E46-96A631C0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71625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D15-E0EF-4C2F-AFD0-916674D2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70232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010-43FA-4A9F-A6B6-740902F0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8480" y="470232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8F5-F08A-47A6-BA67-AABE6153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8480" y="3428640"/>
            <a:ext cx="349524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702320"/>
            <a:ext cx="7162560" cy="11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264-1A45-46DE-9EAA-640A3852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0" y="65163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8840" y="6516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6505560"/>
            <a:ext cx="469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9866-BE00-4905-9727-12039F196271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owerpointTopp_E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23852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267080" y="64771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6D25-7826-48D3-A444-BD4DE5CCEB64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53416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CB5B-4184-470B-AAF6-0B85D84550B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owerpointTopp_E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33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br.org/" TargetMode="External"/><Relationship Id="rId2" Type="http://schemas.openxmlformats.org/officeDocument/2006/relationships/hyperlink" Target="http://www.ebr.org/" TargetMode="External"/><Relationship Id="rId3" Type="http://schemas.openxmlformats.org/officeDocument/2006/relationships/hyperlink" Target="http://www.ebr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3399"/>
                </a:solidFill>
                <a:latin typeface="TimesNewRoman,Bold"/>
                <a:ea typeface="Times New Roman"/>
              </a:rPr>
              <a:t>Estimated record level risk for the CVTS 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Liv Belsby and Stuart McAllister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Times New Roman"/>
              </a:rPr>
              <a:t>Statistics Norway and Euro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3872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5382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Goal was to assess the anonymi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nonymisation  was agreed on by  Eurostat and the National Statistical In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 based the assessment on 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cord level risk</a:t>
            </a:r>
            <a:r>
              <a:rPr b="0" lang="nb-NO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5382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truder scenario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CE, number of employees and involved in take over or not are used as identifying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ossible external information source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uropean Business Registers (Internet site </a:t>
            </a:r>
            <a:r>
              <a:rPr b="0" lang="en-GB" sz="2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  <a:hlinkClick r:id="rId1"/>
              </a:rPr>
              <a:t>www.</a:t>
            </a:r>
            <a:r>
              <a:rPr b="0" lang="en-GB" sz="2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  <a:hlinkClick r:id="rId2"/>
              </a:rPr>
              <a:t>ebr</a:t>
            </a:r>
            <a:r>
              <a:rPr b="0" lang="en-GB" sz="2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  <a:hlinkClick r:id="rId3"/>
              </a:rPr>
              <a:t>.org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)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s Belgium, Austria, Denmark, Estonia, Finland, France, Germany, Greece, Ireland, Italy, Latvia, Norway, Spain and Sweden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80880" y="5943600"/>
            <a:ext cx="5382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stimation</a:t>
            </a: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total number of companies within each stratum defined by NACE and size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say 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superpopulation model assu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total number with id. var. NACE, size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ke over or  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(s,i), i equals 0 or 1,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or E(1/N(s,i) | sample data, N(s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mpanies, which are not in the sample: N(s) – n(s)  binomial distributed – outcome involved in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ke over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538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Norway</a:t>
            </a:r>
            <a:br>
              <a:rPr sz="3200"/>
            </a:br>
            <a:br>
              <a:rPr sz="32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Identifying 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variables:</a:t>
            </a:r>
            <a:br>
              <a:rPr sz="1800"/>
            </a:b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NACE,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size &amp; 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take over or no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 NACE &amp; siz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0560" y="-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0" name="NO" descr=""/>
          <p:cNvPicPr/>
          <p:nvPr/>
        </p:nvPicPr>
        <p:blipFill>
          <a:blip r:embed="rId1"/>
          <a:stretch/>
        </p:blipFill>
        <p:spPr>
          <a:xfrm>
            <a:off x="1676520" y="-304920"/>
            <a:ext cx="5762520" cy="7715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5382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Spain</a:t>
            </a:r>
            <a:br>
              <a:rPr sz="3200"/>
            </a:br>
            <a:br>
              <a:rPr sz="32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Identifying 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variables:</a:t>
            </a:r>
            <a:br>
              <a:rPr sz="1800"/>
            </a:b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NACE,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size &amp; 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take over or no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NACE &amp;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siz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0560" y="-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4" name="ES" descr=""/>
          <p:cNvPicPr/>
          <p:nvPr/>
        </p:nvPicPr>
        <p:blipFill>
          <a:blip r:embed="rId1"/>
          <a:stretch/>
        </p:blipFill>
        <p:spPr>
          <a:xfrm>
            <a:off x="1676520" y="-228600"/>
            <a:ext cx="5762520" cy="7715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520" y="6019920"/>
            <a:ext cx="538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UK</a:t>
            </a:r>
            <a:br>
              <a:rPr sz="1800"/>
            </a:b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Identifying 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variables:</a:t>
            </a:r>
            <a:br>
              <a:rPr sz="1800"/>
            </a:b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NACE,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size &amp; 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take over or no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NACE &amp; </a:t>
            </a:r>
            <a:br>
              <a:rPr sz="1800"/>
            </a:br>
            <a:r>
              <a:rPr b="1" lang="nb-NO" sz="1800" spc="-1" strike="noStrike">
                <a:solidFill>
                  <a:srgbClr val="003399"/>
                </a:solidFill>
                <a:latin typeface="Arial"/>
              </a:rPr>
              <a:t>siz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0560" y="-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8" name="UK" descr=""/>
          <p:cNvPicPr/>
          <p:nvPr/>
        </p:nvPicPr>
        <p:blipFill>
          <a:blip r:embed="rId1"/>
          <a:stretch/>
        </p:blipFill>
        <p:spPr>
          <a:xfrm>
            <a:off x="2057400" y="-228600"/>
            <a:ext cx="5762520" cy="7715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5382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800" spc="-1" strike="noStrike">
                <a:solidFill>
                  <a:srgbClr val="003399"/>
                </a:solidFill>
                <a:latin typeface="Arial"/>
              </a:rPr>
              <a:t>Conclusion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ome further anonymisation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5382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v Belsby</cp:lastModifiedBy>
  <dcterms:modified xsi:type="dcterms:W3CDTF">2005-11-01T12:39:46Z</dcterms:modified>
  <cp:revision>14</cp:revision>
  <dc:subject/>
  <dc:title>PowerPoint Presentation</dc:title>
</cp:coreProperties>
</file>