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F61-D366-4044-A7AA-B8F8A4FA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5DD-1CF8-445B-B789-CD99C688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54E-560C-4848-B297-ED38ECD0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964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17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964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17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78A-DE61-4769-8FE9-95342B0B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8FF-B986-40EA-A696-941C1A1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9FC5-6BC1-4C98-BC95-571DA4C9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F2B5-6EAF-4CF0-941A-D965AECC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062-2FCD-4865-B79D-02F4896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B242-38AB-42FA-BEA9-DB7258A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162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9FB-28CB-4A44-AB76-9338310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767D-AD81-491B-AF0D-E6BB514E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9D1-BF6F-4326-B2AE-484D835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9E8-9F61-4825-9DAB-8C958322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079-AAA6-40A7-83C1-FCFF7EF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45E-394D-4B01-BE20-77856687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9C97-F398-4DA0-B88E-A486A7A8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964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917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6964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917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9443-F16B-4368-B7C7-2EF19CAD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23B-4096-403F-BB87-58872B4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4F4-3F39-4442-BD0F-A3E88D7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CD9-A2E0-4913-BF1E-AAF70107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162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29D-6602-4BC8-84FF-81FDFB7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2FD-8347-4C54-BE27-BEE47DE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AA6-22CB-49E1-9964-A427568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79D-C12A-40EB-8305-AF04259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89F-92F6-42F6-9FBC-26592BB4524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owerpointTopp_E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6A0F-C961-4EE6-9FF9-44FDEB7C2F2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3B1-59E1-4798-A2FC-5C309238B47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owerpointTopp_E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br.org/" TargetMode="External"/><Relationship Id="rId2" Type="http://schemas.openxmlformats.org/officeDocument/2006/relationships/hyperlink" Target="http://www.ebr.org/" TargetMode="External"/><Relationship Id="rId3" Type="http://schemas.openxmlformats.org/officeDocument/2006/relationships/hyperlink" Target="http://www.ebr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99"/>
                </a:solidFill>
                <a:latin typeface="TimesNewRoman,Bold"/>
                <a:ea typeface="Times New Roman"/>
              </a:rPr>
              <a:t>Estimated record level risk for the CVTS 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Liv Belsby and Stuart McAllister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Statistics Norway and Euro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al was to assess the anonym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onymisation  was agreed on by  Eurostat and the National Statistical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based the assessment on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ord level risk</a:t>
            </a:r>
            <a:r>
              <a:rPr b="0" lang="nb-NO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ruder scenario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CE, number of employees and involved in take over or not are used as identify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ossible external information source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uropean Business Registers (Internet site 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1"/>
              </a:rPr>
              <a:t>www.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2"/>
              </a:rPr>
              <a:t>ebr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3"/>
              </a:rPr>
              <a:t>.or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Belgium, Austria, Denmark, Estonia, Finland, France, Germany, Greece, Ireland, Italy, Latvia, Norway, Spain and Swede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stimation</a:t>
            </a: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otal number of companies within each stratum defined by NACE and siz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ay 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superpopulation model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otal number with id. var. NACE, size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over or  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(s,i), i equals 0 or 1,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or E(1/N(s,i) | sample data, N(s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anies, which are not in the sample: N(s) – n(s)  binomial distributed – outcome involved in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over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538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Norway</a:t>
            </a:r>
            <a:br>
              <a:rPr sz="3200"/>
            </a:br>
            <a:br>
              <a:rPr sz="32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 NACE &amp; siz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0" name="NO" descr=""/>
          <p:cNvPicPr/>
          <p:nvPr/>
        </p:nvPicPr>
        <p:blipFill>
          <a:blip r:embed="rId1"/>
          <a:stretch/>
        </p:blipFill>
        <p:spPr>
          <a:xfrm>
            <a:off x="1676520" y="-304920"/>
            <a:ext cx="5762520" cy="771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Spain</a:t>
            </a:r>
            <a:br>
              <a:rPr sz="3200"/>
            </a:br>
            <a:br>
              <a:rPr sz="32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 &amp;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4" name="ES" descr=""/>
          <p:cNvPicPr/>
          <p:nvPr/>
        </p:nvPicPr>
        <p:blipFill>
          <a:blip r:embed="rId1"/>
          <a:stretch/>
        </p:blipFill>
        <p:spPr>
          <a:xfrm>
            <a:off x="1676520" y="-228600"/>
            <a:ext cx="5762520" cy="771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538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UK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8" name="UK" descr=""/>
          <p:cNvPicPr/>
          <p:nvPr/>
        </p:nvPicPr>
        <p:blipFill>
          <a:blip r:embed="rId1"/>
          <a:stretch/>
        </p:blipFill>
        <p:spPr>
          <a:xfrm>
            <a:off x="2057400" y="-228600"/>
            <a:ext cx="5762520" cy="7715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8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me further anonymis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 Belsby</cp:lastModifiedBy>
  <dcterms:modified xsi:type="dcterms:W3CDTF">2005-11-01T12:39:46Z</dcterms:modified>
  <cp:revision>14</cp:revision>
  <dc:subject/>
  <dc:title>PowerPoint Presentation</dc:title>
</cp:coreProperties>
</file>