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36-3CC8-435C-8FA4-F1FC1EFF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838-1D24-40F7-8D90-7B219DE3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E1D-7AFB-4B28-9992-9E76BDAB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52F-EDA7-43E5-89FA-16B4129B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812C-8978-4D41-8637-C7E895B1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FB5-5E3F-4C2D-8536-846E9B7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BEB4-BE66-4D3A-951A-B7F10550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A8B6-6107-45FD-A04A-0701350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3901-0FE2-4E10-9660-61CF8EF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C0F6-060C-45A1-9361-955867D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EA3-384D-48B4-8D5F-C9EBBF0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806-629D-405F-A6FB-9FECBAD3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EAC4-AC35-4E98-BDC1-1DEF1199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0A61-7090-41F8-9B07-B11A01A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A82-AF2C-40F3-BA58-F99E095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26D-89F7-464D-BC09-3A73A5E0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D30E-638E-4F34-BAF8-4A581245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7FA-E22B-4749-A02F-B857CDD2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CD4-D51A-40D9-89E6-898AF1DA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BC9-009A-401B-91EA-025AE4B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BFE-AFBE-45FB-850E-B45E62C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23C-97AE-4D92-8EC1-025E440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191-B4DB-40C4-B815-4FFD0183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025-8AA9-4F2B-94D8-B7FA7EB3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360" y="6237000"/>
            <a:ext cx="3743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9F1D-0634-432B-91EA-7FA0F0DCF6A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7DDD-849B-4996-ABD6-CCD12C025A5C}" type="slidenum"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05520"/>
            <a:ext cx="78487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onymisation of the EU-SILC database: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ult of the work of the EU-SILC TF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933360"/>
            <a:ext cx="792468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Jean-Marc Museux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The Statistical Office of the European Communities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nit F3: Living conditions and social protection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Jean-Marc.Museux@cec.eu.int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nonymisation – Main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mon disclosure/attacker scenarios for EU purpo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easures of ris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ierarchical files (household and individual level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ngitudinal aspec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ross sectional and longitudinal files match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ampling design inform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gister match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ethods of prote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on disclosure/attacker scenario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road band approach considering combinations of 3 types of identifying/key variab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2880" y="3872520"/>
            <a:ext cx="7526160" cy="1793520"/>
            <a:chOff x="812880" y="3872520"/>
            <a:chExt cx="7526160" cy="1793520"/>
          </a:xfrm>
        </p:grpSpPr>
        <p:cxnSp>
          <p:nvCxnSpPr>
            <p:cNvPr id="110" name="_s202800"/>
            <p:cNvCxnSpPr>
              <a:stCxn id="111" idx="0"/>
              <a:endCxn id="112" idx="2"/>
            </p:cNvCxnSpPr>
            <p:nvPr/>
          </p:nvCxnSpPr>
          <p:spPr>
            <a:xfrm flipV="1">
              <a:off x="4576680" y="4828320"/>
              <a:ext cx="1800" cy="17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02801"/>
            <p:cNvCxnSpPr>
              <a:stCxn id="112" idx="0"/>
              <a:endCxn id="114" idx="2"/>
            </p:cNvCxnSpPr>
            <p:nvPr/>
          </p:nvCxnSpPr>
          <p:spPr>
            <a:xfrm flipV="1">
              <a:off x="4576680" y="4311360"/>
              <a:ext cx="1800" cy="17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4" name="_s202802"/>
            <p:cNvSpPr/>
            <p:nvPr/>
          </p:nvSpPr>
          <p:spPr>
            <a:xfrm>
              <a:off x="2684520" y="3872520"/>
              <a:ext cx="3783600" cy="4384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</a:rPr>
                <a:t>Geographic information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202803"/>
            <p:cNvSpPr/>
            <p:nvPr/>
          </p:nvSpPr>
          <p:spPr>
            <a:xfrm>
              <a:off x="4086360" y="4491720"/>
              <a:ext cx="979560" cy="3366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</a:rPr>
                <a:t>Sex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202804"/>
            <p:cNvSpPr/>
            <p:nvPr/>
          </p:nvSpPr>
          <p:spPr>
            <a:xfrm>
              <a:off x="812880" y="5009040"/>
              <a:ext cx="7526160" cy="657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Age | Activity | Education | Dwelling | Marital Status | Citizenship | Place of Birth</a:t>
              </a:r>
              <a:br>
                <a:rPr sz="1700"/>
              </a:b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Economic status | Employment | Sector of activity | Household size | Household typ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on EU disclosure/attacker scenari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3 additional and more complex attacker scenarios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U1  (Simple attack with HH information (individual and household level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GION  x  SEX  x  YEAR OF BIRTH  x  MARITAL STATUS  x  HH SIZE x HH TYP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U2 (Nosy neighbour individual attack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GION  x  URBANISATION  x  SEX  x  DATE OF BIRTH  x  BASIC ACTIVITY STATUS  x  BATH OR SHOWER x  DO YOU HAVE A CAR?  x  EDUCATION  x  OCCUPATION x  SECTOR OF ACTIVITY  x HH SIZE x HH TYPE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U3 (Occupational group address book individual attack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GION  x  URBANISATION  x  SEX  x  DATE OF BIRTH x EMPLOYMENT STATUS  x  OCCUPATION x  SECTOR OF ACTIVITY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asure of risk and threshol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r broad band approach, thresholds are expressed in sample frequencies (heuristic developed by CBS-NL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4114800"/>
          <a:ext cx="7846920" cy="1981080"/>
        </p:xfrm>
        <a:graphic>
          <a:graphicData uri="http://schemas.openxmlformats.org/drawingml/2006/table">
            <a:tbl>
              <a:tblPr/>
              <a:tblGrid>
                <a:gridCol w="2616120"/>
                <a:gridCol w="2614680"/>
                <a:gridCol w="26161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mpling fraction :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unt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reshold = int (1+114 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/50 – 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U (f=2.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/100 – 1/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T, IS, 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/200 – 1/1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E, 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&lt; 1/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ll other 21 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Measure of risk and threshold for more complex scenar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robability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of a correct match based the key variables between survey database and the attacker’s databa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easure developed by Benedetti and Franconi and available in Mu-Argu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akes into account the hierarchical structure of the files : individuals/household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In practice, due to software limitation, only six variables are handled simultaneously and various combinations using subset of key variables are teste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erarchical structure of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ousehold and individual information are collected in EU-SIL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ousehold and individual records share common identifiers (linkabl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ssibility of linkage is required for many statistical studi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d risk of disclosure: individual information can be disclosed through household information and vice vers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Measure of risk and threshol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 addition, external information on population uniques (ONS) is used to cross check protection measures (for instance, 5+ households with age, sex of its members are often population unique up to high level of geographic aggregation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ongitudinal da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he follow up of individuals through time generates rare transitions in some key variab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hese transitions are potentially disclosive if attacker database is updated with the same frequenc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rresponding risk is not easily estimate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ing of longitudinal and cross sectional data fi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r rotational panel and pure panel designs, the longitudinal and cross sectional files can be matched on the basis of common variabl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Sampling design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esign weights and strata identifiers are potentially disclosive because correlated with disaggregated geographical inform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Register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Few variables (income components) in EU-SILC are obtained directly from regis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he availability of register to attackers is limited except in rare situation (Income Register Norway and Tax register in Finland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Methodological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ethods of protec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Global/ top recod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Usability of the databa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Requires arbitrage between variab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Local suppress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May render uneasy statistical analysi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Only if allow significant gain in global recoding of secondary variab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U-SILC Task Force on Anonymis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U-SILC instrument and databa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Methodological iss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Implement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cc"/>
                </a:solidFill>
                <a:latin typeface="Tahoma"/>
              </a:rPr>
              <a:t>Experiment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Tahoma"/>
              </a:rPr>
              <a:t>Level of recoding significantly decreasing disclosure ris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Geographic information needs to be coarsened depending on the size of the country (For large countries, NUTS1 and degree of urbanisation could be released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Country of birth and Citizenship should be coarsened in 4 broad categorie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Age can be delivered in years but must be top coded (80+).  This avoids the difficulty of ensuring coherence of protection of longitudinal and cross sectional dat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Number of rooms must be top coded (5+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ISCED levels 5 and 6 must be regroupe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NACE is regrouped at 19 level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ISCO 2 digit code can be release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maining risk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dentification of large households remai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Rare transition in longitudinal da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ampling design inform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pecific national circumstan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earcher need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Household structur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Longitudinal data for longitudinal analysi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Design information for proper inference (not only variable but causal model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Harmonisation and flexibil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CHP experien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Large dissemination in research community under license relea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Less prote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o observed breach of confidentialit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 EU-SILC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veloping a responsible management of risk through controlled release and possibly audit provision and follow u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urostat approac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mon  rules for anonymisation of national databas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idual flexibility is allowed to adapt to national situations following national assessment according to common standards (measure of risk and thresholds, …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onymisation is a matter of trade off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mong national perception of disclosure ris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Between right for privacy and researcher ne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Between presence of risk and monitoring of ris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alue added of EU-SILC TF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se trade off have been debated and made explici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-SILC Task Force on Anonymisation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To come up with best practices and recommendations for anonymisation of EU-SILC databas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B. Benard (Eurostat), L. Coppola (Istat), P. Feuvrier (INSEE), Ph. Gublin/J. Longhurst (ONS), N. Jukic (Stat of Slovenia), H. Minkel (Destatis), JM Museux (Eurostat), E. Schulte Nordholt (CBS), H. Sauli (Stat Fi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-SILC instrument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ment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gathering ex post harmonised micro dat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on income and living conditions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from 27 European St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gulatory framewor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armonised definitio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nimum methodological requirements (probability sampling, fieldwork, …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ethodological recommendatio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in source for EU (income) poverty indicato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-SILC instrument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ome (Canberra recommendation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bour statu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ving conditions – housing – deprivation - heal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surement uni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useholds and individua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-SILC instrument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ual cross sectional data from 2004 onward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households and individual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ngitudinal data (subset of individual variables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imum 3 years spell (4 wave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 under the responsibility of EU+ National Statistical Institu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otational design, pure panel or independent component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rvey data and/or register dat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lease polic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Interest of the databa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ocial and employment policy monitoring (EU Commission services and Study centre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ocial research (Universities, Research centre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gal iss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u legislation allows for micro data release for scientific purpo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icro data have to be anonymised in order to minimise the risk of disclosure of individual inform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U-SILC regulation plans scientific release according to a strict timetab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Release policy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urostat main orienta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ight for information collected with public mone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ximise utility of data collected and social return of money invested (20 Mo € /year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gnificant improvement of the quality through user feedbac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ncrypted CD-ROM with anonymised EU-SILC database released under licence to research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entralised (Luxembourg) Safe Centre with limited capa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centralised access under stud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emote access not yet develope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nonymisation – Main issu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terogeneous environment in EU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fferent perceptions of disclosure ris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 one European best practi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arious implementations of merely the same common principl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gnificant variations of disclosure risk (i.e. Norwegian income register available on Web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armonisation of procedures in order to ease international comparis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stat - UNECE worksess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eneva - Nov.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6T13:56:12Z</dcterms:created>
  <dc:creator>Museux Jean-Marc</dc:creator>
  <dc:description/>
  <dc:language>en-US</dc:language>
  <cp:lastModifiedBy>eurostat</cp:lastModifiedBy>
  <cp:lastPrinted>1999-01-27T11:10:12Z</cp:lastPrinted>
  <dcterms:modified xsi:type="dcterms:W3CDTF">2000-01-19T21:18:43Z</dcterms:modified>
  <cp:revision>139</cp:revision>
  <dc:subject/>
  <dc:title>EU-SILC anonymisation - Symposium 2005 -Statcan </dc:title>
</cp:coreProperties>
</file>