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41D1-8640-4162-9DF2-60B883534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6B7F-EE45-485F-89F4-81B2BF44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8E1D-035B-45DF-AC64-5092254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B36E-B7F4-432C-9CAB-675EC864F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DF61-DEC4-4334-9EAD-E1470FA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E759-9AE6-4C83-BEBB-9D99D6A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FA78-42FB-485D-8138-3A3CBAAE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E11C-1B86-41C6-B001-D8E0D934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2B2D-A438-486F-B95C-98425EB4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D814-32B8-4212-B3E1-05536839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E8A1-318A-4BE5-9584-AAAFC2FD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D2B9-46C5-432F-AE7F-F402DBF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6F3-C596-4651-B88C-65EFB490E274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From On-site to Remote Data Acc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s Borchsen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s Den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oken – RSA SecurI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23540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50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Output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searchers are not allowed to print individual records and cannot download the bas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utput with statistical results is forwarded b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utput is checked by SD manu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Latest develop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remote access arrangement are now the dominant mode of access to micr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on-site arrangement has been closed down during 2004 except from a few workplaces for foreign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onsiderable growth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: 2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: 71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: 151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: 250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: 300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Phas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survey- to registerbase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968: The Pers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mid-1980s increased interest in micro data for research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-site arrangement in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mote access arrangement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he Organisational Framework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ata for research are handled by a special Research Services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2 employees (7 academics, 4 computer specialists, 1 secret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Grant from the Ministry of Research 800,000 Euro pr. year in the period 2002-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mall branch in Århus, Ju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The Research Service Uni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ministration of the remote acces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ministrative work concerning authorizations, contra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ordinating data fro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divisions i Statistics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puter related work. Updating research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visory role – new and ol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Vision</a:t>
            </a: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nmark should be one of the World´s leading countries within registerbas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Research Databas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pecial microdata set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duc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pecial research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abour Market Research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Demographi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ocial Research Datab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-patients Register (hospi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gister of Medicinal Product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Who can have access to microdata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nly persons (researchers or analysts) from special authorized intistutions (stable institutions with a responsible manager and with a number of researchers/analy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rivate companies can be authorized and have access if they have a stable research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Exception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ingle companies cannot have access to microdata with data for oth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nly data after a ”need to know”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D can reduce data (samples and grou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The Unix Solu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pecial Unix-computer(s) only for access to micr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eparated from the statistical production (main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Upgrated several times sinc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ftware: Flexible but most used is SAS, STATA, GAUSS,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de-identified micro data remains on the discs in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1:44:52Z</dcterms:created>
  <dc:creator>Netværk</dc:creator>
  <dc:description/>
  <dc:language>en-US</dc:language>
  <cp:lastModifiedBy>Netværk</cp:lastModifiedBy>
  <dcterms:modified xsi:type="dcterms:W3CDTF">2005-09-05T12:49:42Z</dcterms:modified>
  <cp:revision>19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2490510</vt:r8>
  </property>
  <property fmtid="{D5CDD505-2E9C-101B-9397-08002B2CF9AE}" pid="3" name="_AuthorEmail">
    <vt:lpwstr>LBO@dst.dk</vt:lpwstr>
  </property>
  <property fmtid="{D5CDD505-2E9C-101B-9397-08002B2CF9AE}" pid="4" name="_AuthorEmailDisplayName">
    <vt:lpwstr>Lars Borchsenius</vt:lpwstr>
  </property>
  <property fmtid="{D5CDD505-2E9C-101B-9397-08002B2CF9AE}" pid="5" name="_EmailSubject">
    <vt:lpwstr>Presentation UNECE worksession on SDC</vt:lpwstr>
  </property>
</Properties>
</file>