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718C2-70A0-4211-96DF-E19270E837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48866-5B2E-40D3-8708-B8E64818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CCA84-AAD2-4FD6-B896-23E0DCD5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61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067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6516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61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067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B64C9-A755-467B-A782-1CA39082AD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011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C087C-9527-47A8-ABBE-01C0F5F0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61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706720" y="129528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6516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61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706720" y="3444840"/>
            <a:ext cx="22575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3F88B-3B2A-4FBA-A6F0-76EF2301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83A9E-B367-4141-80D8-E59F24BA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464B8-72D4-4D15-92D0-1A3C5587C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011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237A0-6BC1-49EA-9EC5-A9E261F0B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CDF75-80C5-424A-9D08-0B752513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8320" y="344484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EBA3B-E2DC-4956-A4FE-4250BB30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8320" y="1295280"/>
            <a:ext cx="3421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65160" y="3444840"/>
            <a:ext cx="70120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BFDBD-8279-43AA-BEB5-E37DD48C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 flipH="1" rot="10800000">
            <a:off x="0" y="6054480"/>
            <a:ext cx="9144000" cy="803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d3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462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609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609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609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55920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a-DK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952560" y="64958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698E-3F44-4B14-8C3B-347E059A24C9}" type="slidenum"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985080" y="6248520"/>
            <a:ext cx="1854000" cy="5475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065240" y="990720"/>
            <a:ext cx="8078760" cy="0"/>
          </a:xfrm>
          <a:prstGeom prst="line">
            <a:avLst/>
          </a:prstGeom>
          <a:ln w="9360">
            <a:solidFill>
              <a:srgbClr val="00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690640" y="914400"/>
            <a:ext cx="3762720" cy="376236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flipH="1" rot="10800000">
            <a:off x="0" y="6054480"/>
            <a:ext cx="9144000" cy="803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985080" y="6248520"/>
            <a:ext cx="1854000" cy="5475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344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524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524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524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ffffff"/>
                </a:solidFill>
                <a:latin typeface="Arial"/>
              </a:rPr>
              <a:t>From On-site to Remote Data Acces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s Borchseni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d of Div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istics Denma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Token – RSA SecurID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4235400" cy="32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28504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d3c"/>
                </a:solidFill>
                <a:latin typeface="Arial"/>
              </a:rPr>
              <a:t>Output?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Researchers are not allowed to print individual records and cannot download the basic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Output with statistical results is forwarded by e-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Output is checked by SD manua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Latest development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he remote access arrangement are now the dominant mode of access to micro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he on-site arrangement has been closed down during 2004 except from a few workplaces for foreign resear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Considerable growth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6: 2 resear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7: 71 resear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2: 151 resear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4: 250 resear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5: 300 resear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Phases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From survey- to registerbased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1968: The Person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From mid-1980s increased interest in micro data for research and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On-site arrangement in 19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Remote access arrangement in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The Organisational Framework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Data for research are handled by a special Research Services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12 employees (7 academics, 4 computer specialists, 1 secreta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Grant from the Ministry of Research 800,000 Euro pr. year in the period 2002-200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Small branch in Århus, Jut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d3c"/>
                </a:solidFill>
                <a:latin typeface="Arial"/>
              </a:rPr>
              <a:t>The Research Service Unit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Administration of the remote access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Administrative work concerning authorizations, contracts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Coordinating data from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 divisions i Statistics Denm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Computer related work. Updating research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Advisory role – new and old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d3c"/>
                </a:solidFill>
                <a:latin typeface="Arial"/>
              </a:rPr>
              <a:t>Vision</a:t>
            </a:r>
            <a:r>
              <a:rPr b="1" lang="en-US" sz="3000" spc="-1" strike="noStrike">
                <a:solidFill>
                  <a:srgbClr val="003d3c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Denmark should be one of the World´s leading countries within registerbased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d3c"/>
                </a:solidFill>
                <a:latin typeface="Arial"/>
              </a:rPr>
              <a:t>Research Databases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Special microdata sets for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Reducing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Special research top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Labour Market Research Data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Demographi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Social Research Datab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In-patients Register (hospit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Register of Medicinal Products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Who can have access to microdata?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Only persons (researchers or analysts) from special authorized intistutions (stable institutions with a responsible manager and with a number of researchers/analy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Private companies can be authorized and have access if they have a stable research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3d3c"/>
                </a:solidFill>
                <a:latin typeface="Arial"/>
              </a:rPr>
              <a:t>Exceptions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Single companies cannot have access to microdata with data for other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Only data after a ”need to know” princi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SD can reduce data (samples and group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d3c"/>
                </a:solidFill>
                <a:latin typeface="Arial"/>
              </a:rPr>
              <a:t>The Unix Solution</a:t>
            </a:r>
            <a:endParaRPr b="1" lang="en-US" sz="3000" spc="-1" strike="noStrike">
              <a:solidFill>
                <a:srgbClr val="003d3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65160" y="1295280"/>
            <a:ext cx="70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Special Unix-computer(s) only for access to micro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Separated from the statistical production (main fra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Upgrated several times since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Software: Flexible but most used is SAS, STATA, GAUSS, SP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The de-identified micro data remains on the discs in 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1:44:52Z</dcterms:created>
  <dc:creator>Netværk</dc:creator>
  <dc:description/>
  <dc:language>en-US</dc:language>
  <cp:lastModifiedBy>Netværk</cp:lastModifiedBy>
  <dcterms:modified xsi:type="dcterms:W3CDTF">2005-09-05T12:49:42Z</dcterms:modified>
  <cp:revision>19</cp:revision>
  <dc:subject/>
  <dc:title>Dias nummer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2490510</vt:r8>
  </property>
  <property fmtid="{D5CDD505-2E9C-101B-9397-08002B2CF9AE}" pid="3" name="_AuthorEmail">
    <vt:lpwstr>LBO@dst.dk</vt:lpwstr>
  </property>
  <property fmtid="{D5CDD505-2E9C-101B-9397-08002B2CF9AE}" pid="4" name="_AuthorEmailDisplayName">
    <vt:lpwstr>Lars Borchsenius</vt:lpwstr>
  </property>
  <property fmtid="{D5CDD505-2E9C-101B-9397-08002B2CF9AE}" pid="5" name="_EmailSubject">
    <vt:lpwstr>Presentation UNECE worksession on SDC</vt:lpwstr>
  </property>
</Properties>
</file>