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21B-63A6-4792-8347-E44B066E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FEC8-42A6-40E7-A877-272D1012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5FFB-4356-4053-87B5-EEF90E60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F6C2-DE14-4ADA-A092-28EA8A71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78C-BDA7-44B2-8297-432C2126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7FAC-B7C5-402B-B55A-7404A9F4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AAC-FE5D-43FA-8530-D7287324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F4A-4E26-4914-B6F8-C49EEA06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2934-3432-416C-87C4-F8E8ED48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3109-1E3E-419B-97ED-E0BE339C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C436-8F64-4791-889B-DB9CE021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D173-DBF0-45AE-A905-42D88FF4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9D3C-CC9C-49F1-B944-FDF38B94B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09480"/>
            <a:ext cx="77724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P 1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000"/>
                </a:solidFill>
                <a:latin typeface="Times New Roman"/>
              </a:rPr>
              <a:t>Assessment of Statistical Disclosure Control Methods for the</a:t>
            </a:r>
            <a:br>
              <a:rPr sz="3200"/>
            </a:br>
            <a:r>
              <a:rPr b="1" lang="en-US" sz="3200" spc="-1" strike="noStrike">
                <a:solidFill>
                  <a:srgbClr val="006000"/>
                </a:solidFill>
                <a:latin typeface="Times New Roman"/>
              </a:rPr>
              <a:t>2001 UK Cens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33720" y="3581280"/>
            <a:ext cx="4897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alie Shlom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Southampt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for National Statistic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.shlomo@soton.ac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Data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685800"/>
            <a:ext cx="8229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ion Area: SJ (Southwest Engl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7,744 persons, 182,337 households, 1.487 output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standard census tables (the number of categories are in parenthese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gion(9) * Age-sex (6) *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l to work (12) * Age-sex(12) *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ry of birth (17) * Sex (2) *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 Activity (9) * Sex (2) * Long term illness (2) *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status (5) * Age-sex (14) *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0"/>
            <a:ext cx="838188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Disclosure Ris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disclosure risk only arises when small cells are in the table, i.e. record swapping has disclosure risk since small cells are not eliminated but rounding has no disclosure ris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here is no risk of disclosure by differencing since only one set of variables and geographies are dissem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into account that imputed records have no disclosur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losure risk measure - Number of records that were perturbed or imputed in the small cells of the tables out of all the records in the small c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1948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340000" y="4941720"/>
          <a:ext cx="417672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4941720"/>
                    <a:ext cx="41767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0"/>
            <a:ext cx="83818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Disclosure Ris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1948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800600"/>
            <a:ext cx="7620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% a priori protection due to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mpact on disclosure risk at 1% s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ed record swapping lowers disclosur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520" y="609480"/>
          <a:ext cx="78483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7848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0"/>
            <a:ext cx="899172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Data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metrics between original and perturbed cells in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ach OA and  average across all O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be a table for OA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,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cells in OA k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the number of OA’s in the area, 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the cell frequency for ce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Absolute Distance per Cell (A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187280" y="1628640"/>
          <a:ext cx="457200" cy="3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28640"/>
                    <a:ext cx="4572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248520" y="1981080"/>
          <a:ext cx="83808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1981080"/>
                    <a:ext cx="8380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600200" y="3276720"/>
                <a:ext cx="4843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A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sub>
                        </m:sSub>
                      </m:sup>
                      <m:e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r>
                                  <m:t xml:space="preserve">|</m:t>
                                </m:r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ert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rig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|</m:t>
                                </m:r>
                              </m:e>
                            </m:nary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356000" y="1628640"/>
                <a:ext cx="355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826920" y="1916280"/>
                <a:ext cx="5335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419112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ion of perturbed cells and effects on sub-tot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aggregate lower level geographies which are perturbed 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obtain non-standard geograp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sub-total               wher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987640" y="5661000"/>
          <a:ext cx="83808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5661000"/>
                    <a:ext cx="8380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932360" y="5661000"/>
                <a:ext cx="2057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  <m:sup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9" name=""/>
          <p:cNvGraphicFramePr/>
          <p:nvPr/>
        </p:nvGraphicFramePr>
        <p:xfrm>
          <a:off x="1676520" y="6172200"/>
          <a:ext cx="495288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6172200"/>
                    <a:ext cx="4952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0"/>
            <a:ext cx="8991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Data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533520"/>
          <a:ext cx="4419720" cy="297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4197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495680" y="533520"/>
          <a:ext cx="4648320" cy="2971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533520"/>
                    <a:ext cx="46483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828800" y="3581280"/>
          <a:ext cx="5410080" cy="28958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3581280"/>
                    <a:ext cx="541008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52280" y="0"/>
            <a:ext cx="8991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Data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2004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335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335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457200"/>
          <a:ext cx="601992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601992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93356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352680" y="3809880"/>
          <a:ext cx="5791320" cy="304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809880"/>
                    <a:ext cx="57913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52280" y="0"/>
            <a:ext cx="8991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R-U Confidentiality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7648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066680" y="457200"/>
          <a:ext cx="6858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57200"/>
                    <a:ext cx="6858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228600" y="419112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% swapping rates have high utility but very high disclosur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targeted record swapping has same disclosure risk as the 20% random record swapping but much more ut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utility for random record swapping not including imputed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52280" y="0"/>
            <a:ext cx="8991720" cy="62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C methods of record swapping and rounding used for the 2001 UK Census managed the disclosur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record swapping alone gives little protection against disclosure risk. Targeted record swapping lowers risk but higher information loss because of hidden bi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cell adjustments give protection against disclosure risk  but obtain different totals for tables with the same population base . Raise utility by controlled   rounding (if possible) or semi-controlled rou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disclosure by differencing, one set of standard geographies and other variables  are disseminated. This also lowers the utility of the census ta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52280" y="0"/>
            <a:ext cx="8991720" cy="60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Developing Strategies for Census 2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nt SDC methods across all   UK Statistical Offices that disseminate Census dat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need to ensure that sufficient statistics (totals, averages and variances) are not compromi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le table generating software should be developed where the SDC method would be applied only once on the final outputted table and not aggregated from lower level geograph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GIS systems may allow more flexible dissemination of non-nested geograph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C methods should be tailored to the type of output: standard tables, microdata, origin-destination tables, etc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401760"/>
            <a:ext cx="800100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0240" indent="-66024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Topics of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C Methods used in the 2001 UK Cen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losure risk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utility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-U confidentiality m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457200"/>
            <a:ext cx="83818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C methods for 2001 UK Censu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methods: random record swapping for all of the UK and higher thresholds in E and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-assessment of disclosure risk for the 2001 Census: 100% of the questionnaire was coded, increasing  technologies and small area statistics and other external files on the web; perception of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method of small cell rounding for E and W (led to differential SDC methods across   UK Statistical Off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Need to assess the SDC methods with respect to a disclosure risk-data utility framework in order to develop strategies for the 2011 Cen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3049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0"/>
            <a:ext cx="8381880" cy="62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DC Method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tabular method of random record swapping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ample of households with a fixed swapping rate is selected within control strata defined by the local authority, household size, sex and broad age distribution and hard-to-count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household selected, a paired household (within the control strata) is selected (if one isn’t found the selection goes beyond the local author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geographical variables swapp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ess edit failures (assumes conditional independence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ensus target  variables and geographies given the contro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variable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erturbs highly matchable vari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0"/>
            <a:ext cx="838188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DC Method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tabular method of random record swapping (cont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is analysis we also examin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ed Record Swapping where households are selected and paired with other households that are in small cells (ones and twos) of selected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record swapping not including imputed records since imputation gives a priori protection and there is no need to perturb them or take them into account in the risk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swapping rates: 1%, 10%,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DC Method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14400" y="1219320"/>
            <a:ext cx="7543440" cy="5308560"/>
            <a:chOff x="914400" y="1219320"/>
            <a:chExt cx="7543440" cy="5308560"/>
          </a:xfrm>
        </p:grpSpPr>
        <p:grpSp>
          <p:nvGrpSpPr>
            <p:cNvPr id="50" name=""/>
            <p:cNvGrpSpPr/>
            <p:nvPr/>
          </p:nvGrpSpPr>
          <p:grpSpPr>
            <a:xfrm>
              <a:off x="920520" y="1224000"/>
              <a:ext cx="7530480" cy="5299200"/>
              <a:chOff x="920520" y="1224000"/>
              <a:chExt cx="7530480" cy="529920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920520" y="1224000"/>
                <a:ext cx="3764880" cy="639720"/>
                <a:chOff x="920520" y="1224000"/>
                <a:chExt cx="3764880" cy="6397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1010880" y="1224000"/>
                  <a:ext cx="3584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dvantag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920520" y="1224000"/>
                  <a:ext cx="376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685760" y="1224000"/>
                <a:ext cx="3765240" cy="639720"/>
                <a:chOff x="4685760" y="1224000"/>
                <a:chExt cx="3765240" cy="6397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4776120" y="1224000"/>
                  <a:ext cx="3584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isadvantag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685760" y="1224000"/>
                  <a:ext cx="3765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920520" y="1863720"/>
                <a:ext cx="3764880" cy="822240"/>
                <a:chOff x="920520" y="1863720"/>
                <a:chExt cx="3764880" cy="8222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010880" y="1863720"/>
                  <a:ext cx="35841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Consistent totals for all tab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920520" y="1863720"/>
                  <a:ext cx="37648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4685760" y="1863720"/>
                <a:ext cx="3765240" cy="822240"/>
                <a:chOff x="4685760" y="1863720"/>
                <a:chExt cx="3765240" cy="8222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4776120" y="1863720"/>
                  <a:ext cx="35841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Leaves a high proportion of risky (unique) records unperturbe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4685760" y="1863720"/>
                  <a:ext cx="37652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920520" y="2685960"/>
                <a:ext cx="3764880" cy="822600"/>
                <a:chOff x="920520" y="2685960"/>
                <a:chExt cx="3764880" cy="8226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1010880" y="2685960"/>
                  <a:ext cx="35841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eserves marginal distributions at higher aggregated level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920520" y="2685960"/>
                  <a:ext cx="376488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4685760" y="2685960"/>
                <a:ext cx="3765240" cy="822600"/>
                <a:chOff x="4685760" y="2685960"/>
                <a:chExt cx="3765240" cy="8226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4776120" y="2685960"/>
                  <a:ext cx="35841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Errors (bias) in data, in particular joint distributions distorted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685760" y="2685960"/>
                  <a:ext cx="376524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920520" y="3508560"/>
                <a:ext cx="3764880" cy="1187280"/>
                <a:chOff x="920520" y="3508560"/>
                <a:chExt cx="3764880" cy="11872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1010880" y="3508560"/>
                  <a:ext cx="35841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ome protection against disclosure by differencing two non-coterminous  tab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920520" y="3508560"/>
                  <a:ext cx="37648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685760" y="3508560"/>
                <a:ext cx="3765240" cy="1187280"/>
                <a:chOff x="4685760" y="3508560"/>
                <a:chExt cx="3765240" cy="11872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4776120" y="3508560"/>
                  <a:ext cx="35841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Effects of perturbation hidden and can’t be measures or accounted for in statistical analysis, i.e.  a number in a table is not the true valu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685760" y="3508560"/>
                  <a:ext cx="37652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920520" y="4695840"/>
                <a:ext cx="3764880" cy="822240"/>
                <a:chOff x="920520" y="4695840"/>
                <a:chExt cx="3764880" cy="8222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010880" y="4695840"/>
                  <a:ext cx="35841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Less edit failures when swapping geographi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920520" y="4695840"/>
                  <a:ext cx="37648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685760" y="4695840"/>
                <a:ext cx="3765240" cy="822240"/>
                <a:chOff x="4685760" y="4695840"/>
                <a:chExt cx="3765240" cy="8222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776120" y="4695840"/>
                  <a:ext cx="35841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Method not transparent to users and appears as if no SDC method use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685760" y="4695840"/>
                  <a:ext cx="37652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920520" y="5518080"/>
                <a:ext cx="3764880" cy="1005120"/>
                <a:chOff x="920520" y="5518080"/>
                <a:chExt cx="3764880" cy="100512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010880" y="5518080"/>
                  <a:ext cx="35841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argeted swapping lowers disclosure ris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920520" y="5518080"/>
                  <a:ext cx="37648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4685760" y="5518080"/>
                <a:ext cx="3765240" cy="1005120"/>
                <a:chOff x="4685760" y="5518080"/>
                <a:chExt cx="3765240" cy="10051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4776120" y="5518080"/>
                  <a:ext cx="35841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argeted swapping causes more distortion in the distributions of the ta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685760" y="5518080"/>
                  <a:ext cx="37652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" name=""/>
            <p:cNvSpPr/>
            <p:nvPr/>
          </p:nvSpPr>
          <p:spPr>
            <a:xfrm>
              <a:off x="914400" y="1219320"/>
              <a:ext cx="7543440" cy="5308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33520" y="5335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tabular method of record swapping (cont.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0"/>
            <a:ext cx="8381880" cy="43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DC Method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Tabular method of small cell rounding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Cell Rounding (SCA) – random rounding to base 3 of small cell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turbation has a mean of zero and variance of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 totals obtained by adding perturbed and non-perturbe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666880" y="1828800"/>
                <a:ext cx="2362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→</m:t>
                    </m:r>
                    <m:r>
                      <m:t xml:space="preserve">0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410080" y="1828800"/>
                <a:ext cx="2438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→</m:t>
                    </m:r>
                    <m:r>
                      <m:t xml:space="preserve">3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666880" y="2362320"/>
                <a:ext cx="23781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→</m:t>
                    </m:r>
                    <m:r>
                      <m:t xml:space="preserve">0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410080" y="2362320"/>
                <a:ext cx="24908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→</m:t>
                    </m:r>
                    <m:r>
                      <m:t xml:space="preserve">3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50688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0"/>
            <a:ext cx="838188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DC Method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Tabular method of small cell rounding  (cont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is analysis we also examin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Random Rounding (CRND) – random rounding to base 3 for all entries. First turn all entries into residuals of  base 3 and apply same method as SCA. Preserve  overall total of the table by  controlling the stochasti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-controlled random rounding (CSCA)– Preserve overall total of the table by controlling the stochasti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0"/>
            <a:ext cx="838188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DC Method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Tabular method of small cell rounding  (cont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200" y="1219320"/>
            <a:ext cx="8457840" cy="5410080"/>
            <a:chOff x="457200" y="1219320"/>
            <a:chExt cx="8457840" cy="5410080"/>
          </a:xfrm>
        </p:grpSpPr>
        <p:grpSp>
          <p:nvGrpSpPr>
            <p:cNvPr id="98" name=""/>
            <p:cNvGrpSpPr/>
            <p:nvPr/>
          </p:nvGrpSpPr>
          <p:grpSpPr>
            <a:xfrm>
              <a:off x="464040" y="1223640"/>
              <a:ext cx="8443080" cy="5400360"/>
              <a:chOff x="464040" y="1223640"/>
              <a:chExt cx="8443080" cy="540036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464040" y="1223640"/>
                <a:ext cx="4221000" cy="630000"/>
                <a:chOff x="464040" y="1223640"/>
                <a:chExt cx="4221000" cy="6300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65560" y="1223640"/>
                  <a:ext cx="401832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dvantag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64040" y="1223640"/>
                  <a:ext cx="4221000" cy="63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4685400" y="1223640"/>
                <a:ext cx="4221720" cy="630000"/>
                <a:chOff x="4685400" y="1223640"/>
                <a:chExt cx="4221720" cy="6300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4786920" y="1223640"/>
                  <a:ext cx="401832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isadvantag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685400" y="1223640"/>
                  <a:ext cx="4221720" cy="63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464040" y="1853640"/>
                <a:ext cx="4221000" cy="989640"/>
                <a:chOff x="464040" y="1853640"/>
                <a:chExt cx="4221000" cy="98964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565560" y="1853640"/>
                  <a:ext cx="4018320" cy="98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ull protection for the high-risk (unique) cell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64040" y="1853640"/>
                  <a:ext cx="4221000" cy="98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685400" y="1853640"/>
                <a:ext cx="4221720" cy="989640"/>
                <a:chOff x="4685400" y="1853640"/>
                <a:chExt cx="4221720" cy="9896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4786920" y="1853640"/>
                  <a:ext cx="4018320" cy="98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Inconsistent totals between tables when margins aggregated from perturbed cell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685400" y="1853640"/>
                  <a:ext cx="4221720" cy="98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64040" y="2843640"/>
                <a:ext cx="4221000" cy="1349640"/>
                <a:chOff x="464040" y="2843640"/>
                <a:chExt cx="4221000" cy="13496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565560" y="2843640"/>
                  <a:ext cx="4018320" cy="134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ull rounding protects against disclosure by differencing two non-coterminous  tables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64040" y="2843640"/>
                  <a:ext cx="4221000" cy="134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685400" y="2843640"/>
                <a:ext cx="4221720" cy="1349640"/>
                <a:chOff x="4685400" y="2843640"/>
                <a:chExt cx="4221720" cy="13496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786920" y="2843640"/>
                  <a:ext cx="4018320" cy="134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mall cell rounding gives little protection against disclosure by differencing so only one set of geographies and other variables disseminate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685400" y="2843640"/>
                  <a:ext cx="4221720" cy="134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464040" y="4193640"/>
                <a:ext cx="4221000" cy="810000"/>
                <a:chOff x="464040" y="4193640"/>
                <a:chExt cx="4221000" cy="810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565560" y="4193640"/>
                  <a:ext cx="401832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mall cell rounding has less information los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64040" y="4193640"/>
                  <a:ext cx="4221000" cy="81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685400" y="4193640"/>
                <a:ext cx="4221720" cy="810000"/>
                <a:chOff x="4685400" y="4193640"/>
                <a:chExt cx="4221720" cy="8100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786920" y="4193640"/>
                  <a:ext cx="401832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ull rounding has margins rounded separately and tables aren’t additiv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685400" y="4193640"/>
                  <a:ext cx="4221720" cy="81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64040" y="5003640"/>
                <a:ext cx="4221000" cy="810360"/>
                <a:chOff x="464040" y="5003640"/>
                <a:chExt cx="4221000" cy="8103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65560" y="5003640"/>
                  <a:ext cx="4018320" cy="81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Methods  clear and transparent to user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64040" y="5003640"/>
                  <a:ext cx="4221000" cy="81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685400" y="5003640"/>
                <a:ext cx="4221720" cy="1620360"/>
                <a:chOff x="4685400" y="5003640"/>
                <a:chExt cx="4221720" cy="162036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786920" y="5003640"/>
                  <a:ext cx="4018320" cy="162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tochastic methods of rounding  are easier to unpick and tables may need to be audited prior to relea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685400" y="5003640"/>
                  <a:ext cx="4221720" cy="162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64040" y="5814000"/>
                <a:ext cx="4221000" cy="810000"/>
                <a:chOff x="464040" y="5814000"/>
                <a:chExt cx="4221000" cy="8100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565560" y="5814000"/>
                  <a:ext cx="401832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tochastic methods can be accounted for in statistical analysi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64040" y="5814000"/>
                  <a:ext cx="4221000" cy="81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2" name=""/>
            <p:cNvSpPr/>
            <p:nvPr/>
          </p:nvSpPr>
          <p:spPr>
            <a:xfrm>
              <a:off x="457200" y="1219320"/>
              <a:ext cx="8457840" cy="5410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07:48:25Z</dcterms:created>
  <dc:creator>לשכה מרכזית לסטטיסטיקה</dc:creator>
  <dc:description/>
  <dc:language>en-US</dc:language>
  <cp:lastModifiedBy>shlomn</cp:lastModifiedBy>
  <dcterms:modified xsi:type="dcterms:W3CDTF">2005-11-03T11:14:15Z</dcterms:modified>
  <cp:revision>201</cp:revision>
  <dc:subject/>
  <dc:title>מצגת של PowerPoint</dc:title>
</cp:coreProperties>
</file>