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69D-D3EB-4484-B249-A5E2446C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E1E-16F4-4B78-979A-21F8A8B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A3C-4377-4A56-B278-3AF3914C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87D-CD01-4D11-847E-879666C8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B76-CADF-484D-AAB5-5D7F3C8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519-E108-441E-80A2-7E7A1865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374-24B3-4FA9-A9D2-8E24BE1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B92-67DD-4C7B-8901-97D0EF1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0BA-D453-4BB6-8941-8028F3C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2AB-273D-4F6B-AD98-173440B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C64-288A-43FE-93FA-D7B580F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D81-ECB0-4381-8A09-893C083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FCD-CDDE-4BA1-9928-30B351771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P 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00"/>
                </a:solidFill>
                <a:latin typeface="Times New Roman"/>
              </a:rPr>
              <a:t>Assessment of Statistical Disclosure Control Methods for the</a:t>
            </a:r>
            <a:br>
              <a:rPr sz="3200"/>
            </a:br>
            <a:r>
              <a:rPr b="1" lang="en-US" sz="3200" spc="-1" strike="noStrike">
                <a:solidFill>
                  <a:srgbClr val="006000"/>
                </a:solidFill>
                <a:latin typeface="Times New Roman"/>
              </a:rPr>
              <a:t>2001 UK C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3581280"/>
            <a:ext cx="489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Southamp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or National Statistic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shlomo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85800"/>
            <a:ext cx="8229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Area: SJ (Southwest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7,744 persons, 182,337 households, 1.487 outpu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standard census tables (the number of categories are in parenthes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n(9) * Age-sex (6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to work (12) * Age-sex(1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of birth (17) * Sex (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ctivity (9) * Sex (2) * Long term illness (2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tatus (5) * Age-sex (14) *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838188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isclosure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disclosure risk only arises when small cells are in the table, i.e. record swapping has disclosure risk since small cells are not eliminated but rounding has no disclosure ri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re is no risk of disclosure by differencing since only one set of variables and geographies are disse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to account that imputed records have no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risk measure - Number of records that were perturbed or imputed in the small cells of the tables out of all the records in the small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19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40000" y="4941720"/>
          <a:ext cx="417672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4941720"/>
                    <a:ext cx="4176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0"/>
            <a:ext cx="8381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isclosure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19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8006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% a priori protection due to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mpact on disclosure risk at 1%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record swapping lowers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609480"/>
          <a:ext cx="78483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784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0"/>
            <a:ext cx="899172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metrics between original and perturbed cells in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OA and  average across all 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be a table for OA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ells in OA 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the number of OA’s in the area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the cell frequency for c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bsolute Distance per Cell (A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87280" y="1628640"/>
          <a:ext cx="45720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457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248520" y="1981080"/>
          <a:ext cx="838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81080"/>
                    <a:ext cx="838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3276720"/>
                <a:ext cx="4843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sub>
                        </m:sSub>
                      </m:sup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356000" y="162864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26920" y="1916280"/>
                <a:ext cx="53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419112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of perturbed cells and effects on sub-to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aggregate lower level geographies which are perturbed 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obtain non-standard ge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sub-total               wher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987640" y="5661000"/>
          <a:ext cx="83808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5661000"/>
                    <a:ext cx="83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32360" y="566100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1676520" y="6172200"/>
          <a:ext cx="49528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6172200"/>
                    <a:ext cx="495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533520"/>
          <a:ext cx="44197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419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495680" y="533520"/>
          <a:ext cx="464832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3520"/>
                    <a:ext cx="4648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28800" y="3581280"/>
          <a:ext cx="5410080" cy="2895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4100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335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35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457200"/>
          <a:ext cx="60199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019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335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352680" y="3809880"/>
          <a:ext cx="579132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09880"/>
                    <a:ext cx="579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R-U Confidentiality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64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457200"/>
          <a:ext cx="6858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6858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286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% swapping rates have high utility but very high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targeted record swapping has same disclosure risk as the 20% random record swapping but much more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utility for random record swapping not including imputed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0"/>
            <a:ext cx="89917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of record swapping and rounding used for the 2001 UK Census managed the disclosur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record swapping alone gives little protection against disclosure risk. Targeted record swapping lowers risk but higher information loss because of hidden bi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ell adjustments give protection against disclosure risk  but obtain different totals for tables with the same population base . Raise utility by controlled   rounding (if possible) or semi-controlled ro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disclosure by differencing, one set of standard geographies and other variables  are disseminated. This also lowers the utility of the census t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0"/>
            <a:ext cx="899172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eveloping Strategies for Census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SDC methods across all   UK Statistical Offices that disseminate Census da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need to ensure that sufficient statistics (totals, averages and variances) are not comprom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table generating software should be developed where the SDC method would be applied only once on the final outputted table and not aggregated from lower level geograp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GIS systems may allow more flexible dissemination of non-nested geograp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should be tailored to the type of output: standard tables, microdata, origin-destination tables, 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01760"/>
            <a:ext cx="800100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opics of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used in the 2001 UK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ure 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tilit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U confidentiality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8381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methods for 2001 UK Cens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methods: random record swapping for all of the UK and higher thresholds in E and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assessment of disclosure risk for the 2001 Census: 100% of the questionnaire was coded, increasing  technologies and small area statistics and other external files on the web; perception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method of small cell rounding for E and W (led to differential SDC methods across   UK Statistical Off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Need to assess the SDC methods with respect to a disclosure risk-data utility framework in order to develop strategies for the 2011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04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0"/>
            <a:ext cx="838188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andom record swapping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ample of households with a fixed swapping rate is selected within control strata defined by the local authority, household size, sex and broad age distribution and hard-to-coun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household selected, a paired household (within the control strata) is selected (if one isn’t found the selection goes beyond the local autho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geographical variables swapp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ss edit failures (assumes conditional independenc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ensus target  variables and geographies given the contr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ariab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erturbs highly matchable var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3818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andom record swapping (cont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analysis we also examin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Record Swapping where households are selected and paired with other households that are in small cells (ones and twos) of select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record swapping not including imputed records since imputation gives a priori protection and there is no need to perturb them or take them into account in the 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wapping rates: 1%, 10%,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219320"/>
            <a:ext cx="7543440" cy="5308560"/>
            <a:chOff x="914400" y="1219320"/>
            <a:chExt cx="7543440" cy="5308560"/>
          </a:xfrm>
        </p:grpSpPr>
        <p:grpSp>
          <p:nvGrpSpPr>
            <p:cNvPr id="50" name=""/>
            <p:cNvGrpSpPr/>
            <p:nvPr/>
          </p:nvGrpSpPr>
          <p:grpSpPr>
            <a:xfrm>
              <a:off x="920520" y="1224000"/>
              <a:ext cx="7530480" cy="5299200"/>
              <a:chOff x="920520" y="1224000"/>
              <a:chExt cx="7530480" cy="52992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920520" y="1224000"/>
                <a:ext cx="3764880" cy="639720"/>
                <a:chOff x="920520" y="1224000"/>
                <a:chExt cx="3764880" cy="639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010880" y="1224000"/>
                  <a:ext cx="3584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dvantag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0520" y="1224000"/>
                  <a:ext cx="376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85760" y="1224000"/>
                <a:ext cx="3765240" cy="639720"/>
                <a:chOff x="4685760" y="1224000"/>
                <a:chExt cx="3765240" cy="6397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776120" y="1224000"/>
                  <a:ext cx="3584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isadvantag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85760" y="1224000"/>
                  <a:ext cx="3765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920520" y="1863720"/>
                <a:ext cx="3764880" cy="822240"/>
                <a:chOff x="920520" y="1863720"/>
                <a:chExt cx="3764880" cy="8222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010880" y="186372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sistent totals for all tab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20520" y="1863720"/>
                  <a:ext cx="3764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85760" y="1863720"/>
                <a:ext cx="3765240" cy="822240"/>
                <a:chOff x="4685760" y="1863720"/>
                <a:chExt cx="3765240" cy="8222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776120" y="186372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eaves a high proportion of risky (unique) records unperturb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85760" y="1863720"/>
                  <a:ext cx="37652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920520" y="2685960"/>
                <a:ext cx="3764880" cy="822600"/>
                <a:chOff x="920520" y="2685960"/>
                <a:chExt cx="3764880" cy="822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10880" y="2685960"/>
                  <a:ext cx="35841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eserves marginal distributions at higher aggregated leve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20520" y="2685960"/>
                  <a:ext cx="37648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85760" y="2685960"/>
                <a:ext cx="3765240" cy="822600"/>
                <a:chOff x="4685760" y="2685960"/>
                <a:chExt cx="3765240" cy="8226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776120" y="2685960"/>
                  <a:ext cx="35841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rrors (bias) in data, in particular joint distributions distorted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85760" y="2685960"/>
                  <a:ext cx="37652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920520" y="3508560"/>
                <a:ext cx="3764880" cy="1187280"/>
                <a:chOff x="920520" y="3508560"/>
                <a:chExt cx="3764880" cy="1187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10880" y="3508560"/>
                  <a:ext cx="3584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ome protection against disclosure by differencing two non-coterminous  tab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920520" y="3508560"/>
                  <a:ext cx="37648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85760" y="3508560"/>
                <a:ext cx="3765240" cy="1187280"/>
                <a:chOff x="4685760" y="3508560"/>
                <a:chExt cx="3765240" cy="1187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776120" y="3508560"/>
                  <a:ext cx="3584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ffects of perturbation hidden and can’t be measures or accounted for in statistical analysis, i.e.  a number in a table is not the true val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85760" y="3508560"/>
                  <a:ext cx="3765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920520" y="4695840"/>
                <a:ext cx="3764880" cy="822240"/>
                <a:chOff x="920520" y="4695840"/>
                <a:chExt cx="3764880" cy="822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010880" y="469584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ess edit failures when swapping geograph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20520" y="4695840"/>
                  <a:ext cx="3764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85760" y="4695840"/>
                <a:ext cx="3765240" cy="822240"/>
                <a:chOff x="4685760" y="4695840"/>
                <a:chExt cx="3765240" cy="822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776120" y="4695840"/>
                  <a:ext cx="3584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ethod not transparent to users and appears as if no SDC method us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85760" y="4695840"/>
                  <a:ext cx="37652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920520" y="5518080"/>
                <a:ext cx="3764880" cy="1005120"/>
                <a:chOff x="920520" y="5518080"/>
                <a:chExt cx="3764880" cy="1005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010880" y="5518080"/>
                  <a:ext cx="3584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argeted swapping lowers disclosure ris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20520" y="5518080"/>
                  <a:ext cx="37648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85760" y="5518080"/>
                <a:ext cx="3765240" cy="1005120"/>
                <a:chOff x="4685760" y="5518080"/>
                <a:chExt cx="3765240" cy="1005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776120" y="5518080"/>
                  <a:ext cx="3584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argeted swapping causes more distortion in the distributions of the t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85760" y="5518080"/>
                  <a:ext cx="3765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>
              <a:off x="914400" y="1219320"/>
              <a:ext cx="7543440" cy="5308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33520" y="533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tabular method of record swapping (cont.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0"/>
            <a:ext cx="83818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ell Rounding (SCA) – random rounding to base 3 of small cell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tion has a mean of zero and variance of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totals obtained by adding perturbed and non-perturbe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66688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10080" y="1828800"/>
                <a:ext cx="2438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66880" y="2362320"/>
                <a:ext cx="2378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10080" y="2362320"/>
                <a:ext cx="2490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5068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0"/>
            <a:ext cx="83818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(cont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analysis we also examin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andom Rounding (CRND) – random rounding to base 3 for all entries. First turn all entries into residuals of  base 3 and apply same method as SCA. Preserve  overall total of the table by  controlling the stocha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controlled random rounding (CSCA)– Preserve overall total of the table by controlling the stocha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0"/>
            <a:ext cx="8381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abular method of small cell rounding  (cont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219320"/>
            <a:ext cx="8457840" cy="5410080"/>
            <a:chOff x="457200" y="1219320"/>
            <a:chExt cx="8457840" cy="5410080"/>
          </a:xfrm>
        </p:grpSpPr>
        <p:grpSp>
          <p:nvGrpSpPr>
            <p:cNvPr id="98" name=""/>
            <p:cNvGrpSpPr/>
            <p:nvPr/>
          </p:nvGrpSpPr>
          <p:grpSpPr>
            <a:xfrm>
              <a:off x="464040" y="1223640"/>
              <a:ext cx="8443080" cy="5400360"/>
              <a:chOff x="464040" y="1223640"/>
              <a:chExt cx="8443080" cy="5400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64040" y="1223640"/>
                <a:ext cx="4221000" cy="630000"/>
                <a:chOff x="464040" y="1223640"/>
                <a:chExt cx="4221000" cy="630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65560" y="1223640"/>
                  <a:ext cx="401832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dvant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4040" y="1223640"/>
                  <a:ext cx="422100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685400" y="1223640"/>
                <a:ext cx="4221720" cy="630000"/>
                <a:chOff x="4685400" y="1223640"/>
                <a:chExt cx="4221720" cy="630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786920" y="1223640"/>
                  <a:ext cx="401832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isadvant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85400" y="1223640"/>
                  <a:ext cx="422172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4040" y="1853640"/>
                <a:ext cx="4221000" cy="989640"/>
                <a:chOff x="464040" y="1853640"/>
                <a:chExt cx="4221000" cy="9896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65560" y="1853640"/>
                  <a:ext cx="401832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protection for the high-risk (unique) cel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4040" y="1853640"/>
                  <a:ext cx="422100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85400" y="1853640"/>
                <a:ext cx="4221720" cy="989640"/>
                <a:chOff x="4685400" y="1853640"/>
                <a:chExt cx="4221720" cy="989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786920" y="1853640"/>
                  <a:ext cx="401832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nconsistent totals between tables when margins aggregated from perturbed cel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85400" y="1853640"/>
                  <a:ext cx="422172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4040" y="2843640"/>
                <a:ext cx="4221000" cy="1349640"/>
                <a:chOff x="464040" y="2843640"/>
                <a:chExt cx="4221000" cy="13496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65560" y="2843640"/>
                  <a:ext cx="4018320" cy="134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rounding protects against disclosure by differencing two non-coterminous  table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4040" y="2843640"/>
                  <a:ext cx="4221000" cy="134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85400" y="2843640"/>
                <a:ext cx="4221720" cy="1349640"/>
                <a:chOff x="4685400" y="2843640"/>
                <a:chExt cx="4221720" cy="13496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786920" y="2843640"/>
                  <a:ext cx="4018320" cy="134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all cell rounding gives little protection against disclosure by differencing so only one set of geographies and other variables dissemin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85400" y="2843640"/>
                  <a:ext cx="4221720" cy="134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64040" y="4193640"/>
                <a:ext cx="4221000" cy="810000"/>
                <a:chOff x="464040" y="4193640"/>
                <a:chExt cx="4221000" cy="810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65560" y="419364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all cell rounding has less information lo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4040" y="4193640"/>
                  <a:ext cx="42210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85400" y="4193640"/>
                <a:ext cx="4221720" cy="810000"/>
                <a:chOff x="4685400" y="4193640"/>
                <a:chExt cx="4221720" cy="810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786920" y="419364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ull rounding has margins rounded separately and tables aren’t additi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85400" y="4193640"/>
                  <a:ext cx="422172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4040" y="5003640"/>
                <a:ext cx="4221000" cy="810360"/>
                <a:chOff x="464040" y="5003640"/>
                <a:chExt cx="4221000" cy="810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65560" y="5003640"/>
                  <a:ext cx="4018320" cy="81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ethods  clear and transparent to us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4040" y="5003640"/>
                  <a:ext cx="4221000" cy="81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85400" y="5003640"/>
                <a:ext cx="4221720" cy="1620360"/>
                <a:chOff x="4685400" y="5003640"/>
                <a:chExt cx="4221720" cy="16203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86920" y="5003640"/>
                  <a:ext cx="4018320" cy="162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ochastic methods of rounding  are easier to unpick and tables may need to be audited prior to rele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85400" y="5003640"/>
                  <a:ext cx="4221720" cy="162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64040" y="5814000"/>
                <a:ext cx="4221000" cy="810000"/>
                <a:chOff x="464040" y="5814000"/>
                <a:chExt cx="4221000" cy="8100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65560" y="5814000"/>
                  <a:ext cx="401832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ochastic methods can be accounted for in statistical 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64040" y="5814000"/>
                  <a:ext cx="42210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457200" y="1219320"/>
              <a:ext cx="8457840" cy="5410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shlomn</cp:lastModifiedBy>
  <dcterms:modified xsi:type="dcterms:W3CDTF">2005-11-03T11:14:15Z</dcterms:modified>
  <cp:revision>201</cp:revision>
  <dc:subject/>
  <dc:title>מצגת של PowerPoint</dc:title>
</cp:coreProperties>
</file>