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3885840"/>
            <a:ext cx="77770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P 15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rience of using a Post Randomisation Method (PRAM) at 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09800" y="5311800"/>
            <a:ext cx="6400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ristine Bycroft, Katherine Merre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fice for National Statistics, 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AM variables sequentially - greatest contribution to risk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weight matrix for each vari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P solved in SAS, to ge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ransition matr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AM within control variables (eg PRAM age within marital status categor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2400" spc="-1" strike="noStrike" baseline="-25000">
                <a:solidFill>
                  <a:srgbClr val="ffffff"/>
                </a:solidFill>
                <a:latin typeface="Arial"/>
              </a:rPr>
              <a:t>ij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babilities preserves exact frequ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for edit failures, and cor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turbed records are flagged as being imputed (whether changed or no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 algn="ctr">
              <a:spcBef>
                <a:spcPts val="60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spcBef>
                <a:spcPts val="60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s: Disclosure ri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aim was to only protect against attempts at exact matching. Assumed that perturbing the value of one variable in a high risk record provides sufficient prote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ion by high outflow, but low inflo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showed high proportions changed, except for last variables in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ptable, since these variables had the lowest overall contribution to disclosure risk, and only a small number of records were affec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s:  Data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rvation of the univariate frequencies - excellent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rvation of the multivariate frequencie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74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few records failed the edit check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74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e tables before and after PRAM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74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ch cell: ratio of the relative error due to PRAM and relative sampling err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8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89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89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89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 on Data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9600" y="3715920"/>
            <a:ext cx="8834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172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2080" indent="-172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from 15 tables (nearly 3,000 cell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2080" indent="-172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ffect of perturbation relative to sample error decreases as the cell size increases. Thus the damage done by PRAM is greater for cells with low frequen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2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1787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328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ble 1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ntage of Cells across all tables with a ratio of the error due to PRAM and the sampling error of greater than 1 an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used in this context on targeted records, PRAM is an efficient method of data perturbation, which is well controll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ying PRAM to a small proportion of the file has allowed us to strike a good balance between recoding and minimising the damage from perturb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8160" indent="-21816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P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8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8160" indent="-21816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e needed to adapt the PRAM metho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8160" indent="-21816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ed PRAM Method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8160" indent="-21816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ure risk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8160" indent="-21816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n Data Qual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8160" indent="-21816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P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AM is a disclosure control technique for categorical data in microdata files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values of a categorical variable are changed according to a prescribed probability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new perturbed  value may or may not be different from the original value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, a person who is classified as a widow may be re-classified as sing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ility mechanism for P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104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bability mechanism is described by an invertible transition matrix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P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rix for each variabl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P=(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ij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 an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x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trix for a variable having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tegories. The entries of the matrix are the conditional prob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i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probability of n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4191120"/>
          <a:ext cx="6408720" cy="6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191120"/>
                    <a:ext cx="640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sk and data utility for P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9600" y="1211040"/>
            <a:ext cx="88344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sclosur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51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AM offers protection by inflow and outfl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ow from safe combinations of values to risky combi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tflow from risky combinations to safe combin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ata Ut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51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Invariant PRAM method preserves univariate frequencies in expec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control over joint distribution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ay create edit failures, e.g. 14 year old doctor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or highly unusual combinations, e.g. 17 year old wi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dapt the PRAM metho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07360" indent="-20736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ed to the 2001 Individual Sample of Anonymised Records (SARs) drawn from the Census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know population uniques from Census records)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360" indent="-20736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d recoding as first method to reduce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360" indent="-20736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not apply PRAM to the whole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360" indent="-20736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turb only remaining high risk records (small proportion of all records)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360" indent="-20736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sh to preserve exact univariate frequencies, not just expected valu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360" indent="-20736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sh to control joint distributions to minimise edit failures and unusual combi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apted PRAM Method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11040"/>
            <a:ext cx="89917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turbing only those records which are high risk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the transition matrix, P we want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ximise the probability of changing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rve freqencies (ie P is invaria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eate perturbed records that are feasible and will not result in highly unusual combination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a linear programming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apted PRAM Method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P routine minimised the objective function, subject to constraints. The objective function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set up a Weight Matrix to avoid extrem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having extreme changes that might create highly unusual individuals or invalid combinations, we prefer to keep the values as they 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47640" y="1916280"/>
          <a:ext cx="644544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640" y="1916280"/>
                    <a:ext cx="64454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Weight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9600" y="1211040"/>
            <a:ext cx="8439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if we have an age variables with 9 categories (0-9; 10-19; 20-29;…;70-79; 80+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tion to the adjacent category is preferred to any other trans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transitions is preferred as a second cho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tions to extreme values is not des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ossible Weight Matrix is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987640" y="4149720"/>
          <a:ext cx="3168720" cy="22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4149720"/>
                    <a:ext cx="316872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1:23:48Z</dcterms:created>
  <dc:creator>Katherine Merrett</dc:creator>
  <dc:description/>
  <dc:language>en-US</dc:language>
  <cp:lastModifiedBy>Merrett</cp:lastModifiedBy>
  <dcterms:modified xsi:type="dcterms:W3CDTF">2005-11-07T09:36:12Z</dcterms:modified>
  <cp:revision>38</cp:revision>
  <dc:subject/>
  <dc:title>Household SAR</dc:title>
</cp:coreProperties>
</file>