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2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7B2-193F-4CDC-827D-8C61224E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627-5908-4CF6-A65D-B4E82AE6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4E1-9FDD-4091-ACFD-7014CB76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96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264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96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264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389-CABD-474C-BFEB-055BC216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7664-709D-4CB7-8880-7C19673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2ACF-020C-4190-AB47-977DAD1A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6BD8-9EAA-4F31-965E-A360F3F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3A0E-E4C6-432E-ABF5-016C0643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8314-857D-458A-ABAA-0F1D55BA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55164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9DB2-BE95-41CB-AF22-ACBD143E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D014-339D-4967-9E7A-AD7A944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7EF-55FE-4058-9D99-8AE29214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EC2E-ED59-4C29-893B-933381B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600-3A3E-46EE-B40D-3878B804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B599-C03A-4A40-86E9-09D2E1D8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A1A1-AE5C-4E08-98B5-AF7F5EC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96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264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96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264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6DF8-727D-4344-885C-79E3952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4AF1-5612-4419-9400-25269511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22C9-6C23-4FF8-B619-1795B2B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458F-C2A2-44B2-A8DD-C067B0CF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D5BF-198F-4B68-B06F-7FF364E8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67D4-C70F-455A-B0B5-D348F7AF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668-164D-412C-B2F0-6408CFD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55164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1D88-0D8D-4630-A89F-710653DC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619B-1D68-42F9-9D79-44EC649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8314-AD3A-4117-8E13-560F34D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92C3-01E2-4434-997A-DE145832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C8AC-B3C6-4614-A51A-77820B49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07A1-21BA-4C9D-B51F-9E2AF695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396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264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9528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396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9264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3313-9DB4-44AA-8548-2F2C690C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D84-2F3D-4000-AB00-41139E7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A53-8C90-4EF9-AA28-27E9DB9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55164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9DD-04FC-492A-BA2D-92EE59C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3CD-7B4F-46D7-8619-0E549CA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42C-802E-4DDC-B71F-61C2A6D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FDD-ADBE-4D05-8737-2586BD0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378-420D-4C12-952F-312C3D9EECF5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9BED-1EA3-453D-B1AA-67A5EFD922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79BA-4377-4126-9B3B-D4A0EACC4129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9.png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9.png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Microdata for Research’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New Zealand cen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4764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ke Camde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ke.camden@stats.govt.n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tistics New Zeal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ww.stats.govt.n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A054-4D82-4DAE-A444-36E7FB02FD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Let’s fix curf size at 2%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Let pop proportion go from 0% to 5%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What happens to sampling error of p?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9800" y="2273400"/>
          <a:ext cx="5334120" cy="43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273400"/>
                    <a:ext cx="53341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012000" y="4221000"/>
            <a:ext cx="28778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A 2% sample,</a:t>
            </a:r>
            <a:br>
              <a:rPr sz="2400"/>
            </a:b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with 76 000 people, </a:t>
            </a:r>
            <a:br>
              <a:rPr sz="2400"/>
            </a:b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gives </a:t>
            </a:r>
            <a:br>
              <a:rPr sz="2400"/>
            </a:b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g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014-CFA4-4599-97E8-0C036CB3A3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he CURF expresses NZ’s diversity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645000"/>
            <a:ext cx="8642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 have 5 Yes/No Ethnicity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pecial Uniques process set some to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CURF adds some sampling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5 variables give 32 (= 2</a:t>
            </a:r>
            <a:r>
              <a:rPr b="0" lang="en-US" sz="3200" spc="-1" strike="noStrike" baseline="30000">
                <a:solidFill>
                  <a:srgbClr val="003333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) combination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885080" y="342864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7019640" y="3499920"/>
            <a:ext cx="57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87A-4E07-42D5-AFD7-664A37475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36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he 32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ombined ethnicities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59280" y="133200"/>
          <a:ext cx="277164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33200"/>
                    <a:ext cx="27716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156360" y="2637000"/>
            <a:ext cx="257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This var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m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some of us</a:t>
            </a:r>
            <a:br>
              <a:rPr sz="2400"/>
            </a:b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u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Differ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com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Special U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-Sampling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86692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620640"/>
            <a:ext cx="115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999933"/>
                </a:solidFill>
                <a:latin typeface="Arial"/>
              </a:rPr>
              <a:t>Single ethnicities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54936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AC3-C96D-4534-891A-CDC3CFEA99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604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ensus curf unique records 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072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74.4% of records for NZ adults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have unique combinations of values across all 33 vars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They’re Population Uniqu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If someone is unique in the CURF, are they also unique in the population? 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What is Pr(PU|SU) ?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668-674D-486D-9BA8-6A36CCF87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Is a Sample Unique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also a Population Unique?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F18-A7FA-4B9B-9B27-DCC9AB52CF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We volunteered ten researchers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o assess safety and usefulness …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Useful?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no more variables needed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keep the household relationships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I’d like Region” “I’d never use Region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I get down to small numbers (employment by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ethnicity) and worry about small sample size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the CURF will be a major asset to researchers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afe?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I am quite confident that our identity 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has been protected as much as possible”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299-4B09-43B2-8155-1EC9FDA622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460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How big a sample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1% is Too Small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We have sample surveys like that already: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- Household Labour Force Survey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- Income Survey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- SoFIE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3% is Too Big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sclosure risk up, variability down only a bi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ole-number %s are best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for the sampling method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uggestions please???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278-AE91-41CE-8DC0-6B42E9CD6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549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Usability, Safety and Sample Size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55640" y="1341360"/>
          <a:ext cx="77677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677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820-DE98-4319-9D6A-78155DD076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67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Our ‘controlled’ sampling method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We used: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A </a:t>
            </a:r>
            <a:r>
              <a:rPr b="0" lang="en-NZ" sz="3200" spc="-1" strike="noStrike" u="sng">
                <a:solidFill>
                  <a:srgbClr val="003333"/>
                </a:solidFill>
                <a:uFillTx/>
                <a:latin typeface="Arial"/>
              </a:rPr>
              <a:t>sort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on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Sex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,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AgeGroup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(8 groups),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AreaUnit 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(not in CURF)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en a </a:t>
            </a:r>
            <a:r>
              <a:rPr b="0" lang="en-NZ" sz="3200" spc="-1" strike="noStrike" u="sng">
                <a:solidFill>
                  <a:srgbClr val="003333"/>
                </a:solidFill>
                <a:uFillTx/>
                <a:latin typeface="Arial"/>
              </a:rPr>
              <a:t>grouping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into 100s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en a </a:t>
            </a:r>
            <a:r>
              <a:rPr b="0" lang="en-NZ" sz="3200" spc="-1" strike="noStrike" u="sng">
                <a:solidFill>
                  <a:srgbClr val="003333"/>
                </a:solidFill>
                <a:uFillTx/>
                <a:latin typeface="Arial"/>
              </a:rPr>
              <a:t>systematic sample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from each 100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is gives great proportions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for these ‘controlled’ variables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and may help related variables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(ethnicities, urban/rural etc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3357720"/>
            <a:ext cx="0" cy="35856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C77-4AEC-4837-82D0-65E75261BD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ffs in Counts: CURF – Expecte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848360" cy="4803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95280" y="566100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Controlled variables give tiny differences ( </a:t>
            </a:r>
            <a:r>
              <a:rPr b="0" lang="en-US" sz="2800" spc="-1" strike="noStrike">
                <a:solidFill>
                  <a:srgbClr val="999933"/>
                </a:solidFill>
                <a:latin typeface=""/>
              </a:rPr>
              <a:t>≤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±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Others show little drop in variation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9640" y="981000"/>
            <a:ext cx="34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Variation with random sampling </a:t>
            </a:r>
            <a:br>
              <a:rPr sz="1600"/>
            </a:b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and independance; 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1, 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 2 S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380360" y="1557360"/>
            <a:ext cx="2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956720" y="1557360"/>
            <a:ext cx="71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419640" y="4436640"/>
            <a:ext cx="2808000" cy="12970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219280" y="3573360"/>
            <a:ext cx="1081080" cy="7192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9A7-4592-4071-B511-49CD7AEDCD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Reseachers accessing microdata in NZ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3165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atalab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Offsite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mote</a:t>
            </a:r>
            <a:br>
              <a:rPr sz="2400"/>
            </a:b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CURF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5589720"/>
            <a:ext cx="49500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1293840" cy="325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76720" y="5589720"/>
            <a:ext cx="863640" cy="276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293840" cy="41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1293840" cy="41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19640" y="42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78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22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URF on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708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050920" y="1197000"/>
            <a:ext cx="88452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979640" y="2349360"/>
            <a:ext cx="88884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979640" y="357336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1979640" y="4941720"/>
            <a:ext cx="947880" cy="115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92360" y="112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99cc00"/>
                </a:solidFill>
                <a:latin typeface="Times New Roman"/>
              </a:rPr>
              <a:t>The resear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27280" y="1413000"/>
            <a:ext cx="1440000" cy="2872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716360" y="2349360"/>
          <a:ext cx="871560" cy="115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16360" y="2349360"/>
                    <a:ext cx="871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3716280"/>
          <a:ext cx="952560" cy="115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76720" y="3716280"/>
                    <a:ext cx="9525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003640" y="2781360"/>
          <a:ext cx="324000" cy="57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2781360"/>
                    <a:ext cx="3240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16"/>
          <a:stretch/>
        </p:blipFill>
        <p:spPr>
          <a:xfrm>
            <a:off x="4643280" y="5589720"/>
            <a:ext cx="863640" cy="2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5435640" y="4941720"/>
          <a:ext cx="946080" cy="115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35640" y="4941720"/>
                    <a:ext cx="946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64000" y="4076640"/>
          <a:ext cx="32544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64000" y="4076640"/>
                    <a:ext cx="32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724360" y="5373720"/>
          <a:ext cx="325440" cy="576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4360" y="5373720"/>
                    <a:ext cx="32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588000" y="1197000"/>
            <a:ext cx="1656000" cy="5111640"/>
          </a:xfrm>
          <a:prstGeom prst="rtTriangle">
            <a:avLst/>
          </a:prstGeom>
          <a:solidFill>
            <a:srgbClr val="999933"/>
          </a:solidFill>
          <a:ln w="936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7019640" y="1196640"/>
            <a:ext cx="1585800" cy="5040360"/>
          </a:xfrm>
          <a:prstGeom prst="rtTriangle">
            <a:avLst/>
          </a:prstGeom>
          <a:solidFill>
            <a:srgbClr val="999933"/>
          </a:solidFill>
          <a:ln w="936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3080" y="5013360"/>
            <a:ext cx="9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6920" y="1268280"/>
            <a:ext cx="8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55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3"/>
          <a:stretch/>
        </p:blipFill>
        <p:spPr>
          <a:xfrm>
            <a:off x="3203640" y="1916280"/>
            <a:ext cx="1293840" cy="36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80000" y="2852640"/>
            <a:ext cx="10652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0360" y="1484280"/>
            <a:ext cx="863280" cy="1297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87B-8A58-4E90-B5AD-8F6EA334D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onclusion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Making a CURF both Useful and Safe needs: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Cunning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 Contracts, Co-operation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 Confidence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Controlling the sampling improves counts: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for controlled variables: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spectacularly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 for other variables: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minimally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e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www.stats.govt.nz/CURF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 rot="20900400">
            <a:off x="7020000" y="5157720"/>
            <a:ext cx="1803240" cy="12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39E-9178-4108-ABE3-6B7A3863A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066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he slides from here on are for backgroun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6021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 = Not Elsewhere Indicated; X = Missing (struc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80360" cy="41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E7C-C4E8-4C94-92AE-D51C10B19D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9933"/>
                </a:solidFill>
                <a:latin typeface="Arial"/>
              </a:rPr>
              <a:t>2001 Census Statement of Confidentiality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Only people authorised by the Statistics Act 1975 are allowed to see your individual information. 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They must use it only for statistical purposes, such as the preparation of summary statistics about group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We’re working within thi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FB9-E0CB-4EE0-A5BE-9010DD24AE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518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Overseas Practic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3840" y="1486080"/>
          <a:ext cx="8138880" cy="43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486080"/>
                    <a:ext cx="813888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429-2E95-42FF-9948-9FFB6F704A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How big are NZ’s Area Units?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3978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43960" y="5300640"/>
            <a:ext cx="68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Mean = 2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There are lots of very small population Area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187280" y="4149720"/>
            <a:ext cx="1584360" cy="12952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0D4-77E6-43B5-A72D-BBFA5114DD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ffs in Counts: CURF – Expecte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119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5705640"/>
            <a:ext cx="85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unts in the cells for controlled variables: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Sex* AgeGroup * AreaUnit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are </a:t>
            </a:r>
            <a:r>
              <a:rPr b="0" lang="en-NZ" sz="3200" spc="-1" strike="noStrike">
                <a:solidFill>
                  <a:srgbClr val="003333"/>
                </a:solidFill>
                <a:latin typeface=""/>
              </a:rPr>
              <a:t>≤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±1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4DC-55A9-4F49-AE73-AA063D467E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ffs in Counts: CURF – Expecte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4994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11280" y="5661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ome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still qui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1BE-E62E-4AEF-A77F-58BA994396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333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urf behaviour: Tables of count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44640" y="907920"/>
          <a:ext cx="3363840" cy="18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907920"/>
                    <a:ext cx="3363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685800" y="2852640"/>
            <a:ext cx="8207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For the population we have: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opulation size = N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Sample size = 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For any </a:t>
            </a:r>
            <a:r>
              <a:rPr b="0" lang="en-NZ" sz="3200" spc="-1" strike="noStrike">
                <a:solidFill>
                  <a:srgbClr val="ff3300"/>
                </a:solidFill>
                <a:latin typeface="Arial"/>
              </a:rPr>
              <a:t>cell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we have: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opulation count = k 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Sample count = x, and let p = x/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So x behaves as a …. Ummmmm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16360" y="2349360"/>
            <a:ext cx="215640" cy="2159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119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the Minicu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8C3-841C-4416-B40B-F42998D650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… </a:t>
            </a: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is x a hypergeometric?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2276640"/>
            <a:ext cx="676908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2276640"/>
            <a:ext cx="136836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32000" y="5373720"/>
            <a:ext cx="6769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227664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8880" y="19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37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7888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48000" y="5373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curf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32720" y="2349360"/>
            <a:ext cx="129672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popula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980-CAFC-4A29-BA81-BE961B9812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hat happens to sampling error</a:t>
            </a:r>
            <a:br>
              <a:rPr sz="3600"/>
            </a:b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of p as curf size increases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f we believe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x is hypergeometric; parameters N, n, k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x is approx binomial, parameters k/N, n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x is approx Poisson, parameter nk/N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(when k/N is small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Let p = x/n = proportion of curf in cell.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n SE(p) = expression /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o it declin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gracefully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s n increas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00720" y="4595760"/>
          <a:ext cx="4464000" cy="211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4595760"/>
                    <a:ext cx="44640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3A1-C7EE-4F60-B4BE-6E20A4E47D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ensus datase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5589360"/>
            <a:ext cx="806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RF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is a subset of this …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CURF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Confidentialised Unit Record File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981000"/>
            <a:ext cx="835344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268280"/>
            <a:ext cx="813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bout 100 output variables (all categorical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D  Geographic      Family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Demographic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cation          &amp; Household              Sex Age Residence Ethni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rigin Income Em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628640"/>
            <a:ext cx="8353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981000"/>
            <a:ext cx="0" cy="4176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997360"/>
            <a:ext cx="208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 820 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the census-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op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A28-9229-4161-9AE8-D7647AA54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ensus dataset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 its CURF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5300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We want thi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RF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to be both useful and safe!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But there are several possible results …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835344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268280"/>
            <a:ext cx="813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bout 100 output variables (all categorical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D  Geographic      Family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Demographic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cation          &amp; Household              Sex Age Residence Ethni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rigin Income Em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628640"/>
            <a:ext cx="8353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981000"/>
            <a:ext cx="0" cy="4176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997360"/>
            <a:ext cx="208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 820 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the census-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op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005360"/>
            <a:ext cx="28810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378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6 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o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21300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3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ll categorical, some collap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860640"/>
            <a:ext cx="288108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3933720"/>
            <a:ext cx="0" cy="2160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422100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250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modifi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076640"/>
            <a:ext cx="14292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628640"/>
            <a:ext cx="288108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9CB-21AB-4627-BC74-7AA470FEE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possible results …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98100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27640" y="5013360"/>
            <a:ext cx="15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734080"/>
            <a:ext cx="770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e hope we’ve got ours up her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3"/>
          </p:cNvCxnSpPr>
          <p:nvPr/>
        </p:nvCxnSpPr>
        <p:spPr>
          <a:xfrm flipH="1" flipV="1">
            <a:off x="6227280" y="1844280"/>
            <a:ext cx="1945440" cy="4237920"/>
          </a:xfrm>
          <a:prstGeom prst="curvedConnector5">
            <a:avLst>
              <a:gd name="adj1" fmla="val -11752"/>
              <a:gd name="adj2" fmla="val 27049"/>
              <a:gd name="adj3" fmla="val -11752"/>
            </a:avLst>
          </a:prstGeom>
          <a:ln w="9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 flipV="1">
            <a:off x="755640" y="155700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4941720"/>
            <a:ext cx="612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25800">
            <a:off x="1476360" y="2997000"/>
            <a:ext cx="46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URFs start along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628640"/>
            <a:ext cx="2881440" cy="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162864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ful,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2926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less, 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4365720"/>
            <a:ext cx="20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less,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170028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ful, 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053-45D6-483D-A40C-3CE1D9817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6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How to get safety (we hope)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and not lose usefulness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hoose the variables carefully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ut location and household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re sad loss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ollapse variables carefully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 preserve important group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hoose a small sample size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still get good estimat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Use Special Uniqu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o find rogue records and variables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change a tiny fraction of the datase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980-8C36-4C7A-AD6B-E4B8DE4567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634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Example: carefully collapsed categories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3464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4000" y="4724280"/>
            <a:ext cx="7993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9933"/>
                </a:solidFill>
                <a:latin typeface="Arial"/>
              </a:rPr>
              <a:t>AgeGroup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 has: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a few (8) large (5% +) categories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useful life-stage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7B9-30AE-4A23-A3AB-12D8A513F6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For future census CURFs,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we’ll rethink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ncluding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ousehold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variabl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t expense of other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ollapsing of categori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EB3-FE0F-4693-9562-F0D6A52D3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One measure of usefulness: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reliability of count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343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Here’s a cell in a table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5% of the population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s in it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CURF will give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n answer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± its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sampling error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   5%     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±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    0.08%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s is what the sampling error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looks like for other population %’s: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447640" cy="1025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92720" y="162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25F-F2F5-4FEB-84E6-D7D114A0A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Technical Support Services</cp:lastModifiedBy>
  <dcterms:modified xsi:type="dcterms:W3CDTF">2005-10-30T21:43:20Z</dcterms:modified>
  <cp:revision>134</cp:revision>
  <dc:subject/>
  <dc:title>PowerPoint Presentation</dc:title>
</cp:coreProperties>
</file>