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25.wmf" ContentType="image/x-wmf"/>
  <Override PartName="/ppt/media/image2.jpeg" ContentType="image/jpeg"/>
  <Override PartName="/ppt/media/image6.png" ContentType="image/png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C0D-D54F-4457-A80A-4EEE275A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72636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78C-9037-4E6D-9749-CABCF061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240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A9E-2BA8-43B4-AE55-E7FAA4F4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96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264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96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264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4CB-072E-4708-8BB7-ECF653D3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A586-4497-4431-8267-53D62CB0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7D9F-529D-4F93-8A1F-C967FBFB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1BAC-9549-4112-B5D6-8A77D6F8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BA0E-0E7E-48B8-8602-AFB2C75A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BA22-FBC7-4D1D-AA40-F6BB80C3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259920"/>
            <a:ext cx="655164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B34E-6D5D-4359-A7D0-0053C743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27DC-4261-44FC-AB23-6E1F03DD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30D-AC9F-4D0C-BF7E-605D664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240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450C-B8C2-404E-AB6A-BC10AF01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DBDF-918E-41B2-AEE7-7FE5C9EB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72636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9B2B-8792-4707-A68E-D927B463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240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2D93-92A3-4D23-83DB-12B07214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96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264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96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264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5E16-538C-4047-8F4C-9299708A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7E0C-D0EE-4B4D-9DA3-535769DB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DA41A-B72A-4EA1-AF69-15085FC9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60803-4E88-40D2-BACD-B7613DF4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9BD1D-82C8-45A9-AC81-F0B9F129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2E13-3639-447B-B1FA-C952DD5A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6DD-4952-49D2-8701-AC6D43D4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94920" y="259920"/>
            <a:ext cx="655164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C639-4565-4359-B3B9-4DCDA6E6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DE17-59C8-451E-8B64-BCF24EC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240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636F9-64B3-4D16-9181-DF8969F8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301B-4242-4FB7-BE51-18D7ECA3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5280" y="372636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FD03-23B5-4B19-AF41-2CB6983A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240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F8835-8425-4505-B8CC-736D19D6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396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2640" y="105228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9528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396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92640" y="3726360"/>
            <a:ext cx="27126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2EB7-1901-4D53-AACA-735497B2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A02-796D-4860-BD57-D5559A1F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0E0-E2D7-4CD0-84E4-BDBCBB2F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259920"/>
            <a:ext cx="655164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6A4-956C-4FD2-887C-E265CEBE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5C9-0ACB-4FB2-A753-99CFE0F8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2400" y="372636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3C2-9CE2-4018-8040-ABCDFEE6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2400" y="1052280"/>
            <a:ext cx="4111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726360"/>
            <a:ext cx="84247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682-B38A-49D8-AC0F-1120DF59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052280"/>
            <a:ext cx="84247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A67F-62A2-4CB7-AC9C-4CAE5B7CA018}" type="slidenum">
              <a:rPr b="0" lang="en-US" sz="1200" spc="-1" strike="noStrike">
                <a:solidFill>
                  <a:srgbClr val="00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3915-0319-4FF5-9CED-A39D890424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5C3A-8A76-4CAF-BDA9-30A74696F454}" type="slidenum">
              <a:rPr b="0" lang="en-US" sz="1200" spc="-1" strike="noStrike">
                <a:solidFill>
                  <a:srgbClr val="00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9.png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8.png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9.png"/><Relationship Id="rId23" Type="http://schemas.openxmlformats.org/officeDocument/2006/relationships/image" Target="../media/image5.png"/><Relationship Id="rId2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Microdata for Research’ samp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 New Zealand cen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4764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ke Camde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ke.camden@stats.govt.nz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tistics New Zeal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ww.stats.govt.nz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0638-C919-4ECF-9F5B-AE858FA557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111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Let’s fix curf size at 2%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51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Let pop proportion go from 0% to 5%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What happens to sampling error of p?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9800" y="2273400"/>
          <a:ext cx="5334120" cy="43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2273400"/>
                    <a:ext cx="533412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6012000" y="4221000"/>
            <a:ext cx="28778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A 2% sample,</a:t>
            </a:r>
            <a:br>
              <a:rPr sz="2400"/>
            </a:b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with 76 000 people, </a:t>
            </a:r>
            <a:br>
              <a:rPr sz="2400"/>
            </a:b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gives </a:t>
            </a:r>
            <a:br>
              <a:rPr sz="2400"/>
            </a:b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g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8F1-A8CC-46E5-B7CD-1E9CAF24B5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The CURF expresses NZ’s diversity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3645000"/>
            <a:ext cx="86421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e have 5 Yes/No Ethnicity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pecial Uniques process set some to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e CURF adds some sampling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5 variables give 32 (= 2</a:t>
            </a:r>
            <a:r>
              <a:rPr b="0" lang="en-US" sz="3200" spc="-1" strike="noStrike" baseline="30000">
                <a:solidFill>
                  <a:srgbClr val="003333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) combination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885080" y="3428640"/>
            <a:ext cx="21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7019640" y="3499920"/>
            <a:ext cx="576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C72-F39A-4D09-BC40-A360276380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36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The 32 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combined ethnicities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59280" y="133200"/>
          <a:ext cx="277164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33200"/>
                    <a:ext cx="27716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156360" y="2637000"/>
            <a:ext cx="2576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This vari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m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some of us</a:t>
            </a:r>
            <a:br>
              <a:rPr sz="2400"/>
            </a:b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u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Differ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come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Special U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-Sampling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86692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620640"/>
            <a:ext cx="115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999933"/>
                </a:solidFill>
                <a:latin typeface="Arial"/>
              </a:rPr>
              <a:t>Single ethnicities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0360" y="54936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491-BE33-4734-B82C-24448F383A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6046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Census curf unique records 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82072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74.4% of records for NZ adults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have unique combinations of values across all 33 vars</a:t>
            </a:r>
            <a:br>
              <a:rPr sz="3200"/>
            </a:b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They’re Population Uniqu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If someone is unique in the CURF, are they also unique in the population? </a:t>
            </a:r>
            <a:br>
              <a:rPr sz="3200"/>
            </a:b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What is Pr(PU|SU) ?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B75-41CC-45A3-8940-93B97831E3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6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Is a Sample Unique 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also a Population Unique?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05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D37-86F8-4C5E-B702-A5822478C1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We volunteered ten researchers 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to assess safety and usefulness …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Useful?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“no more variables needed”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“keep the household relationships”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“I’d like Region” “I’d never use Region”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“I get down to small numbers (employment by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 ethnicity) and worry about small sample size”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“the CURF will be a major asset to researchers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Safe?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“I am quite confident that our identity 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 has been protected as much as possible”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978-8EFB-4DF3-92D4-3278F2C7C6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4606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How big a sample?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1% is Too Small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We have sample surveys like that already: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- Household Labour Force Survey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- Income Survey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- SoFIE 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3% is Too Big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Disclosure risk up, variability down only a bi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Whole-number %s are best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for the sampling method 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uggestions please???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6AD-CBE3-411E-BF52-060B778EF6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549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Usability, Safety and Sample Size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55640" y="1341360"/>
          <a:ext cx="776772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76772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B87-9D6E-497D-88F7-FA8C3EC8DD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6767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Our ‘controlled’ sampling method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We used: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A </a:t>
            </a:r>
            <a:r>
              <a:rPr b="0" lang="en-NZ" sz="3200" spc="-1" strike="noStrike" u="sng">
                <a:solidFill>
                  <a:srgbClr val="003333"/>
                </a:solidFill>
                <a:uFillTx/>
                <a:latin typeface="Arial"/>
              </a:rPr>
              <a:t>sort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on 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i="1" lang="en-NZ" sz="3200" spc="-1" strike="noStrike">
                <a:solidFill>
                  <a:srgbClr val="003333"/>
                </a:solidFill>
                <a:latin typeface="Arial"/>
              </a:rPr>
              <a:t>Sex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, 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i="1" lang="en-NZ" sz="3200" spc="-1" strike="noStrike">
                <a:solidFill>
                  <a:srgbClr val="003333"/>
                </a:solidFill>
                <a:latin typeface="Arial"/>
              </a:rPr>
              <a:t>AgeGroup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(8 groups), 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i="1" lang="en-NZ" sz="3200" spc="-1" strike="noStrike">
                <a:solidFill>
                  <a:srgbClr val="003333"/>
                </a:solidFill>
                <a:latin typeface="Arial"/>
              </a:rPr>
              <a:t>AreaUnit 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(not in CURF)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then a </a:t>
            </a:r>
            <a:r>
              <a:rPr b="0" lang="en-NZ" sz="3200" spc="-1" strike="noStrike" u="sng">
                <a:solidFill>
                  <a:srgbClr val="003333"/>
                </a:solidFill>
                <a:uFillTx/>
                <a:latin typeface="Arial"/>
              </a:rPr>
              <a:t>grouping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into 100s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then a </a:t>
            </a:r>
            <a:r>
              <a:rPr b="0" lang="en-NZ" sz="3200" spc="-1" strike="noStrike" u="sng">
                <a:solidFill>
                  <a:srgbClr val="003333"/>
                </a:solidFill>
                <a:uFillTx/>
                <a:latin typeface="Arial"/>
              </a:rPr>
              <a:t>systematic sample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from each 100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This gives great proportions 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for these ‘controlled’ variables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and may help related variables </a:t>
            </a:r>
            <a:br>
              <a:rPr sz="3200"/>
            </a:b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(ethnicities, urban/rural etc)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360" y="3357720"/>
            <a:ext cx="0" cy="358560"/>
          </a:xfrm>
          <a:prstGeom prst="line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8D7-1E7E-4B5A-856A-1343CB0D45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Diffs in Counts: CURF – Expected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848360" cy="4803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395280" y="566100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Controlled variables give tiny differences ( </a:t>
            </a:r>
            <a:r>
              <a:rPr b="0" lang="en-US" sz="2800" spc="-1" strike="noStrike">
                <a:solidFill>
                  <a:srgbClr val="999933"/>
                </a:solidFill>
                <a:latin typeface=""/>
              </a:rPr>
              <a:t>≤ 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±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Others show little drop in variation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19640" y="981000"/>
            <a:ext cx="34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Variation with random sampling </a:t>
            </a:r>
            <a:br>
              <a:rPr sz="1600"/>
            </a:b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and independance; </a:t>
            </a:r>
            <a:r>
              <a:rPr b="0" lang="en-US" sz="1600" spc="-1" strike="noStrike">
                <a:solidFill>
                  <a:srgbClr val="003333"/>
                </a:solidFill>
                <a:latin typeface="Arial"/>
                <a:ea typeface="Arial"/>
              </a:rPr>
              <a:t>±</a:t>
            </a: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1, </a:t>
            </a:r>
            <a:r>
              <a:rPr b="0" lang="en-US" sz="1600" spc="-1" strike="noStrike">
                <a:solidFill>
                  <a:srgbClr val="003333"/>
                </a:solidFill>
                <a:latin typeface="Arial"/>
                <a:ea typeface="Arial"/>
              </a:rPr>
              <a:t>±</a:t>
            </a:r>
            <a:r>
              <a:rPr b="0" lang="en-US" sz="1600" spc="-1" strike="noStrike">
                <a:solidFill>
                  <a:srgbClr val="003333"/>
                </a:solidFill>
                <a:latin typeface="Arial"/>
              </a:rPr>
              <a:t> 2 S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380360" y="1557360"/>
            <a:ext cx="216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956720" y="1557360"/>
            <a:ext cx="71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419640" y="4436640"/>
            <a:ext cx="2808000" cy="1297080"/>
          </a:xfrm>
          <a:prstGeom prst="line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219280" y="3573360"/>
            <a:ext cx="1081080" cy="719280"/>
          </a:xfrm>
          <a:prstGeom prst="line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FBD-0EE3-403A-B319-72156CFDF5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Reseachers accessing microdata in NZ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3165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Datalab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Offsite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Remote</a:t>
            </a:r>
            <a:br>
              <a:rPr sz="2400"/>
            </a:b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CURF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40360" y="5589720"/>
            <a:ext cx="495000" cy="295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03640" y="4149720"/>
            <a:ext cx="1293840" cy="325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76720" y="5589720"/>
            <a:ext cx="863640" cy="276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348000" y="4437000"/>
            <a:ext cx="1293840" cy="41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276720" y="3068640"/>
            <a:ext cx="1293840" cy="414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19640" y="422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3789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5229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URF on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2708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050920" y="1197000"/>
            <a:ext cx="884520" cy="100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1979640" y="2349360"/>
            <a:ext cx="888840" cy="1150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1979640" y="3573360"/>
            <a:ext cx="941400" cy="1224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1979640" y="4941720"/>
            <a:ext cx="947880" cy="1151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92360" y="112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99cc00"/>
                </a:solidFill>
                <a:latin typeface="Times New Roman"/>
              </a:rPr>
              <a:t>The resear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627280" y="1413000"/>
            <a:ext cx="1440000" cy="2872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716360" y="2349360"/>
          <a:ext cx="871560" cy="1150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16360" y="2349360"/>
                    <a:ext cx="8715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076720" y="3716280"/>
          <a:ext cx="952560" cy="1152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76720" y="3716280"/>
                    <a:ext cx="9525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003640" y="2781360"/>
          <a:ext cx="324000" cy="574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03640" y="2781360"/>
                    <a:ext cx="3240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16"/>
          <a:stretch/>
        </p:blipFill>
        <p:spPr>
          <a:xfrm>
            <a:off x="4643280" y="5589720"/>
            <a:ext cx="863640" cy="2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5435640" y="4941720"/>
          <a:ext cx="946080" cy="115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35640" y="4941720"/>
                    <a:ext cx="9460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64000" y="4076640"/>
          <a:ext cx="325440" cy="57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64000" y="4076640"/>
                    <a:ext cx="325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724360" y="5373720"/>
          <a:ext cx="325440" cy="576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24360" y="5373720"/>
                    <a:ext cx="325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588000" y="1197000"/>
            <a:ext cx="1656000" cy="5111640"/>
          </a:xfrm>
          <a:prstGeom prst="rtTriangle">
            <a:avLst/>
          </a:prstGeom>
          <a:solidFill>
            <a:srgbClr val="999933"/>
          </a:solidFill>
          <a:ln w="9360">
            <a:solidFill>
              <a:srgbClr val="99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7019640" y="1196640"/>
            <a:ext cx="1585800" cy="5040360"/>
          </a:xfrm>
          <a:prstGeom prst="rtTriangle">
            <a:avLst/>
          </a:prstGeom>
          <a:solidFill>
            <a:srgbClr val="999933"/>
          </a:solidFill>
          <a:ln w="9360">
            <a:solidFill>
              <a:srgbClr val="99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3080" y="5013360"/>
            <a:ext cx="9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66920" y="1268280"/>
            <a:ext cx="86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1557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3"/>
          <a:stretch/>
        </p:blipFill>
        <p:spPr>
          <a:xfrm>
            <a:off x="3203640" y="1916280"/>
            <a:ext cx="1293840" cy="360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80000" y="2852640"/>
            <a:ext cx="10652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Go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0360" y="1484280"/>
            <a:ext cx="863280" cy="12970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8E3-8380-45BF-8E94-5529A0F034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onclusions: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Making a CURF both Useful and Safe needs: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Cunning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  Contracts, Co-operation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  Confidence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Controlling the sampling improves counts: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for controlled variables: 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spectacularly</a:t>
            </a:r>
            <a:br>
              <a:rPr sz="2800"/>
            </a:b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  for other variables: 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minimally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See </a:t>
            </a:r>
            <a:br>
              <a:rPr sz="2800"/>
            </a:b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9933"/>
                </a:solidFill>
                <a:latin typeface="Arial"/>
              </a:rPr>
              <a:t>www.stats.govt.nz/CURF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 rot="20900400">
            <a:off x="7020000" y="5157720"/>
            <a:ext cx="1803240" cy="12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87B-7F1F-425E-91B3-F90AB43E0E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066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The slides from here on are for background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6021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 = Not Elsewhere Indicated; X = Missing (struc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80360" cy="419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0B6-F139-4B4B-ADC7-8BEC16776C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3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999933"/>
                </a:solidFill>
                <a:latin typeface="Arial"/>
              </a:rPr>
              <a:t>2001 Census Statement of Confidentiality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3333"/>
                </a:solidFill>
                <a:latin typeface="Arial"/>
              </a:rPr>
              <a:t>Only people authorised by the Statistics Act 1975 are allowed to see your individual information.  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3333"/>
                </a:solidFill>
                <a:latin typeface="Arial"/>
              </a:rPr>
              <a:t>They must use it only for statistical purposes, such as the preparation of summary statistics about groups.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We’re working within this.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5B0-A096-477E-ACD7-E09047485A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518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Overseas Practice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3840" y="1486080"/>
          <a:ext cx="8138880" cy="43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486080"/>
                    <a:ext cx="813888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ED2-1F20-4347-8AEC-97CC40BB93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How big are NZ’s Area Units??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3978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43960" y="5300640"/>
            <a:ext cx="685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Mean = 2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33"/>
                </a:solidFill>
                <a:latin typeface="Arial"/>
              </a:rPr>
              <a:t>There are lots of very small population Area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187280" y="4149720"/>
            <a:ext cx="1584360" cy="1295280"/>
          </a:xfrm>
          <a:prstGeom prst="line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68B-8E46-40F2-B813-7D32168DDC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Diffs in Counts: CURF – Expected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424720" cy="5119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5705640"/>
            <a:ext cx="856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Counts in the cells for controlled variables: </a:t>
            </a:r>
            <a:r>
              <a:rPr b="0" i="1" lang="en-NZ" sz="3200" spc="-1" strike="noStrike">
                <a:solidFill>
                  <a:srgbClr val="003333"/>
                </a:solidFill>
                <a:latin typeface="Arial"/>
              </a:rPr>
              <a:t>Sex* AgeGroup * AreaUnit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are </a:t>
            </a:r>
            <a:r>
              <a:rPr b="0" lang="en-NZ" sz="3200" spc="-1" strike="noStrike">
                <a:solidFill>
                  <a:srgbClr val="003333"/>
                </a:solidFill>
                <a:latin typeface=""/>
              </a:rPr>
              <a:t>≤ 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  <a:ea typeface="Arial"/>
              </a:rPr>
              <a:t>±1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722-C57A-4411-8FA0-8D090DA0F9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Diffs in Counts: CURF – Expected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136000" cy="4994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11280" y="56610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omeGro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lat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s still qui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3BA-0B30-41C9-A5F7-451D9E81A6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6333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Curf behaviour: Tables of counts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44640" y="907920"/>
          <a:ext cx="3363840" cy="18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907920"/>
                    <a:ext cx="3363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685800" y="2852640"/>
            <a:ext cx="8207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For the population we have:</a:t>
            </a:r>
            <a:br>
              <a:rPr sz="3200"/>
            </a:b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Population size = N</a:t>
            </a:r>
            <a:br>
              <a:rPr sz="3200"/>
            </a:b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Sample size = 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For any </a:t>
            </a:r>
            <a:r>
              <a:rPr b="0" lang="en-NZ" sz="3200" spc="-1" strike="noStrike">
                <a:solidFill>
                  <a:srgbClr val="ff3300"/>
                </a:solidFill>
                <a:latin typeface="Arial"/>
              </a:rPr>
              <a:t>cell</a:t>
            </a: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 we have:</a:t>
            </a:r>
            <a:br>
              <a:rPr sz="3200"/>
            </a:b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Population count = k </a:t>
            </a:r>
            <a:br>
              <a:rPr sz="3200"/>
            </a:b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Sample count = x, and let p = x/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So x behaves as a …. Ummmmm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916360" y="2349360"/>
            <a:ext cx="215640" cy="2159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119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om the Minicur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730-EF24-444C-AC43-1ADE261BBC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… </a:t>
            </a: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is x a hypergeometric??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32000" y="2276640"/>
            <a:ext cx="6769080" cy="37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32720" y="2276640"/>
            <a:ext cx="1368360" cy="37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32000" y="5373720"/>
            <a:ext cx="67690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2276640"/>
            <a:ext cx="3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78880" y="19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71640" y="537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7888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48000" y="5373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 curf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32720" y="2349360"/>
            <a:ext cx="129672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32000" y="1916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 popula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BB3-8064-4B76-9FE5-6AA1AFC592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What happens to sampling error</a:t>
            </a:r>
            <a:br>
              <a:rPr sz="3600"/>
            </a:b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of p as curf size increases?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281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If we believe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x is hypergeometric; parameters N, n, k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x is approx binomial, parameters k/N, n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x is approx Poisson, parameter nk/N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(when k/N is small)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Let p = x/n = proportion of curf in cell.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en SE(p) = expression /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n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o it declines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gracefully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as n increas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00720" y="4595760"/>
          <a:ext cx="4464000" cy="211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4595760"/>
                    <a:ext cx="446400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436-9CCD-4DC7-A93F-73CB070D8E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census datase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5589360"/>
            <a:ext cx="806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URF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is a subset of this …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CURF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= Confidentialised Unit Record File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981000"/>
            <a:ext cx="835344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268280"/>
            <a:ext cx="813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bout 100 output variables (all categorical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D  Geographic      Family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Demographic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cation          &amp; Household              Sex Age Residence Ethnic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rigin Income Em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1628640"/>
            <a:ext cx="83534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981000"/>
            <a:ext cx="0" cy="41767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2997360"/>
            <a:ext cx="208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 820 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the census-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opu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8AD-C368-4DEB-9212-86EB7E1D33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census dataset</a:t>
            </a: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nd its CURF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5300640"/>
            <a:ext cx="806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We want thi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URF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to be both useful and safe!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But there are several possible results …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835344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268280"/>
            <a:ext cx="813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bout 100 output variables (all categorical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D  Geographic      Family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Demographic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cation          &amp; Household              Sex Age Residence Ethnic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rigin Income Em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628640"/>
            <a:ext cx="835344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981000"/>
            <a:ext cx="0" cy="41767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2997360"/>
            <a:ext cx="208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 820 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the census-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opu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005360"/>
            <a:ext cx="2881080" cy="7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378936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76 4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eop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321300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3 variabl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ll categorical, some collap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67280" y="3860640"/>
            <a:ext cx="288108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3933720"/>
            <a:ext cx="0" cy="2160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422100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250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modifi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4076640"/>
            <a:ext cx="142920" cy="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1628640"/>
            <a:ext cx="2881080" cy="36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32E-9E03-4D1B-AABC-249CDA472C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The possible results …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98100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Us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27640" y="5013360"/>
            <a:ext cx="151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734080"/>
            <a:ext cx="7704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We hope we’ve got ours up here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1" idx="3"/>
          </p:cNvCxnSpPr>
          <p:nvPr/>
        </p:nvCxnSpPr>
        <p:spPr>
          <a:xfrm flipH="1" flipV="1">
            <a:off x="6227280" y="1844280"/>
            <a:ext cx="1945440" cy="4237920"/>
          </a:xfrm>
          <a:prstGeom prst="curvedConnector5">
            <a:avLst>
              <a:gd name="adj1" fmla="val -11752"/>
              <a:gd name="adj2" fmla="val 27049"/>
              <a:gd name="adj3" fmla="val -11752"/>
            </a:avLst>
          </a:prstGeom>
          <a:ln w="93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 flipV="1">
            <a:off x="755640" y="1557000"/>
            <a:ext cx="0" cy="33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4941720"/>
            <a:ext cx="612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825800">
            <a:off x="1476360" y="2997000"/>
            <a:ext cx="46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CURFs start along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1628640"/>
            <a:ext cx="2881440" cy="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1628640"/>
            <a:ext cx="16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33"/>
                </a:solidFill>
                <a:latin typeface="Arial"/>
              </a:rPr>
              <a:t>Useful, 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429264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33"/>
                </a:solidFill>
                <a:latin typeface="Arial"/>
              </a:rPr>
              <a:t>Useless, Un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80000" y="4365720"/>
            <a:ext cx="20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33"/>
                </a:solidFill>
                <a:latin typeface="Arial"/>
              </a:rPr>
              <a:t>Useless, 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1700280"/>
            <a:ext cx="194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33"/>
                </a:solidFill>
                <a:latin typeface="Arial"/>
              </a:rPr>
              <a:t>Useful, Un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53C-E2CD-4E70-842F-0902E1122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6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How to get safety (we hope)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and not lose usefulness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hoose the variables carefully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ut location and household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re sad loss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ollapse variables carefully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o preserve important group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hoose a small sample size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still get good estimat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Use Special Uniques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o find rogue records and variables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change a tiny fraction of the datase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631-C9A8-41E6-8B35-9AAC397C10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634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9933"/>
                </a:solidFill>
                <a:latin typeface="Arial"/>
              </a:rPr>
              <a:t>Example: carefully collapsed categories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80360" cy="3464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4000" y="4724280"/>
            <a:ext cx="7993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9933"/>
                </a:solidFill>
                <a:latin typeface="Arial"/>
              </a:rPr>
              <a:t>AgeGroup</a:t>
            </a: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 has: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a few (8) large (5% +) categories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useful life-stage 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9E8-B78D-4D54-A051-7E5FC5AF30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For future census CURFs, 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we’ll rethink: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Including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ousehold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variables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at expense of other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ollapsing of categori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C04-F34F-4B10-A793-9535038EAF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1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One measure of usefulness:</a:t>
            </a:r>
            <a:br>
              <a:rPr sz="3200"/>
            </a:b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reliability of counts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343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Here’s a cell in a table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5% of the population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is in it.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e CURF will give 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an answer 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  <a:ea typeface="Arial"/>
              </a:rPr>
              <a:t>± its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sampling error: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   5%      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  <a:ea typeface="Arial"/>
              </a:rPr>
              <a:t>±</a:t>
            </a: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        0.08%.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s is what the sampling error</a:t>
            </a:r>
            <a:br>
              <a:rPr sz="3200"/>
            </a:b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looks like for other population %’s: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372360" y="1484280"/>
            <a:ext cx="2447640" cy="1025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292720" y="1628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544-9D47-4DD1-B055-F0BFDD0710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1:15:15Z</dcterms:created>
  <dc:creator>   </dc:creator>
  <dc:description/>
  <dc:language>en-US</dc:language>
  <cp:lastModifiedBy>Technical Support Services</cp:lastModifiedBy>
  <dcterms:modified xsi:type="dcterms:W3CDTF">2005-10-30T21:43:20Z</dcterms:modified>
  <cp:revision>134</cp:revision>
  <dc:subject/>
  <dc:title>PowerPoint Presentation</dc:title>
</cp:coreProperties>
</file>