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 Checklist for Business Profil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7640" y="5445000"/>
            <a:ext cx="6402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Perry, UK Office for National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Ven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ncorporated Joint Venture (UJ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efined as a contractual association, other than a partnership or a trust, between two or more parties to undertake a specific business project.  Parties to a UJV meet the costs of the project and receive a share of the resulting output rather than a share of the pro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int-Ventur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ssociation of two or more individuals or businesses generally formed to carry out for profit, a single temporary business transaction. The legal responsibility compares to a partn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vernment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government's ability to influence the operations of an entity in a way which is more effective and direct than the exercise of general legislative or regulatory powers over the electorate at larg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control can be exercised through majority ownership of voting shares, through specific legislation or by way of a particular administrative arrange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ecial purpose entities (SP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lly organised or established in economies other than those in which the parent companies are resident; and engaged primarily in international transactions but in few or no local oper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s are defined either by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ucture (e.g., financing subsidiary, holding company, base company, regional headquarters),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rpose (e.g., sale and regional administration, management of foreign exchange risk, facilitation of financing of investmen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hecklist in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Profiling now uses the checklist as a MS Excel spreadsheet for its visiting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or modifications are being made based on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asis of Business Profi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profiling is the method by which the business register structure for complex enterprise groups is mainta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siness uni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prise groups comprising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prises comprising single legal units or the smallest group of legal units with a certain degree of autonomy within an enterpris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units operated by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l units defined by the VAT trader, Pay As You Earn (PAYE) employer and compan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 Un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is usually at the enterprise level but the most complex businesses may report for parts separately under the following condi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terprise operates in both Great Britain and Northern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terprise operates in more than one industry and can provide the range of data required for business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terprise can provide information more easily, and therefore more quickly and at a lower cost, by providing survey responses for separate parts of the enterp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 a Checkl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of business profiling is to match the reporting ability of the enterprise group with the strict statistical requirements. The result is inevitably a compromise that trades off homogeneity against precision and timeliness of repor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nciple adopted in developing the checklist was to minimise the data collected, limiting both the cost to government and the compliance cost to busin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list: 1 – Enterprise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prise group domestic parent name, number and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profile (desk/ telephone/ vis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s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of contact in group, address, telephone number and position of 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iling officer and start  and end dates of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 Holding Company (Global) Name and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ediate Holding Company Name and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year end for the group operating within the national terr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ersons employed within the national terr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Joint Ventures within the UK in which the group is invol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group government owned or control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group has any foreign subsidiary or bran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group carried out any international trade in services in the last financial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list: 2 – Legal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ID and legal na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operating, dormant, ceased or s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eased or sold and estimate of date and the name and ID of the purchasing legal ent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on of main activity and its industry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special purpose entity (S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ID of immediate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list: 3 – Operating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unit reference and trading name and contact address (the operating reference will usually be assigned by the statistical off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D within which this operates who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 of main activity and its industry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on that it is ancillary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persons employ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local un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over in national curr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 it can supply monthly, quarterly or annu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terprise within which it ope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list: 4 – Local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unit reference and trading name and add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on of main activity and its industry c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 that it is ancillary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ersons employ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unit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urpose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3:14:00Z</dcterms:created>
  <dc:creator>cuffe</dc:creator>
  <dc:description/>
  <dc:language>en-US</dc:language>
  <cp:lastModifiedBy>perryj</cp:lastModifiedBy>
  <dcterms:modified xsi:type="dcterms:W3CDTF">2007-05-16T06:37:49Z</dcterms:modified>
  <cp:revision>83</cp:revision>
  <dc:subject/>
  <dc:title>Slide 1</dc:title>
</cp:coreProperties>
</file>