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1430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407-1136-4A44-9223-C1A98BC5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310-CAFB-4A89-B8A7-DC05110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EAF-EDE9-4116-B8CD-5D76D47E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68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822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5714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2768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9822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8AE-E4E8-48D6-939C-B849804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0E41-DEBC-4031-AB1D-81ACC3BB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FAE-9F87-4CB8-835A-945625DD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B613-9346-4A26-96C9-81B5FCC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FC38-118A-46BF-A750-E66D90B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69C-2471-4082-8D46-33C39813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31E9-9535-4D2F-918B-2979A3F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42A2-6DA7-4C70-B2C3-9F9978C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71D-8D49-41C4-BD72-5AF82EF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406C-2B7E-4877-9489-E36C5B28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A70-414D-4F4C-AF1D-393AD634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68A3-E129-4630-9F48-3006AF81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3E4-9059-46EB-B721-5311A876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68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82280" y="411480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714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2768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82280" y="5030640"/>
            <a:ext cx="2576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DCDA-94FA-4DFB-8929-BCB82D7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FB7-4333-46B9-A277-F73A4DDA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D9B-DF45-41ED-B04A-CCB70330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B88-79D6-414A-9153-2506B512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440-3F07-41EC-9B7F-B5996BDC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CF8-936A-4ACF-B07E-772858F7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503064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106-32E1-4613-86B7-03B7A99B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7148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71160" y="4114800"/>
            <a:ext cx="3904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71480" y="5030640"/>
            <a:ext cx="800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43F-84F5-4003-9229-224A466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7160" y="117360"/>
            <a:ext cx="10571040" cy="6739200"/>
            <a:chOff x="857160" y="117360"/>
            <a:chExt cx="10571040" cy="6739200"/>
          </a:xfrm>
        </p:grpSpPr>
        <p:sp>
          <p:nvSpPr>
            <p:cNvPr id="1" name=""/>
            <p:cNvSpPr/>
            <p:nvPr/>
          </p:nvSpPr>
          <p:spPr>
            <a:xfrm>
              <a:off x="857160" y="6629400"/>
              <a:ext cx="438156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672880" y="6746760"/>
              <a:ext cx="5415480" cy="65160"/>
              <a:chOff x="5672880" y="6746760"/>
              <a:chExt cx="541548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5672880" y="6746760"/>
                <a:ext cx="8352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43500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19676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95888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2100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482760" y="6746760"/>
                <a:ext cx="83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244880" y="6746760"/>
                <a:ext cx="8352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007000" y="6746760"/>
                <a:ext cx="81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952560" y="762120"/>
              <a:ext cx="104756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5840" y="117360"/>
              <a:ext cx="831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5840" y="347760"/>
              <a:ext cx="83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05840" y="574560"/>
              <a:ext cx="83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857160" y="1981080"/>
            <a:ext cx="971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85680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90528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819108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A14-459D-41D3-B519-C00DAD99F4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11428200" cy="6739200"/>
            <a:chOff x="0" y="117360"/>
            <a:chExt cx="11428200" cy="6739200"/>
          </a:xfrm>
        </p:grpSpPr>
        <p:sp>
          <p:nvSpPr>
            <p:cNvPr id="57" name=""/>
            <p:cNvSpPr/>
            <p:nvPr/>
          </p:nvSpPr>
          <p:spPr>
            <a:xfrm>
              <a:off x="857160" y="6529320"/>
              <a:ext cx="438156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160" y="2438280"/>
              <a:ext cx="105710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880" y="117360"/>
              <a:ext cx="8352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880" y="3477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0880" y="574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00880" y="1033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00880" y="1260360"/>
              <a:ext cx="8352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0880" y="14907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0880" y="1717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0880" y="1947960"/>
              <a:ext cx="8352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880" y="2176560"/>
              <a:ext cx="8352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673240" y="6670800"/>
              <a:ext cx="5415480" cy="64800"/>
              <a:chOff x="5673240" y="6670800"/>
              <a:chExt cx="541548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5673240" y="6670800"/>
                <a:ext cx="8352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3536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9712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95924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2136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483120" y="6670800"/>
                <a:ext cx="83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245240" y="6670800"/>
                <a:ext cx="8352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007360" y="6670800"/>
                <a:ext cx="81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100880" y="804960"/>
              <a:ext cx="8352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2386800" cy="1909800"/>
              <a:chOff x="0" y="3693960"/>
              <a:chExt cx="2386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87912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1680" y="3693960"/>
                <a:ext cx="163512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051560" y="4498920"/>
                <a:ext cx="12492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228564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85680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90528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19108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F6E-B9FC-4107-9134-20B61D0784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71320" y="1604520"/>
            <a:ext cx="1028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971800"/>
            <a:ext cx="9677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8181"/>
                </a:solidFill>
                <a:latin typeface="Arial"/>
              </a:rPr>
              <a:t>ЭКОНОМИЧЕСКАЯ ПЕРЕПИСЬ ХОЗЯЙСТВУЮЩИХ СУБЪЕКТОВ - ИСТОЧНИК АКТУАЛИЗАЦИИ СТАТИСТИЧЕСКОГО РЕГИСТРА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5105520"/>
            <a:ext cx="51814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99"/>
                </a:solidFill>
                <a:latin typeface="Times New Roman"/>
              </a:rPr>
              <a:t>ЖЕНЕВА -  2007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609480"/>
            <a:ext cx="97538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99"/>
                </a:solidFill>
                <a:latin typeface="Times New Roman"/>
              </a:rPr>
              <a:t>Государственный комитет статистики Республики Таджики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Начальник отдела ведения регистра и классификато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0099"/>
                </a:solidFill>
                <a:latin typeface="Times New Roman"/>
              </a:rPr>
              <a:t>- Раджабова Нигина Саид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7160" y="685440"/>
            <a:ext cx="9715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44792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 по состоянию экономической актив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362320" y="1774800"/>
          <a:ext cx="7162560" cy="48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74800"/>
                    <a:ext cx="7162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838080"/>
            <a:ext cx="9715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57160" y="1523520"/>
            <a:ext cx="10267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недействующих субъектов, выявленных в результате обследования по причинам экономической не актив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14600" y="2232000"/>
          <a:ext cx="746748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32000"/>
                    <a:ext cx="74674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7160" y="1676520"/>
            <a:ext cx="97156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обследованных субъектов по размерности предприя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1996920"/>
          <a:ext cx="8762760" cy="42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96920"/>
                    <a:ext cx="87627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9582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981080"/>
            <a:ext cx="96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852480"/>
            <a:ext cx="9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676520"/>
            <a:ext cx="982980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, которые в результате опроса подтвердили свою экономическую деятельность по следующим организационно - правовым форма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общества или товарищества с ограниченной ответственностью - 20,6% (15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акционерные общества открытого типа - 3,9% (2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акционерные общества закрытого типа -  1,2% (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производственные кооперативы - 7,6% (59 субъектов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государственные унитарные предприятия - 10,2% (79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государственные учреждение и организации - 24,2% (187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прочие - 32,3% (249 субъ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852480"/>
            <a:ext cx="9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28800" y="1523880"/>
          <a:ext cx="7772400" cy="51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7772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676520" y="16765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Распределение субъектов по отраслям до и посл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ьтаты об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57400" y="1843200"/>
          <a:ext cx="7543800" cy="43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43200"/>
                    <a:ext cx="7543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971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9677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Доля действующих субъектов по отрасл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971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</a:rPr>
              <a:t>Анализ данного исследования показал, что</a:t>
            </a: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1. В Регистре предприятий и организаций Республики Таджикистан неполный охват хозяйствующих субъектов, в то время как он является источником для Статисти-ческого регистра. Сопоставление базы данных с другими административными источниками дало возможность выявить незарегистрированные субъек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2. Информация о состоянии экономической активности не актуальна. В базе Регистра предприятий и организации количество экономически активных субъектов составляло 1099 субъектов. По результатам обследования их число составило 771 субъек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Times New Roman"/>
              </a:rPr>
              <a:t>3. В Регистре предприятий и организаций субъект зарегистрирован по юридическому адресу, который не всегда соответствует фактическому местонахождению. Обследование показало, что количество субъектов, у которых юридический адрес и фактическое месторасположение расходятся, составило 219 экономически активных субъектов.</a:t>
            </a:r>
            <a:r>
              <a:rPr b="0" lang="ru-RU" sz="1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57160" y="1676520"/>
            <a:ext cx="9715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бследование показало, что для актуализации Статистического регистра необходимо использовать информацию сплошной государственной отчетности, Административные источники, экономическую перепись, а также выборочны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В целях упорядочения систематизации и улучшения статистических информационных потоков, направленных на получение объективной информации об экономических и социальных процессах, происходящих в республике разработана концепция проведения выборочных обследований для дальнейшего применения  в системе государственной статис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Предусмотрено, что крупные и средние предприятия любой экономической деятельности будут охвачены полной отчетностью. Для этого разработана форма структурного обследования предприятия  1-Пр. «Отчет об основной деятельности предприятия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Для малых предприятий будут проводиться выборочные статистические обсле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85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атегические действий для дальнейшего развития Статистического реги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2209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БЛАГОДАРЮ ЗА ВНИМАНИЕ!</a:t>
            </a:r>
            <a:endParaRPr b="0" lang="en-US" sz="3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требность в статистическом регистре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715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99"/>
                </a:solidFill>
                <a:latin typeface="Times New Roman"/>
              </a:rPr>
              <a:t>Три причины необходимости статистического регистр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недопущение неумышленного дублирования или упущения предприятий в охвате ряда обслед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статистический регистр позволяет практическое применение стандартной основы единиц и их классификац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целесообразно для эффективности работы в пределах национальной статистической службы одно подразделение несло ответственность за поддержку выборки для проведения обследов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1005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ь создания и ведения Статистического регистра в статистической системе Республики Таджикистан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028700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беспечение методологической основы для перехода к статистике предприятий и проведение статистических наблюдений и сопоставительного анализ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Определение единого круга хозяйствующих субъектов, подлежащих статистическому наблюдению, по видам эконом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введение единого порядка формирования перечня объектов для проведения конкретных статистических наблюдений независимо от отрасли статистики, применение их обязательных реквизитов, выгруженных из статистического регистра, что обеспечивает разработку и использование единых программных средств, а также позволяет осуществлять координацию проведения статистических  наблюд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стандартизация структурных полей баз данных в используемых комплексах электронной обработки статистической информации обеспечивающая совместимость различных информационных фонд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295280" y="1828800"/>
          <a:ext cx="266724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667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5120" y="3657600"/>
            <a:ext cx="80769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ПИЛОТНАЯ ЭКОНОМИЧЕСКАЯ ПЕРЕПИ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(Проект в рамках программы Тасис «Статистика -8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вгуст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72000" y="1681200"/>
            <a:ext cx="1905120" cy="1824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86600" y="1846440"/>
            <a:ext cx="26668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57160" y="762120"/>
            <a:ext cx="971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и и задачи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676520"/>
            <a:ext cx="1028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752480"/>
            <a:ext cx="990576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330099"/>
                </a:solidFill>
                <a:latin typeface="Times New Roman"/>
              </a:rPr>
              <a:t>Цель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Проведения данного обзора объясняет необходимость статистического регистра для проведения статистических наблюдений на основе которых разрабатываются типовые механизмы наблюдений в статистике в будущ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Кроме того, потребность данного обзора, проводимого с целью актуализации и модернизации  базы данных статистического регистра также предусмотрена следующими причинам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большая подвижность микро и малых организаций, главным образом вызванная увеличенной скоростью их рождаемости и смертности, уменьшает возможность контроля демографических измен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случаи быстрого перехода от одного вида деятельности к другом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- формирование предварительных условий для обновления сохраняемых данных относительно юридических единиц и их дальнейшее  регулярное выполн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8273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и и задачи исследования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00200"/>
            <a:ext cx="998244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0099"/>
                </a:solidFill>
                <a:latin typeface="Times New Roman"/>
              </a:rPr>
              <a:t>Задачи исследования</a:t>
            </a:r>
            <a:r>
              <a:rPr b="1" i="1" lang="ru-RU" sz="1800" spc="-1" strike="noStrike">
                <a:solidFill>
                  <a:srgbClr val="3300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330099"/>
                </a:solidFill>
                <a:latin typeface="Times New Roman"/>
              </a:rPr>
              <a:t>- 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используя пилотный  вариант экономической переписи выявить эффективность данного исследова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выявить полноту охвата базы данных Государственного регистра предприятий и организац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используя административные источники (Регистр предприятия и организаций Республики Таджикистан, Реестр налогоплательщиков, реестр Фонда социальной защиты) получить информацию о состоянии экономической активности обследуемых хозяйствующих субъектов (действующие, спящие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провести анализ демографической ситуации субъекта (выявить причины приостановления деятельности субъекта а также причины отсутствия информации о субъект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330099"/>
                </a:solidFill>
                <a:latin typeface="Times New Roman"/>
              </a:rPr>
              <a:t>- получить сведения об видах экономической деятельности  хозяйствующих субъектов и т.д.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етодика выборки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10591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0099"/>
                </a:solidFill>
                <a:latin typeface="Times New Roman"/>
              </a:rPr>
              <a:t>Методика выборки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 является одним из прямых и важных  элементов сбора и актуализации данных  статистического  регист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Типовая структура выборки  была разработана следующим образо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На 01.01.2006г. в базе Административного регистра было   зарегистрировано 24 тыс. юридических лиц (всех видов деятельности). От общего количества юридических лиц в обследование было включено 1200 юридических лиц, что является 5% от общего количества юридических ли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Целью проведения данного обследования было выявление действующих субъектов из числа недействующих  и обнаружить недействующие субъекты в каталоге действующих единиц. Обследованием были охвачены как  субъекты , которые информировали о своей деятельности, также субъекты, о деятельности которых в течении нескольких лет отсутствовала  информ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В результате, принимая во внимание цель данного обследования, а также ограниченность финансовых средств 3 региона республики, общее количество которых составило  1200 юридических лиц были выбраны из базы данных административного Регистра. Это составляет 5% от общего количества зарегистрированных юридических лиц. Метод выборки является кластерны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Регионы были выбраны по критериям  географическое расположение и относительно равное количество хозяйствующих субъектов, а также экономическое развитие.</a:t>
            </a:r>
            <a:r>
              <a:rPr b="0" lang="en-US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12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административных источников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81080"/>
            <a:ext cx="96012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При проведении обследования были использованы три Административных источник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Государственный регистр предприятий и организаций Республики Таджикиста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Реестр налогоплательщиков Налогового комитета Министерства по государственным доходам и сборам Республики Таджикистан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- Реестр Фонда социальной защиты Республики Таджики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90720" y="1828800"/>
          <a:ext cx="10083600" cy="424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1008360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10210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Результаты сопоставления базы данных Административного регистра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Государственного комитета статистики с другими  административными источниками.</a:t>
            </a:r>
            <a:endParaRPr b="0" lang="en-US" sz="21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9:06:50Z</dcterms:created>
  <dc:creator>avchihanova</dc:creator>
  <dc:description/>
  <dc:language>en-US</dc:language>
  <cp:lastModifiedBy>Blanchandin</cp:lastModifiedBy>
  <cp:lastPrinted>2007-04-28T10:36:54Z</cp:lastPrinted>
  <dcterms:modified xsi:type="dcterms:W3CDTF">2007-06-11T12:54:00Z</dcterms:modified>
  <cp:revision>513</cp:revision>
  <dc:subject/>
  <dc:title>Направление аналитической работы  по данным статистического регистра </dc:title>
</cp:coreProperties>
</file>