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1430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85EA-9D71-44DA-AAFB-E1D70724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800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571480" y="5030640"/>
            <a:ext cx="800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5DA4-914C-4122-B586-D46BCFD6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71160" y="411480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571480" y="503064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71160" y="503064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98D-3310-461B-B181-C9D29FCC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2576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76880" y="4114800"/>
            <a:ext cx="2576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982280" y="4114800"/>
            <a:ext cx="2576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2571480" y="5030640"/>
            <a:ext cx="2576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5276880" y="5030640"/>
            <a:ext cx="2576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7982280" y="5030640"/>
            <a:ext cx="2576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AAD9-31E6-4B8A-95E1-2BD5F001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3AE9-6980-467C-89FE-A4EE30EE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71480" y="41148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201A-FED9-4124-A9B2-FCFA4CA4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E58D-A8AE-4D7E-8961-0C92620D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3904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71160" y="4114800"/>
            <a:ext cx="3904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3A5D-2658-408E-B3C0-5B61FA30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9A10-B9D4-4D25-97C1-E059D744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57160" y="2285640"/>
            <a:ext cx="97156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0B65-4756-47C8-9DB2-3FBD0244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71160" y="4114800"/>
            <a:ext cx="3904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571480" y="503064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3596-A7F3-435A-A49D-4F9361E3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2571480" y="41148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897-C838-44C2-B653-226B9D0E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3904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71160" y="411480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71160" y="503064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89BD-7E19-42C8-BA18-9B8E2A2D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71160" y="411480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71480" y="5030640"/>
            <a:ext cx="800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1809-77B5-449F-B29F-542B8E01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800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71480" y="5030640"/>
            <a:ext cx="800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7398-5855-46E0-A3D4-0B9EED68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71160" y="411480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71480" y="503064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71160" y="503064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62D1-9D7A-44A6-BB2C-9255FC7F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2576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6880" y="4114800"/>
            <a:ext cx="2576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82280" y="4114800"/>
            <a:ext cx="2576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571480" y="5030640"/>
            <a:ext cx="2576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5276880" y="5030640"/>
            <a:ext cx="2576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82280" y="5030640"/>
            <a:ext cx="2576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0F85-B74A-4589-9B26-50BC96DB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E6A0-15FD-4E33-9D18-D927F75C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3904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71160" y="4114800"/>
            <a:ext cx="3904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C1B7-13F3-4A2B-9B84-CBB0A95B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A305-FBD8-464D-9E9A-B7D5B9E5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857160" y="2285640"/>
            <a:ext cx="97156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33B-597C-475B-9815-23D02C73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71160" y="4114800"/>
            <a:ext cx="3904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480" y="503064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F094-DF71-409E-A839-7EB31AFB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3904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71160" y="411480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1160" y="503064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C466-A6EB-4C82-96EC-23BC837C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671160" y="411480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71480" y="5030640"/>
            <a:ext cx="800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21FD-6024-478B-BB53-73884BC2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57160" y="117360"/>
            <a:ext cx="10571040" cy="6739200"/>
            <a:chOff x="857160" y="117360"/>
            <a:chExt cx="10571040" cy="6739200"/>
          </a:xfrm>
        </p:grpSpPr>
        <p:sp>
          <p:nvSpPr>
            <p:cNvPr id="1" name=""/>
            <p:cNvSpPr/>
            <p:nvPr/>
          </p:nvSpPr>
          <p:spPr>
            <a:xfrm>
              <a:off x="857160" y="6629400"/>
              <a:ext cx="438156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5672880" y="6746760"/>
              <a:ext cx="5415480" cy="65160"/>
              <a:chOff x="5672880" y="6746760"/>
              <a:chExt cx="541548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5672880" y="6746760"/>
                <a:ext cx="8352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435000" y="6746760"/>
                <a:ext cx="83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196760" y="6746760"/>
                <a:ext cx="813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958880" y="6746760"/>
                <a:ext cx="813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21000" y="6746760"/>
                <a:ext cx="83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9482760" y="6746760"/>
                <a:ext cx="83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0244880" y="6746760"/>
                <a:ext cx="8352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007000" y="6746760"/>
                <a:ext cx="813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952560" y="762120"/>
              <a:ext cx="104756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5840" y="117360"/>
              <a:ext cx="831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05840" y="347760"/>
              <a:ext cx="83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05840" y="574560"/>
              <a:ext cx="83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12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857160" y="1981080"/>
            <a:ext cx="971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856800" y="6248520"/>
            <a:ext cx="2381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905280" y="6248520"/>
            <a:ext cx="361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8191080" y="6248520"/>
            <a:ext cx="2381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5FB8-8546-4FA8-91C5-70352F08BC6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11428200" cy="6739200"/>
            <a:chOff x="0" y="117360"/>
            <a:chExt cx="11428200" cy="6739200"/>
          </a:xfrm>
        </p:grpSpPr>
        <p:sp>
          <p:nvSpPr>
            <p:cNvPr id="57" name=""/>
            <p:cNvSpPr/>
            <p:nvPr/>
          </p:nvSpPr>
          <p:spPr>
            <a:xfrm>
              <a:off x="857160" y="6529320"/>
              <a:ext cx="438156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57160" y="2438280"/>
              <a:ext cx="1057104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00880" y="117360"/>
              <a:ext cx="8352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00880" y="347760"/>
              <a:ext cx="8352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00880" y="574560"/>
              <a:ext cx="8352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00880" y="1033560"/>
              <a:ext cx="8352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00880" y="1260360"/>
              <a:ext cx="8352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00880" y="1490760"/>
              <a:ext cx="8352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00880" y="1717560"/>
              <a:ext cx="8352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00880" y="1947960"/>
              <a:ext cx="8352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00880" y="2176560"/>
              <a:ext cx="8352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5673240" y="6670800"/>
              <a:ext cx="5415480" cy="64800"/>
              <a:chOff x="5673240" y="6670800"/>
              <a:chExt cx="541548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5673240" y="6670800"/>
                <a:ext cx="8352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435360" y="6670800"/>
                <a:ext cx="83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197120" y="6670800"/>
                <a:ext cx="813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959240" y="6670800"/>
                <a:ext cx="813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21360" y="6670800"/>
                <a:ext cx="83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9483120" y="6670800"/>
                <a:ext cx="83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0245240" y="6670800"/>
                <a:ext cx="8352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1007360" y="6670800"/>
                <a:ext cx="813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100880" y="804960"/>
              <a:ext cx="8352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2386800" cy="1909800"/>
              <a:chOff x="0" y="3693960"/>
              <a:chExt cx="2386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87912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51680" y="3693960"/>
                <a:ext cx="163512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051560" y="4498920"/>
                <a:ext cx="12492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856800" y="6248520"/>
            <a:ext cx="2381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905280" y="6248520"/>
            <a:ext cx="361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8191080" y="6248520"/>
            <a:ext cx="2381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EBA4-57E3-4A76-8B42-D208D4D79BA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571320" y="1604520"/>
            <a:ext cx="10286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971800"/>
            <a:ext cx="9677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18181"/>
                </a:solidFill>
                <a:latin typeface="Arial"/>
              </a:rPr>
              <a:t>ЭКОНОМИЧЕСКАЯ ПЕРЕПИСЬ ХОЗЯЙСТВУЮЩИХ СУБЪЕКТОВ - ИСТОЧНИК АКТУАЛИЗАЦИИ СТАТИСТИЧЕСКОГО РЕГИСТРА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71800" y="5105520"/>
            <a:ext cx="518148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99"/>
                </a:solidFill>
                <a:latin typeface="Times New Roman"/>
              </a:rPr>
              <a:t>ЖЕНЕВА -  2007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609480"/>
            <a:ext cx="975384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99"/>
                </a:solidFill>
                <a:latin typeface="Times New Roman"/>
              </a:rPr>
              <a:t>Государственный комитет статистики Республики Таджикист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0099"/>
                </a:solidFill>
                <a:latin typeface="Times New Roman"/>
              </a:rPr>
              <a:t>Начальник отдела ведения регистра и классификатор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0099"/>
                </a:solidFill>
                <a:latin typeface="Times New Roman"/>
              </a:rPr>
              <a:t>- Раджабова Нигина Саидо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57160" y="685440"/>
            <a:ext cx="9715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зультаты обследования.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1447920"/>
            <a:ext cx="9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Распределение субъектов по состоянию экономической актив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362320" y="1774800"/>
          <a:ext cx="7162560" cy="48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74800"/>
                    <a:ext cx="7162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52200" y="838080"/>
            <a:ext cx="9715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зультаты обследования.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57160" y="1523520"/>
            <a:ext cx="10267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Распределение недействующих субъектов, выявленных в результате обследования по причинам экономической не актив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514600" y="2232000"/>
          <a:ext cx="7467480" cy="43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232000"/>
                    <a:ext cx="746748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57160" y="60912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зультаты обследования.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57160" y="1676520"/>
            <a:ext cx="97156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Распределение обследованных субъектов по размерности предприят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19320" y="1996920"/>
          <a:ext cx="8762760" cy="425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96920"/>
                    <a:ext cx="876276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9582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1981080"/>
            <a:ext cx="9601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852480"/>
            <a:ext cx="96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зультаты обслед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676520"/>
            <a:ext cx="982980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i="1" lang="en-US" sz="2400" spc="-1" strike="noStrike">
                <a:solidFill>
                  <a:srgbClr val="330099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Распределение субъектов, которые в результате опроса подтвердили свою экономическую деятельность по следующим организационно - правовым формам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- общества или товарищества с ограниченной ответственностью - 20,6% (159 субъектов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- акционерные общества открытого типа - 3,9% (29 субъектов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- акционерные общества закрытого типа -  1,2% (9 субъектов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- производственные кооперативы - 7,6% (59 субъектов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- государственные унитарные предприятия - 10,2% (79 субъектов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- государственные учреждение и организации - 24,2% (187 субъектов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- прочие - 32,3% (249 субъектов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90720" y="852480"/>
            <a:ext cx="96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зультаты обслед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28800" y="1523880"/>
          <a:ext cx="7772400" cy="519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523880"/>
                    <a:ext cx="777240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676520" y="16765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Распределение субъектов по отраслям до и после обследова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57160" y="60912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зультаты обследования.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057400" y="1843200"/>
          <a:ext cx="7543800" cy="43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843200"/>
                    <a:ext cx="754380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57160" y="1600200"/>
            <a:ext cx="9715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9677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Доля действующих субъектов по отрасля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ЫВОДЫ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57160" y="1600200"/>
            <a:ext cx="9715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0099"/>
                </a:solidFill>
                <a:latin typeface="Times New Roman"/>
              </a:rPr>
              <a:t>Анализ данного исследования показал, что</a:t>
            </a:r>
            <a:r>
              <a:rPr b="0" lang="ru-RU" sz="2000" spc="-1" strike="noStrike">
                <a:solidFill>
                  <a:srgbClr val="330099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Times New Roman"/>
              </a:rPr>
              <a:t>1. В Регистре предприятий и организаций Республики Таджикистан неполный охват хозяйствующих субъектов, в то время как он является источником для Статисти-ческого регистра. Сопоставление базы данных с другими административными источниками дало возможность выявить незарегистрированные субъект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Times New Roman"/>
              </a:rPr>
              <a:t>2. Информация о состоянии экономической активности не актуальна. В базе Регистра предприятий и организации количество экономически активных субъектов составляло 1099 субъектов. По результатам обследования их число составило 771 субъек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Times New Roman"/>
              </a:rPr>
              <a:t>3. В Регистре предприятий и организаций субъект зарегистрирован по юридическому адресу, который не всегда соответствует фактическому местонахождению. Обследование показало, что количество субъектов, у которых юридический адрес и фактическое месторасположение расходятся, составило 219 экономически активных субъектов.</a:t>
            </a:r>
            <a:r>
              <a:rPr b="0" lang="ru-RU" sz="1800" spc="-1" strike="noStrike">
                <a:solidFill>
                  <a:srgbClr val="33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57160" y="1676520"/>
            <a:ext cx="97156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Обследование показало, что для актуализации Статистического регистра необходимо использовать информацию сплошной государственной отчетности, Административные источники, экономическую перепись, а также выборочные обследова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В целях упорядочения систематизации и улучшения статистических информационных потоков, направленных на получение объективной информации об экономических и социальных процессах, происходящих в республике разработана концепция проведения выборочных обследований для дальнейшего применения  в системе государственной статисти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Предусмотрено, что крупные и средние предприятия любой экономической деятельности будут охвачены полной отчетностью. Для этого разработана форма структурного обследования предприятия  1-Пр. «Отчет об основной деятельности предприятия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Для малых предприятий будут проводиться выборочные статистические обследова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6858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тратегические действий для дальнейшего развития Статистического регис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99840" y="220932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БЛАГОДАРЮ ЗА ВНИМАНИЕ!</a:t>
            </a:r>
            <a:endParaRPr b="0" lang="en-US" sz="3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28520" y="914400"/>
            <a:ext cx="9715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требность в статистическом регистре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7156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Три причины необходимости статистического регистр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недопущение неумышленного дублирования или упущения предприятий в охвате ряда обследова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статистический регистр позволяет практическое применение стандартной основы единиц и их классификац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целесообразно для эффективности работы в пределах национальной статистической службы одно подразделение несло ответственность за поддержку выборки для проведения обследова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10058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Цель создания и ведения Статистического регистра в статистической системе Республики Таджикистан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10287000" cy="457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3300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Обеспечение методологической основы для перехода к статистике предприятий и проведение статистических наблюдений и сопоставительного анализ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Определение единого круга хозяйствующих субъектов, подлежащих статистическому наблюдению, по видам экономической деятельност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3300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введение единого порядка формирования перечня объектов для проведения конкретных статистических наблюдений независимо от отрасли статистики, применение их обязательных реквизитов, выгруженных из статистического регистра, что обеспечивает разработку и использование единых программных средств, а также позволяет осуществлять координацию проведения статистических  наблюдени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3300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стандартизация структурных полей баз данных в используемых комплексах электронной обработки статистической информации обеспечивающая совместимость различных информационных фонд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295280" y="1828800"/>
          <a:ext cx="2667240" cy="137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26672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905120" y="3657600"/>
            <a:ext cx="80769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ПИЛОТНАЯ ЭКОНОМИЧЕСКАЯ ПЕРЕПИС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Times New Roman"/>
              </a:rPr>
              <a:t>(Проект в рамках программы Тасис «Статистика -8»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Times New Roman"/>
              </a:rPr>
              <a:t>август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572000" y="1681200"/>
            <a:ext cx="1905120" cy="1824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7086600" y="1846440"/>
            <a:ext cx="266688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57160" y="762120"/>
            <a:ext cx="9715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Цели и задачи исслед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676520"/>
            <a:ext cx="1028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752480"/>
            <a:ext cx="9905760" cy="40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330099"/>
                </a:solidFill>
                <a:latin typeface="Times New Roman"/>
              </a:rPr>
              <a:t>Цель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Проведения данного обзора объясняет необходимость статистического регистра для проведения статистических наблюдений на основе которых разрабатываются типовые механизмы наблюдений в статистике в будущ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Кроме того, потребность данного обзора, проводимого с целью актуализации и модернизации  базы данных статистического регистра также предусмотрена следующими причинам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- большая подвижность микро и малых организаций, главным образом вызванная увеличенной скоростью их рождаемости и смертности, уменьшает возможность контроля демографических изменени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- случаи быстрого перехода от одного вида деятельности к другому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- формирование предварительных условий для обновления сохраняемых данных относительно юридических единиц и их дальнейшее  регулярное выполн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838080"/>
            <a:ext cx="8273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Цели и задачи исследования.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93726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00200"/>
            <a:ext cx="9982440" cy="46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0099"/>
                </a:solidFill>
                <a:latin typeface="Times New Roman"/>
              </a:rPr>
              <a:t>Задачи исследования</a:t>
            </a:r>
            <a:r>
              <a:rPr b="1" i="1" lang="ru-RU" sz="1800" spc="-1" strike="noStrike">
                <a:solidFill>
                  <a:srgbClr val="33009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1" i="1" lang="ru-RU" sz="1900" spc="-1" strike="noStrike">
                <a:solidFill>
                  <a:srgbClr val="330099"/>
                </a:solidFill>
                <a:latin typeface="Times New Roman"/>
              </a:rPr>
              <a:t>- </a:t>
            </a:r>
            <a:r>
              <a:rPr b="0" lang="ru-RU" sz="1900" spc="-1" strike="noStrike">
                <a:solidFill>
                  <a:srgbClr val="330099"/>
                </a:solidFill>
                <a:latin typeface="Times New Roman"/>
              </a:rPr>
              <a:t>используя пилотный  вариант экономической переписи выявить эффективность данного исследования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330099"/>
                </a:solidFill>
                <a:latin typeface="Times New Roman"/>
              </a:rPr>
              <a:t>- выявить полноту охвата базы данных Государственного регистра предприятий и организаций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330099"/>
                </a:solidFill>
                <a:latin typeface="Times New Roman"/>
              </a:rPr>
              <a:t>- используя административные источники (Регистр предприятия и организаций Республики Таджикистан, Реестр налогоплательщиков, реестр Фонда социальной защиты) получить информацию о состоянии экономической активности обследуемых хозяйствующих субъектов (действующие, спящие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330099"/>
                </a:solidFill>
                <a:latin typeface="Times New Roman"/>
              </a:rPr>
              <a:t>- провести анализ демографической ситуации субъекта (выявить причины приостановления деятельности субъекта а также причины отсутствия информации о субъекте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330099"/>
                </a:solidFill>
                <a:latin typeface="Times New Roman"/>
              </a:rPr>
              <a:t>- получить сведения об видах экономической деятельности  хозяйствующих субъектов и т.д.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етодика выборки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105915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330099"/>
                </a:solidFill>
                <a:latin typeface="Times New Roman"/>
              </a:rPr>
              <a:t>Методика выборки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 является одним из прямых и важных  элементов сбора и актуализации данных  статистического  регист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Типовая структура выборки  была разработана следующим образом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На 01.01.2006г. в базе Административного регистра было   зарегистрировано 24 тыс. юридических лиц (всех видов деятельности). От общего количества юридических лиц в обследование было включено 1200 юридических лиц, что является 5% от общего количества юридических лиц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Целью проведения данного обследования было выявление действующих субъектов из числа недействующих  и обнаружить недействующие субъекты в каталоге действующих единиц. Обследованием были охвачены как  субъекты , которые информировали о своей деятельности, также субъекты, о деятельности которых в течении нескольких лет отсутствовала  информа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В результате, принимая во внимание цель данного обследования, а также ограниченность финансовых средств 3 региона республики, общее количество которых составило  1200 юридических лиц были выбраны из базы данных административного Регистра. Это составляет 5% от общего количества зарегистрированных юридических лиц. Метод выборки является кластерны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Регионы были выбраны по критериям  географическое расположение и относительно равное количество хозяйствующих субъектов, а также экономическое развитие.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60912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спользование административных источников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1981080"/>
            <a:ext cx="96012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i="1" lang="en-US" sz="2400" spc="-1" strike="noStrike">
                <a:solidFill>
                  <a:srgbClr val="330099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При проведении обследования были использованы три Административных источников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- Государственный регистр предприятий и организаций Республики Таджикистан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- Реестр налогоплательщиков Налогового комитета Министерства по государственным доходам и сборам Республики Таджикистан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- Реестр Фонда социальной защиты Республики Таджикист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990720" y="1828800"/>
          <a:ext cx="10083600" cy="424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10083600" cy="42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102106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Результаты сопоставления базы данных Административного регистра 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Государственного комитета статистики с другими  административными источниками.</a:t>
            </a:r>
            <a:endParaRPr b="0" lang="en-US" sz="21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09:06:50Z</dcterms:created>
  <dc:creator>avchihanova</dc:creator>
  <dc:description/>
  <dc:language>en-US</dc:language>
  <cp:lastModifiedBy>Blanchandin</cp:lastModifiedBy>
  <cp:lastPrinted>2007-04-28T10:36:54Z</cp:lastPrinted>
  <dcterms:modified xsi:type="dcterms:W3CDTF">2007-06-11T12:54:00Z</dcterms:modified>
  <cp:revision>513</cp:revision>
  <dc:subject/>
  <dc:title>Направление аналитической работы  по данным статистического регистра </dc:title>
</cp:coreProperties>
</file>