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Implementing Coding Tools for a New Classific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7640" y="5445000"/>
            <a:ext cx="6402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Perry, UK Office for National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R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d text: Horticultur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ORTICULTURAL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fit index entry: Sales and service of horticultural machin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ORTICULTUR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CHINERY SAL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is 6.911 (out of 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R prefers SIC 2003 code: 51880 (Wholesale of agricultural machinery and accesso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active co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s below 7.5 are passed to clerical staff for coding intera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presents options in descending order of s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ne of the choices appear good, staff modify the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a decision is made, the person coding confirms the ch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dex description is then held on the IDB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ing the SIC2007 (NACE Rev 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index fi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C2007 hea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C2007 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code forward from the SIC2003 using bridging codes – these are codes for each knowledge base entry that link the SIC2003 and SIC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will change to code backwards from the SIC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dual coding will c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f ACTR on IDBR at Micro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SIC 2003 is 01120 (Growing of vegetable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ferred ACTR SIC 2003 is 51880 (Wholesale of agricultural machinery and accesso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C 2007 comes from the bridging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C 2003: 518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ing code: MTOL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C 2007: 466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 2003 code will change but only when ag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sion to SIC200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R will deal with units that have a suitable business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ion tables will deal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s with descriptions that ACTR is unable to code (vague descrip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s without a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s supplied through administrative sources (existing VAT traders, PAYE employers, Registered Compan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on of Conversion Ta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les have been created to convert units from SIC2003 to SIC2007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CTR bridging 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ing existing data through ACT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ing cross-tabulation of SIC2003 to SIC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ing on a probability basis rounded to nearest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ate relationships against the acceptable range of indu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fit tables also produced for users who cannot accommodate probability based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d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43280" y="6480"/>
            <a:ext cx="7200720" cy="685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2007 - The player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8160" indent="-21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UK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The Standard Industrial Classification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Economic Activities (SIC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current version SIC (2003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8160" indent="-21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urope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ACE, the Nomenclature générale d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activités économiques dans 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ommunautés europée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current version NACE Rev 1.1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8160" indent="-21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UN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ISIC, the International Standar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Industrial Classification of all Econom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Activit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current version ISIC Rev 3.1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the IDBR at the Macro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n SIC 2003 is only on those reporting units that have business descriptions for local units, where ACTR can c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R cod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62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R does not cod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usiness descrip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4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ata on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66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local un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83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 2007 comes from the bridging codes only where ACTR codes – otherwise SIC 2007 comes from conversion from SIC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54120"/>
            <a:ext cx="9144000" cy="632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A     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AGRICULTURE, HUNTING AND FORESTRY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C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FISH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MINING AND QUARRY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E     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ELECTRICITY, GAS AND WATER SUPP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F     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CONSTR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G     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WHOLESALE AND RETAIL TRADE; REPAIR OF MOTOR VEHIC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H     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HOTELS AND RESTAUR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I      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TRANSPORT, STORAGE AND COMMUN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FINANCIAL INTERMEDI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K  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REAL ESTATE, RENTING AND BUSINESS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L  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PUBLIC ADMINISTRATION AND DEFENCE; COMPULSORY SOC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  EDU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  HEALTH AND SOCIAL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 OTHER COMMUNITY, SOCIAL AND PERSONAL SERVICE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 PRIVATE HOUSEHOLDS EMPLOYING STAFF AND UNDIFFERENTIAT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e3e5c"/>
                </a:solidFill>
                <a:latin typeface="Arial"/>
              </a:rPr>
              <a:t> EXTRA-TERRITORIAL ORGANISATION AND BO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act at SIC 2003 broad industry level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rovisional count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9600" y="1211400"/>
          <a:ext cx="8520120" cy="5319720"/>
        </p:xfrm>
        <a:graphic>
          <a:graphicData uri="http://schemas.openxmlformats.org/drawingml/2006/table">
            <a:tbl>
              <a:tblPr/>
              <a:tblGrid>
                <a:gridCol w="2030400"/>
                <a:gridCol w="2303280"/>
                <a:gridCol w="1224000"/>
                <a:gridCol w="1081080"/>
                <a:gridCol w="1881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ing sto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 Chan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amp;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7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, D and 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2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, N and 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2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71360"/>
            <a:ext cx="9144000" cy="6886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Agriculture, Forestry And Fishing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C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Mining And Quarry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Manufa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Electricity, Gas, Steam And Air Conditioning Supp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Water Supply; Sewage, Waste Management And Remediation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Constr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Wholesale And Retail Trade; Repair Of Motor Vehicles And Motorcy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Transportation And 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Accommodation And Food Service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Information And 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Financial And Insurance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Real Estate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Professional, Scientific And Technical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Administrative And Support Service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Public Administration And Defence; Compulsory Social Secur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Human Health And Social Work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Arts, Entertainment And Recre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Other Service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Activities Of Household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U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e3e5c"/>
                </a:solidFill>
                <a:latin typeface="Arial"/>
              </a:rPr>
              <a:t>Activities Of Extraterritorial Organisations And Bo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espondence between SIC 2003 and SIC 2007 for local units coded by ACT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 time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49160" y="2055960"/>
          <a:ext cx="7596360" cy="4128840"/>
        </p:xfrm>
        <a:graphic>
          <a:graphicData uri="http://schemas.openxmlformats.org/drawingml/2006/table">
            <a:tbl>
              <a:tblPr/>
              <a:tblGrid>
                <a:gridCol w="1881360"/>
                <a:gridCol w="5715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 200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E publish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200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C 2007 is published on NS webs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uary 200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and tuning of data coder (ACTR) – first release on 2007 basis, </a:t>
                      </a:r>
                      <a:r>
                        <a:rPr b="1" lang="en-US" sz="20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subject to re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200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-coding using AC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release of ACTR, using SIC 2007 ind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C 2007 Index published (consistent with ACTR August 200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200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C 2007 fully implemented on the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2008 ??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ACTR SIC 2003 overwrites historic SIC 20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CTR tool delivers considerable savings in terms of cost and burden on businesses compared to traditional survey approac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nowledge base is portable (i.e. independent of the coding engine), enabling sharing this with any interested parties, e.g. administrative data suppliers, to increase the consistency of co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se of bridging codes permits simultaneous coding to multiple classification systems, essential if periods of dual-coding are requi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nowledge base approach can help to inform the development of future versions of a classification, by providing a reference frame of business activity descri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UK 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5 digit classification syste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required, by EU legislation, to be identical to NACE down to and including the 4 digit Class lev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a national 5th digit level which does not exist in N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sults – changes in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9600" y="1211400"/>
          <a:ext cx="8519760" cy="5133600"/>
        </p:xfrm>
        <a:graphic>
          <a:graphicData uri="http://schemas.openxmlformats.org/drawingml/2006/table">
            <a:tbl>
              <a:tblPr/>
              <a:tblGrid>
                <a:gridCol w="2839680"/>
                <a:gridCol w="2840040"/>
                <a:gridCol w="284004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C 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C 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E Clas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E Classes not spl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 Sub Class spl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Sub Clas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R as an aid to co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R – Automatic Coding by Text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by Statistics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 standard tool for coding, initially industry and occu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s Precision Data Coder for industry 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a code from a text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t of automation of process is controlled by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 Bases – SIC200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R relies heavily on indexes of standard descri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descriptions from responses to the Business Register Surv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shed index for the SIC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descriptions for each SIC2003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descriptions for construction industry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code descriptions for PAYE (Pay As You Earn Tax) emplo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 type descri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 total of &gt; 30,000 standard d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ACTR wor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input description is converted to a standar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compared with the standard forms of descriptions held in the knowledge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oseness is presented as a score between 0 and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ules to determine whether the score is sufficient to confirm a ma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a score of more than 7.5 to code automatically (our setting which may differ for other data se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scores are passed through interactive c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ing does not depend on the order in which the knowledge bases are che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ract from Business Register Survey Questionnai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407960"/>
            <a:ext cx="9144000" cy="39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3:14:00Z</dcterms:created>
  <dc:creator>cuffe</dc:creator>
  <dc:description/>
  <dc:language>en-US</dc:language>
  <cp:lastModifiedBy>perryj</cp:lastModifiedBy>
  <dcterms:modified xsi:type="dcterms:W3CDTF">2007-05-15T15:12:19Z</dcterms:modified>
  <cp:revision>90</cp:revision>
  <dc:subject/>
  <dc:title>Slide 1</dc:title>
</cp:coreProperties>
</file>