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357-4AEC-4665-9F08-D8CE5769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061-AAFC-46EF-977C-707ADDA9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6EC-EE6F-4A17-9B63-49B606B7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3A4-A3AB-4E8D-B84E-CBB6A727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C870-77C6-42D1-A0B8-E7AC0D61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0A2-768B-4A83-ABC3-69265692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2DDA-A848-48BE-AA8E-4AB4DB9B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DD81-6736-4F46-942A-666D7749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AA8C-6833-43C1-9FBE-0C09F81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C272-3989-44CF-9F20-D7F950A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C1A-A6FE-451C-98B0-8680D98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472-00C9-46E7-864F-3D697716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1A57-4D6A-49BC-9FE1-B00A92A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70B-9492-408A-A90E-21A65C0A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B42F-E554-48BE-B6D6-52549873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16C-01B7-4124-9AFF-83157C3F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1380-80C7-41B2-B6E7-E7CF75E9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BBB-CE0A-494F-8636-E35ED21C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843-908E-444C-9AB8-5E014499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44B-B9C1-48DC-B1FF-180D2A98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9B7-8077-4AA4-A0FB-26DB650D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39A-1980-45C0-841C-85F8008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6BC-45F8-45F0-8C2F-CFBC9016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95E-1C65-4A69-BDB2-B8D3DB7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49D4-249F-4C7A-9D08-10A884B98A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5829-B19D-4E44-BE02-0D16ABE56A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2852640"/>
            <a:ext cx="8569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90033"/>
                </a:solidFill>
                <a:latin typeface="Arial"/>
              </a:rPr>
              <a:t>KEY OBJECTIVES IN QUALITY IMPROVEMENT</a:t>
            </a:r>
            <a:r>
              <a:rPr b="1" lang="en-GB" sz="29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900"/>
            </a:br>
            <a:r>
              <a:rPr b="1" lang="en-GB" sz="2900" spc="-1" strike="noStrike">
                <a:solidFill>
                  <a:srgbClr val="990033"/>
                </a:solidFill>
                <a:latin typeface="Arial"/>
              </a:rPr>
              <a:t>OF THE STATISTICAL BUSINESS REGISTER </a:t>
            </a:r>
            <a:br>
              <a:rPr sz="2900"/>
            </a:br>
            <a:r>
              <a:rPr b="1" lang="en-GB" sz="2900" spc="-1" strike="noStrike">
                <a:solidFill>
                  <a:srgbClr val="990033"/>
                </a:solidFill>
                <a:latin typeface="Arial"/>
              </a:rPr>
              <a:t>IN SERBIA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19731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UNECE/Eurostat Seminar on Business Registers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5157720"/>
            <a:ext cx="8135640" cy="78732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 STATISTICAL OFFICE OF THE REPUBLIC OF SERBIA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RDJAN STEFANOVIC,  sstefanovic@statserb.sr.gov.y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4292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GENEVA, 18-19 JUNE 2007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98900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REVIEW of DEVELOPM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0360" y="2637000"/>
            <a:ext cx="80992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CLUSION OF MISS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CREASING OF QUALITY IMPROVEMENTS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EATION OF ALL LOCAL UNITS AS WELL AS LKAU AND K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EATION OF A SYSTEM OF AGGREGATION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FROM 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FULL DESIGN AND IMPLEMENTATION OF UPDAT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989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REVIEW of DEVELOPMENT OBJECTIVES -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2637000"/>
            <a:ext cx="8640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DEVELOPMENT OF A USER-FRIENDLY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PROFILING WITH FOCUS ON ENT., KAU AND LK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TRODUCTION OF LOCAL UNIT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MPLEMENTATION OF NACE REV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MAINTENANCE OF DEMOGRAPHY OF TH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24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TRODUCTION OF ENTERPRISE GROUP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AND COORDINATION OF SAMPLES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 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6453360"/>
            <a:ext cx="935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DYSEA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0000" y="2995560"/>
            <a:ext cx="745308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2438"/>
              </a:spcBef>
              <a:spcAft>
                <a:spcPts val="649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CONSOLIDATED DATA TAKE-ON FROM ADMINISTRATIVE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2438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SYSTEM OF MAINTENANCE UPON UNIQUE FRAME FOR STATISTICAL SURVEY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2438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CONTINUITY RULES FOR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AN ENTERP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2205000"/>
            <a:ext cx="33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2625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MILEST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68360" y="1989000"/>
          <a:ext cx="107316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89000"/>
                    <a:ext cx="1073160" cy="4392720"/>
                  </a:xfrm>
                  <a:prstGeom prst="rect">
                    <a:avLst/>
                  </a:prstGeom>
                  <a:ln w="1908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advTm="2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 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1844640"/>
            <a:ext cx="554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6699"/>
                </a:solidFill>
                <a:latin typeface="Arial"/>
              </a:rPr>
              <a:t>SECRET OF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421000"/>
            <a:ext cx="8677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CONNECTED WITH OTHER OBJEC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FINISHING OF OTHER RELATED, “DAILY” OBJECTIVES IS ONGOING; SOME OF THEM HAVE BEEN ACH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SHOW DECISIVE PROGRESS IN Q IMPROVEMENTS </a:t>
            </a:r>
            <a:br>
              <a:rPr sz="2200"/>
            </a:b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LEAVING THE PAST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FROM THEM ULTIMATE GOAL IS MORE CLO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INITIATE FURTHER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REMAIN IN PLACE UNLESS THEY CANNOT BE ACH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NEW MILESTONES WILL APPEAR TO DEFINE NEW LI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1916280"/>
            <a:ext cx="734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for the ACHIEVEMENT of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2852640"/>
            <a:ext cx="748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IMPROV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APPLICATION RELATED TO EACH ADM.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MONTHLY UPDATING WITH DATA FROM SBRA and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4360" y="3068640"/>
          <a:ext cx="12384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068640"/>
                    <a:ext cx="123840" cy="504720"/>
                  </a:xfrm>
                  <a:prstGeom prst="rect">
                    <a:avLst/>
                  </a:prstGeom>
                  <a:ln w="1908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3" name=""/>
          <p:cNvGrpSpPr/>
          <p:nvPr/>
        </p:nvGrpSpPr>
        <p:grpSpPr>
          <a:xfrm>
            <a:off x="684360" y="4365720"/>
            <a:ext cx="339480" cy="504720"/>
            <a:chOff x="684360" y="4365720"/>
            <a:chExt cx="339480" cy="504720"/>
          </a:xfrm>
        </p:grpSpPr>
        <p:graphicFrame>
          <p:nvGraphicFramePr>
            <p:cNvPr id="374" name=""/>
            <p:cNvGraphicFramePr/>
            <p:nvPr/>
          </p:nvGraphicFramePr>
          <p:xfrm>
            <a:off x="684360" y="4365720"/>
            <a:ext cx="123840" cy="504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4360" y="43657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6" name=""/>
            <p:cNvGraphicFramePr/>
            <p:nvPr/>
          </p:nvGraphicFramePr>
          <p:xfrm>
            <a:off x="900000" y="4365720"/>
            <a:ext cx="123840" cy="504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00000" y="43657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8" name=""/>
          <p:cNvGrpSpPr/>
          <p:nvPr/>
        </p:nvGrpSpPr>
        <p:grpSpPr>
          <a:xfrm>
            <a:off x="684360" y="5587920"/>
            <a:ext cx="555480" cy="504720"/>
            <a:chOff x="684360" y="5587920"/>
            <a:chExt cx="555480" cy="504720"/>
          </a:xfrm>
        </p:grpSpPr>
        <p:graphicFrame>
          <p:nvGraphicFramePr>
            <p:cNvPr id="379" name=""/>
            <p:cNvGraphicFramePr/>
            <p:nvPr/>
          </p:nvGraphicFramePr>
          <p:xfrm>
            <a:off x="684360" y="5587920"/>
            <a:ext cx="123840" cy="504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4360" y="55879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"/>
            <p:cNvGraphicFramePr/>
            <p:nvPr/>
          </p:nvGraphicFramePr>
          <p:xfrm>
            <a:off x="900000" y="5587920"/>
            <a:ext cx="123840" cy="504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00000" y="55879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3" name=""/>
            <p:cNvGraphicFramePr/>
            <p:nvPr/>
          </p:nvGraphicFramePr>
          <p:xfrm>
            <a:off x="1116000" y="5587920"/>
            <a:ext cx="123840" cy="504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116000" y="55879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85" name=""/>
          <p:cNvSpPr/>
          <p:nvPr/>
        </p:nvSpPr>
        <p:spPr>
          <a:xfrm>
            <a:off x="1476360" y="4149720"/>
            <a:ext cx="72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IMPLEMENATION OF LK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STANDARD PRE-PRINTED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STABILISATION of APOLO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47640" y="5373720"/>
            <a:ext cx="75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INTRODUCE THE PHYLOSOPHY OF CONTINUITY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FOLLOW-UP CHANGES for LARGE and MEDIUM 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DISSEMINATE DETAILED INF. ON DEMOGRAPHY EV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26920" y="5372280"/>
            <a:ext cx="7274160" cy="12967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CONSOLIDATED DATA TAKE-ON FROM ADM.</a:t>
            </a: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SOUR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587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SYSTEM OF MAINTENANCE UPON UNIQUE FRAME FOR STATISTICAL SURVE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CONTINUITY RULES FOR AN ENTERPRIS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4360" y="1052640"/>
            <a:ext cx="799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0920" y="1916280"/>
            <a:ext cx="655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  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OBJECTIVES in the DEVELOPMENT  connected like a </a:t>
            </a: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JIGSAW PUZZ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080" y="2852640"/>
            <a:ext cx="8675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  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WHAT choice to make among OBJECTIVES </a:t>
            </a:r>
            <a:br>
              <a:rPr sz="2600"/>
            </a:b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which would lead to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DECISIVE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QUALITY IMPROVEMENTS of the SBR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leaving behind attribute of the SBR as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a SIMPLE COLLECTION of ADM. and STAT. DATA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77336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9a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9a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8136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9a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9a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4724280"/>
            <a:ext cx="6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9a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9a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486900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THE ANSW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686800" y="76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61440" y="6093000"/>
            <a:ext cx="1582560" cy="76500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= MILE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ST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0720" y="1054080"/>
            <a:ext cx="4859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IDEA OF THE PAP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9440" y="2421000"/>
            <a:ext cx="82436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301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TO PRESENT SERBIAN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01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EXPLORE  BENEFITS and DEFICIENCIES in the CREATION and the USE of the SBR RELEVANT TO FURTHER DEVELOPMENT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01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IDENTIFY GOALS FOR QUALITY IMPROVEMENTS to serve as MILEST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981000"/>
            <a:ext cx="828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1.  SERBIAN SB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191628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ESTABLISHMENT AND MAI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637000"/>
            <a:ext cx="7921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649"/>
              </a:spcBef>
              <a:spcAft>
                <a:spcPts val="649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INTRODUCTION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EU REGULATIONS</a:t>
            </a:r>
            <a:br>
              <a:rPr sz="2600"/>
            </a:b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CR 2186/93,CR 696/93, NEW DRAFT, MANUAL</a:t>
            </a: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451"/>
              </a:spcBef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SOURCES</a:t>
            </a:r>
            <a:br>
              <a:rPr sz="2800"/>
            </a:b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ADM:</a:t>
            </a: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SORS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LEGAL PERSONS (NON PROFIT and OTHER) </a:t>
            </a:r>
            <a:br>
              <a:rPr sz="1800"/>
            </a:b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SBRA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 BUSINESS ENT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       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TIN and VAT REGI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NBS/S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REGISTER of FINAL STATEMENTS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TA     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-  REGISTER of USERS of BUDGET FU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STAT. SURVEYS: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NA, LABOUR FORCE, FOREIGN TRADE</a:t>
            </a: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1301"/>
              </a:spcBef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DATA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981000"/>
            <a:ext cx="828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1.  SERBIAN SBR (</a:t>
            </a:r>
            <a:r>
              <a:rPr b="1" lang="en-GB" sz="2200" spc="-1" strike="noStrike">
                <a:solidFill>
                  <a:srgbClr val="9a0000"/>
                </a:solidFill>
                <a:latin typeface="Arial"/>
              </a:rPr>
              <a:t>SOURCES AND DATA MODEL</a:t>
            </a: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2205000"/>
            <a:ext cx="6048720" cy="425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1292040" y="41810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ADMINISTRATIV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1844640"/>
            <a:ext cx="2297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6658560" y="4095000"/>
            <a:ext cx="35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ISTICAL SURV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1440" y="649116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01840" y="4797360"/>
            <a:ext cx="1368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AL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2494080"/>
            <a:ext cx="183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33840" y="5878440"/>
            <a:ext cx="189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 LOC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49920" y="5969160"/>
            <a:ext cx="116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6.  LK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77080" y="2389320"/>
            <a:ext cx="80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5. K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44920" y="4289400"/>
            <a:ext cx="14176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408480" y="3228840"/>
            <a:ext cx="1217520" cy="78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369040" y="2948040"/>
            <a:ext cx="1280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058160" y="3340080"/>
            <a:ext cx="0" cy="19000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44920" y="4289400"/>
            <a:ext cx="14176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97600" y="3340080"/>
            <a:ext cx="203040" cy="61452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27600" y="3340080"/>
            <a:ext cx="0" cy="1900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9040" y="5576760"/>
            <a:ext cx="135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08480" y="4570560"/>
            <a:ext cx="1217520" cy="78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5231880" y="3284280"/>
            <a:ext cx="1622520" cy="20127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51520" y="4067280"/>
            <a:ext cx="1787400" cy="60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PRIS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57600" y="5240160"/>
            <a:ext cx="809640" cy="671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33840" y="3933720"/>
            <a:ext cx="811080" cy="671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57600" y="2668680"/>
            <a:ext cx="811440" cy="6714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62600" y="3954600"/>
            <a:ext cx="809640" cy="67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49920" y="2668680"/>
            <a:ext cx="811440" cy="671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19760" y="5240160"/>
            <a:ext cx="809640" cy="67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94200" y="5445000"/>
            <a:ext cx="2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1120" y="4149720"/>
            <a:ext cx="21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21120" y="2852640"/>
            <a:ext cx="2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55680" y="3502080"/>
            <a:ext cx="1727280" cy="2160360"/>
          </a:xfrm>
          <a:prstGeom prst="ellipse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55680" y="3141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Arial"/>
              </a:rPr>
              <a:t>LEGAL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36720" y="2795760"/>
            <a:ext cx="606240" cy="3355920"/>
            <a:chOff x="936720" y="2795760"/>
            <a:chExt cx="606240" cy="3355920"/>
          </a:xfrm>
        </p:grpSpPr>
        <p:grpSp>
          <p:nvGrpSpPr>
            <p:cNvPr id="262" name=""/>
            <p:cNvGrpSpPr/>
            <p:nvPr/>
          </p:nvGrpSpPr>
          <p:grpSpPr>
            <a:xfrm>
              <a:off x="936720" y="2795760"/>
              <a:ext cx="606240" cy="502920"/>
              <a:chOff x="936720" y="2795760"/>
              <a:chExt cx="606240" cy="502920"/>
            </a:xfrm>
          </p:grpSpPr>
          <p:sp>
            <p:nvSpPr>
              <p:cNvPr id="263" name=""/>
              <p:cNvSpPr/>
              <p:nvPr/>
            </p:nvSpPr>
            <p:spPr>
              <a:xfrm>
                <a:off x="936720" y="2795760"/>
                <a:ext cx="606240" cy="502920"/>
              </a:xfrm>
              <a:prstGeom prst="flowChartMagneticDisk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03320" y="2963160"/>
                <a:ext cx="472680" cy="3121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S</a:t>
                </a:r>
                <a:r>
                  <a:rPr b="1" lang="sr-C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936720" y="3746520"/>
              <a:ext cx="606240" cy="503280"/>
              <a:chOff x="936720" y="3746520"/>
              <a:chExt cx="606240" cy="503280"/>
            </a:xfrm>
          </p:grpSpPr>
          <p:sp>
            <p:nvSpPr>
              <p:cNvPr id="266" name=""/>
              <p:cNvSpPr/>
              <p:nvPr/>
            </p:nvSpPr>
            <p:spPr>
              <a:xfrm>
                <a:off x="936720" y="3746520"/>
                <a:ext cx="606240" cy="503280"/>
              </a:xfrm>
              <a:prstGeom prst="flowChartMagneticDisk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03320" y="3914280"/>
                <a:ext cx="472680" cy="3121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S</a:t>
                </a:r>
                <a:r>
                  <a:rPr b="1" lang="sr-C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936720" y="4754520"/>
              <a:ext cx="606240" cy="5032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03320" y="4921200"/>
              <a:ext cx="472680" cy="312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sr-C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36720" y="5648400"/>
              <a:ext cx="606240" cy="5032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03320" y="5705640"/>
              <a:ext cx="472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5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981000"/>
            <a:ext cx="828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1.  SERBIAN SBR (</a:t>
            </a:r>
            <a:r>
              <a:rPr b="1" lang="en-GB" sz="2200" spc="-1" strike="noStrike">
                <a:solidFill>
                  <a:srgbClr val="9a0000"/>
                </a:solidFill>
                <a:latin typeface="Arial"/>
              </a:rPr>
              <a:t>OTHER MAIN FEATURES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1844640"/>
            <a:ext cx="39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2349360"/>
            <a:ext cx="89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NACE Rev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ALL SECTORS of N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LEGAL UNIT = LEGAL PERSONS + ENTER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MAINTENANCE VARIABLES (</a:t>
            </a:r>
            <a:r>
              <a:rPr b="1" lang="en-GB" sz="1600" spc="-1" strike="noStrike">
                <a:solidFill>
                  <a:srgbClr val="336699"/>
                </a:solidFill>
                <a:latin typeface="Arial"/>
              </a:rPr>
              <a:t>DATA SOURCE, REFERENT DATE, ...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DEMOGRAPHY – ONLY BIRTHS and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ONTINUITY RULES – HAVE NOT BEEN ADOPTED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ANNUAL DATA: 2004, 2005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MONTHLY UPDATE IS ANTICIP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PROTOCOLS on COLABORATION EXIST (NEED for REVI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USER REQUESTS – 30 - 50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ORGANISATIONAL UNIT with 4 DEDICATED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ACTIVE UNITS in 2006: LU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=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336699"/>
                </a:solidFill>
                <a:uFillTx/>
                <a:latin typeface="Arial"/>
              </a:rPr>
              <a:t>470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000 ENT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=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336699"/>
                </a:solidFill>
                <a:uFillTx/>
                <a:latin typeface="Arial"/>
              </a:rPr>
              <a:t>341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000, LO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1" lang="en-GB" sz="2000" spc="-1" strike="noStrike" u="sng">
                <a:solidFill>
                  <a:srgbClr val="336699"/>
                </a:solidFill>
                <a:uFillTx/>
                <a:latin typeface="Arial"/>
              </a:rPr>
              <a:t>422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836640"/>
            <a:ext cx="87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2. BENEFITS AND DEFICIENCIES RELEVANT TO FURTHER DEVELOP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2133720"/>
            <a:ext cx="6913440" cy="9363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LIGHTS of ESTABLISHMENT and DEVELOPMENT of the S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4294080"/>
            <a:ext cx="87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1624"/>
              </a:spcBef>
              <a:spcAft>
                <a:spcPts val="649"/>
              </a:spcAft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INTERNATIONA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88"/>
              </a:spcBef>
              <a:spcAft>
                <a:spcPts val="326"/>
              </a:spcAft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CHANGES in the SYSTEM of REGISTRATION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88"/>
              </a:spcBef>
              <a:spcAft>
                <a:spcPts val="326"/>
              </a:spcAft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DEVELOPMENT of KEY ADM. SOURCES 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during the TRANSITION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3430440"/>
            <a:ext cx="410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THRE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2. BENEFITS AND DEFICIENCIES RELEVANT TO FURTHER DEVELOP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852640"/>
            <a:ext cx="8640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649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INTERNATIONAL ENG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88"/>
              </a:spcBef>
              <a:spcAft>
                <a:spcPts val="326"/>
              </a:spcAft>
              <a:buClr>
                <a:srgbClr val="9a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PERIOD of TRANSITION of MAIN </a:t>
            </a:r>
            <a:br>
              <a:rPr sz="2600"/>
            </a:b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ADM.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1. The TAX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2. The SERBIAN BUSINESS REGISTERS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3. The SOLVENCY CENTRE from the NATIONAL BANK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4. The ADMINISTRATIVE REGISTER in the 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1137"/>
              </a:spcBef>
              <a:buClr>
                <a:srgbClr val="9a00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CREATION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1137"/>
              </a:spcBef>
              <a:buClr>
                <a:srgbClr val="9a00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USE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2133720"/>
            <a:ext cx="47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SCOPE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20346000">
            <a:off x="2840400" y="5609160"/>
            <a:ext cx="647640" cy="182880"/>
          </a:xfrm>
          <a:prstGeom prst="rect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359000">
            <a:off x="2845800" y="2351520"/>
            <a:ext cx="647640" cy="182880"/>
          </a:xfrm>
          <a:prstGeom prst="rect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2. BENEFITS AND DEFICIENCIES RELEVANT TO FURTHER DEVELOP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9280" y="2062080"/>
            <a:ext cx="790560" cy="671400"/>
            <a:chOff x="179280" y="2062080"/>
            <a:chExt cx="790560" cy="671400"/>
          </a:xfrm>
        </p:grpSpPr>
        <p:sp>
          <p:nvSpPr>
            <p:cNvPr id="293" name=""/>
            <p:cNvSpPr/>
            <p:nvPr/>
          </p:nvSpPr>
          <p:spPr>
            <a:xfrm>
              <a:off x="179280" y="206208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9280" y="2206440"/>
              <a:ext cx="7192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2200" y="2422440"/>
              <a:ext cx="5047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 rot="16200000">
            <a:off x="4787640" y="2927160"/>
            <a:ext cx="1873440" cy="2305080"/>
          </a:xfrm>
          <a:prstGeom prst="flowChartMerge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4440240"/>
            <a:ext cx="1296720" cy="792000"/>
          </a:xfrm>
          <a:prstGeom prst="rect">
            <a:avLst/>
          </a:prstGeom>
          <a:solidFill>
            <a:srgbClr val="cc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16000" y="5807160"/>
            <a:ext cx="6985080" cy="934920"/>
          </a:xfrm>
          <a:prstGeom prst="rightArrow">
            <a:avLst>
              <a:gd name="adj1" fmla="val 50000"/>
              <a:gd name="adj2" fmla="val 186783"/>
            </a:avLst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8920" y="6095880"/>
            <a:ext cx="5113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MENT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77080" y="2349360"/>
            <a:ext cx="2087640" cy="3240000"/>
            <a:chOff x="6877080" y="2349360"/>
            <a:chExt cx="2087640" cy="3240000"/>
          </a:xfrm>
        </p:grpSpPr>
        <p:sp>
          <p:nvSpPr>
            <p:cNvPr id="301" name=""/>
            <p:cNvSpPr/>
            <p:nvPr/>
          </p:nvSpPr>
          <p:spPr>
            <a:xfrm>
              <a:off x="6877080" y="2349360"/>
              <a:ext cx="2087640" cy="3240000"/>
            </a:xfrm>
            <a:prstGeom prst="irregularSeal2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51640" y="3357360"/>
              <a:ext cx="3603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9a0000"/>
                  </a:solidFill>
                  <a:latin typeface="Arial"/>
                  <a:ea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8522000">
              <a:off x="6815520" y="4064760"/>
              <a:ext cx="2022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9a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900" spc="-1" strike="noStrike">
                  <a:solidFill>
                    <a:srgbClr val="9a0000"/>
                  </a:solidFill>
                  <a:latin typeface="Arial"/>
                  <a:ea typeface="Times New Roman"/>
                </a:rPr>
                <a:t>IMPROVEMEN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45080" y="3863880"/>
            <a:ext cx="1873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30560" y="4583160"/>
            <a:ext cx="1081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FI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2927520"/>
            <a:ext cx="1296720" cy="792000"/>
          </a:xfrm>
          <a:prstGeom prst="rect">
            <a:avLst/>
          </a:prstGeom>
          <a:solidFill>
            <a:srgbClr val="cc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0560" y="3216240"/>
            <a:ext cx="1079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27280" y="2351160"/>
            <a:ext cx="216000" cy="3456000"/>
          </a:xfrm>
          <a:prstGeom prst="rect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92360" y="2135160"/>
            <a:ext cx="790560" cy="671400"/>
            <a:chOff x="1692360" y="2135160"/>
            <a:chExt cx="790560" cy="671400"/>
          </a:xfrm>
        </p:grpSpPr>
        <p:sp>
          <p:nvSpPr>
            <p:cNvPr id="310" name=""/>
            <p:cNvSpPr/>
            <p:nvPr/>
          </p:nvSpPr>
          <p:spPr>
            <a:xfrm>
              <a:off x="1692360" y="21351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3640" y="2279520"/>
              <a:ext cx="648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00000" y="2711520"/>
            <a:ext cx="790560" cy="671400"/>
            <a:chOff x="900000" y="2711520"/>
            <a:chExt cx="790560" cy="671400"/>
          </a:xfrm>
        </p:grpSpPr>
        <p:sp>
          <p:nvSpPr>
            <p:cNvPr id="313" name=""/>
            <p:cNvSpPr/>
            <p:nvPr/>
          </p:nvSpPr>
          <p:spPr>
            <a:xfrm>
              <a:off x="900000" y="271152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44720" y="2927160"/>
              <a:ext cx="5047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692360" y="5230800"/>
            <a:ext cx="790560" cy="671400"/>
            <a:chOff x="1692360" y="5230800"/>
            <a:chExt cx="790560" cy="671400"/>
          </a:xfrm>
        </p:grpSpPr>
        <p:sp>
          <p:nvSpPr>
            <p:cNvPr id="316" name=""/>
            <p:cNvSpPr/>
            <p:nvPr/>
          </p:nvSpPr>
          <p:spPr>
            <a:xfrm>
              <a:off x="1692360" y="523080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6720" y="5446440"/>
              <a:ext cx="505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692360" y="3359160"/>
            <a:ext cx="790560" cy="671400"/>
            <a:chOff x="1692360" y="3359160"/>
            <a:chExt cx="790560" cy="671400"/>
          </a:xfrm>
        </p:grpSpPr>
        <p:sp>
          <p:nvSpPr>
            <p:cNvPr id="319" name=""/>
            <p:cNvSpPr/>
            <p:nvPr/>
          </p:nvSpPr>
          <p:spPr>
            <a:xfrm>
              <a:off x="1692360" y="33591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6720" y="3574800"/>
              <a:ext cx="5745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79280" y="3575160"/>
            <a:ext cx="1152360" cy="671400"/>
            <a:chOff x="179280" y="3575160"/>
            <a:chExt cx="1152360" cy="671400"/>
          </a:xfrm>
        </p:grpSpPr>
        <p:sp>
          <p:nvSpPr>
            <p:cNvPr id="322" name=""/>
            <p:cNvSpPr/>
            <p:nvPr/>
          </p:nvSpPr>
          <p:spPr>
            <a:xfrm>
              <a:off x="179280" y="35751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560" y="3719520"/>
              <a:ext cx="108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.RE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08000" y="5880240"/>
            <a:ext cx="1008000" cy="671400"/>
            <a:chOff x="108000" y="5880240"/>
            <a:chExt cx="1008000" cy="671400"/>
          </a:xfrm>
        </p:grpSpPr>
        <p:sp>
          <p:nvSpPr>
            <p:cNvPr id="325" name=""/>
            <p:cNvSpPr/>
            <p:nvPr/>
          </p:nvSpPr>
          <p:spPr>
            <a:xfrm>
              <a:off x="108000" y="588024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8000" y="6095880"/>
              <a:ext cx="10080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627280" y="3143160"/>
            <a:ext cx="216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1080" y="4703760"/>
            <a:ext cx="790560" cy="671400"/>
            <a:chOff x="181080" y="4703760"/>
            <a:chExt cx="790560" cy="671400"/>
          </a:xfrm>
        </p:grpSpPr>
        <p:sp>
          <p:nvSpPr>
            <p:cNvPr id="329" name=""/>
            <p:cNvSpPr/>
            <p:nvPr/>
          </p:nvSpPr>
          <p:spPr>
            <a:xfrm>
              <a:off x="181080" y="47037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440" y="4919400"/>
              <a:ext cx="505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971640" y="4078440"/>
            <a:ext cx="790560" cy="671400"/>
            <a:chOff x="971640" y="4078440"/>
            <a:chExt cx="790560" cy="671400"/>
          </a:xfrm>
        </p:grpSpPr>
        <p:sp>
          <p:nvSpPr>
            <p:cNvPr id="332" name=""/>
            <p:cNvSpPr/>
            <p:nvPr/>
          </p:nvSpPr>
          <p:spPr>
            <a:xfrm>
              <a:off x="971640" y="407844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16360" y="4294080"/>
              <a:ext cx="5047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227640" y="2060640"/>
            <a:ext cx="216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515280" y="2060640"/>
          <a:ext cx="352080" cy="14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5280" y="2060640"/>
                    <a:ext cx="352080" cy="1439640"/>
                  </a:xfrm>
                  <a:prstGeom prst="rect">
                    <a:avLst/>
                  </a:prstGeom>
                  <a:ln w="1908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51280" y="1989000"/>
            <a:ext cx="20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FLOW of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7080" y="2635200"/>
            <a:ext cx="69836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MAINTENANCE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PROCESS of Q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DEVELOPM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WHICH ARE THE MILESTONES ? </a:t>
            </a:r>
            <a:br>
              <a:rPr sz="2800"/>
            </a:b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06:05Z</dcterms:created>
  <dc:creator>KORISNIK</dc:creator>
  <dc:description/>
  <dc:language>en-US</dc:language>
  <cp:lastModifiedBy>Blanchandin</cp:lastModifiedBy>
  <cp:lastPrinted>2007-06-13T07:46:57Z</cp:lastPrinted>
  <dcterms:modified xsi:type="dcterms:W3CDTF">2007-06-21T11:29:47Z</dcterms:modified>
  <cp:revision>203</cp:revision>
  <dc:subject/>
  <dc:title>PowerPoint Presentation</dc:title>
</cp:coreProperties>
</file>