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61CA-26D0-43EF-ACAE-E19B8D0A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0349-8CF1-4F30-9DE3-8FA5FB90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C774-D4EF-498B-82C6-E269D9E2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1676-DF16-4937-8590-A7BBD2C1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7B1D-A17D-4BD0-AB71-25AB7A86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BFE6-AA7F-4A8B-9A32-0C79A2BE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3585-14EA-4C7E-92A1-3499F8F0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C8AC-5899-4778-887C-A4312346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3DEF-76CA-4CAF-8D4C-AFC8032F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4810-4B0A-44A3-9EA0-2D78E4A9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965E-C238-4FEE-92E0-86AADCF6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F9E3-74FA-491C-91E0-1DDAEE3F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64E1-7DE0-43E7-B4AA-B7E8E6CF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D5F3-06DF-4A89-86DD-3494F41B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1FFC-94B6-4634-843A-802EC0AE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A836-5D32-45E4-83B8-DBE676FD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6A87-C617-4D3D-8247-841DBF49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32E0-5FA3-41EC-AA56-D26DE62E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04F7-D140-4A2F-B305-6AC4D5DE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038F-3A87-4741-9C04-84A025D5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C571-D222-4D39-87D9-0586A84C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B025-5A73-430F-B753-88C77518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757-F191-45AC-AEB2-3BF08B81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B0EC-5710-4845-ABA2-64B97BEF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2939-32EA-46D6-8D52-751E65F9973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680C-6FD5-41F7-93AE-E378EB3B08E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95280" y="2852640"/>
            <a:ext cx="85694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990033"/>
                </a:solidFill>
                <a:latin typeface="Arial"/>
              </a:rPr>
              <a:t>KEY OBJECTIVES IN QUALITY IMPROVEMENT</a:t>
            </a:r>
            <a:r>
              <a:rPr b="1" lang="en-GB" sz="29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2900"/>
            </a:br>
            <a:r>
              <a:rPr b="1" lang="en-GB" sz="2900" spc="-1" strike="noStrike">
                <a:solidFill>
                  <a:srgbClr val="990033"/>
                </a:solidFill>
                <a:latin typeface="Arial"/>
              </a:rPr>
              <a:t>OF THE STATISTICAL BUSINESS REGISTER </a:t>
            </a:r>
            <a:br>
              <a:rPr sz="2900"/>
            </a:br>
            <a:r>
              <a:rPr b="1" lang="en-GB" sz="2900" spc="-1" strike="noStrike">
                <a:solidFill>
                  <a:srgbClr val="990033"/>
                </a:solidFill>
                <a:latin typeface="Arial"/>
              </a:rPr>
              <a:t>IN SERBIA</a:t>
            </a:r>
            <a:r>
              <a:rPr b="1" lang="en-US" sz="29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1280" y="19731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UNECE/Eurostat Seminar on Business Registers</a:t>
            </a: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5157720"/>
            <a:ext cx="8135640" cy="787320"/>
          </a:xfrm>
          <a:prstGeom prst="rect">
            <a:avLst/>
          </a:prstGeom>
          <a:solidFill>
            <a:srgbClr val="ff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HE STATISTICAL OFFICE OF THE REPUBLIC OF SERBIA 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RDJAN STEFANOVIC,  sstefanovic@statserb.sr.gov.y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4292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GENEVA, 18-19 JUNE 2007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8686800" y="6491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1280" y="836640"/>
            <a:ext cx="85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3. IDENTIF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GOALS FOR QUALITY IMPROVEMENTS AS MILES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1989000"/>
            <a:ext cx="828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REVIEW of DEVELOPMENT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60360" y="2637000"/>
            <a:ext cx="80992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336699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INCLUSION OF MISSING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336699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INCREASING OF QUALITY IMPROVEMENTS OF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336699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CREATION OF ALL LOCAL UNITS AS WELL AS LKAU AND K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336699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CREATION OF A SYSTEM OF AGGREGATION </a:t>
            </a:r>
            <a:br>
              <a:rPr sz="2400"/>
            </a:b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FROM L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336699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FULL DESIGN AND IMPLEMENTATION OF UPDATING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8686800" y="6491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1280" y="836640"/>
            <a:ext cx="85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3. IDENTIF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GOALS FOR QUALITY IMPROVEMENTS AS MILES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989000"/>
            <a:ext cx="845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REVIEW of DEVELOPMENT OBJECTIVES -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4000" y="2637000"/>
            <a:ext cx="8640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336699"/>
              </a:buClr>
              <a:buFont typeface="Arial"/>
              <a:buAutoNum type="alphaU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DEVELOPMENT OF A USER-FRIENDLY </a:t>
            </a:r>
            <a:br>
              <a:rPr sz="2400"/>
            </a:b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336699"/>
              </a:buClr>
              <a:buFont typeface="Arial"/>
              <a:buAutoNum type="alphaU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PROFILING WITH FOCUS ON ENT., KAU AND LK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336699"/>
              </a:buClr>
              <a:buFont typeface="Arial"/>
              <a:buAutoNum type="alphaU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INTRODUCTION OF LOCAL UNIT 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336699"/>
              </a:buClr>
              <a:buFont typeface="Arial"/>
              <a:buAutoNum type="alphaU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IMPLEMENTATION OF NACE REV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336699"/>
              </a:buClr>
              <a:buFont typeface="Arial"/>
              <a:buAutoNum type="alphaU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MAINTENANCE OF DEMOGRAPHY OF THE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24"/>
              </a:spcBef>
              <a:buClr>
                <a:srgbClr val="336699"/>
              </a:buClr>
              <a:buFont typeface="Arial"/>
              <a:buAutoNum type="alphaU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INTRODUCTION OF ENTERPRISE GROUP </a:t>
            </a:r>
            <a:br>
              <a:rPr sz="2400"/>
            </a:b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AND COORDINATION OF SAMPLES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686800" y="6491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1280" y="836640"/>
            <a:ext cx="85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3. IDENTIFY GOALS FOR QUALITY IMPROVEMENTS AS MILES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9640" y="6453360"/>
            <a:ext cx="935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ODYSEA 2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40000" y="2995560"/>
            <a:ext cx="7453080" cy="29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75000"/>
              </a:lnSpc>
              <a:spcBef>
                <a:spcPts val="2438"/>
              </a:spcBef>
              <a:spcAft>
                <a:spcPts val="649"/>
              </a:spcAft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6699"/>
                </a:solidFill>
                <a:latin typeface="Arial"/>
              </a:rPr>
              <a:t>CONSOLIDATED DATA TAKE-ON FROM ADMINISTRATIVE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2438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6699"/>
                </a:solidFill>
                <a:latin typeface="Arial"/>
              </a:rPr>
              <a:t>SYSTEM OF MAINTENANCE UPON UNIQUE FRAME FOR STATISTICAL SURVEY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2438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6699"/>
                </a:solidFill>
                <a:latin typeface="Arial"/>
              </a:rPr>
              <a:t>CONTINUITY RULES FOR </a:t>
            </a:r>
            <a:br>
              <a:rPr sz="2600"/>
            </a:br>
            <a:r>
              <a:rPr b="1" lang="en-GB" sz="2600" spc="-1" strike="noStrike">
                <a:solidFill>
                  <a:srgbClr val="336699"/>
                </a:solidFill>
                <a:latin typeface="Arial"/>
              </a:rPr>
              <a:t>AN ENTERPR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2205000"/>
            <a:ext cx="33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75000"/>
              </a:lnSpc>
              <a:spcBef>
                <a:spcPts val="2625"/>
              </a:spcBef>
              <a:spcAft>
                <a:spcPts val="7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MILEST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68360" y="1989000"/>
          <a:ext cx="1073160" cy="439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989000"/>
                    <a:ext cx="1073160" cy="4392720"/>
                  </a:xfrm>
                  <a:prstGeom prst="rect">
                    <a:avLst/>
                  </a:prstGeom>
                  <a:ln w="1908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advTm="2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8686800" y="6491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836640"/>
            <a:ext cx="85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3. IDENTIFY GOALS FOR QUALITY IMPROVEMENTS AS MILES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11280" y="1844640"/>
            <a:ext cx="554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6699"/>
                </a:solidFill>
                <a:latin typeface="Arial"/>
              </a:rPr>
              <a:t>SECRET OF MILE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2421000"/>
            <a:ext cx="867744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6699"/>
                </a:solidFill>
                <a:latin typeface="Arial"/>
              </a:rPr>
              <a:t>CONNECTED WITH OTHER OBJECTIV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6699"/>
                </a:solidFill>
                <a:latin typeface="Arial"/>
              </a:rPr>
              <a:t>FINISHING OF OTHER RELATED, “DAILY” OBJECTIVES IS ONGOING; SOME OF THEM HAVE BEEN ACHIE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6699"/>
                </a:solidFill>
                <a:latin typeface="Arial"/>
              </a:rPr>
              <a:t>SHOW DECISIVE PROGRESS IN Q IMPROVEMENTS </a:t>
            </a:r>
            <a:br>
              <a:rPr sz="2200"/>
            </a:br>
            <a:r>
              <a:rPr b="1" lang="en-GB" sz="2200" spc="-1" strike="noStrike">
                <a:solidFill>
                  <a:srgbClr val="336699"/>
                </a:solidFill>
                <a:latin typeface="Arial"/>
              </a:rPr>
              <a:t>LEAVING THE PAST BEH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6699"/>
                </a:solidFill>
                <a:latin typeface="Arial"/>
              </a:rPr>
              <a:t>FROM THEM ULTIMATE GOAL IS MORE CLO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6699"/>
                </a:solidFill>
                <a:latin typeface="Arial"/>
              </a:rPr>
              <a:t>INITIATE FURTHER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6699"/>
                </a:solidFill>
                <a:latin typeface="Arial"/>
              </a:rPr>
              <a:t>REMAIN IN PLACE UNLESS THEY CANNOT BE ACHIE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6699"/>
                </a:solidFill>
                <a:latin typeface="Arial"/>
              </a:rPr>
              <a:t>NEW MILESTONES WILL APPEAR TO DEFINE NEW LIM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8686800" y="6491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11280" y="836640"/>
            <a:ext cx="85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3. IDENTIF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GOALS FOR QUALITY IMPROVEMENTS AS MILES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11280" y="1916280"/>
            <a:ext cx="734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GUIDE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for the ACHIEVEMENT of MILE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76360" y="2852640"/>
            <a:ext cx="748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249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000"/>
                </a:solidFill>
                <a:latin typeface="Arial"/>
              </a:rPr>
              <a:t>IMPROVE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000"/>
                </a:solidFill>
                <a:latin typeface="Arial"/>
              </a:rPr>
              <a:t>APPLICATION RELATED TO EACH ADM.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000"/>
                </a:solidFill>
                <a:latin typeface="Arial"/>
              </a:rPr>
              <a:t>MONTHLY UPDATING WITH DATA FROM SBRA and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84360" y="3068640"/>
          <a:ext cx="12384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3068640"/>
                    <a:ext cx="123840" cy="504720"/>
                  </a:xfrm>
                  <a:prstGeom prst="rect">
                    <a:avLst/>
                  </a:prstGeom>
                  <a:ln w="1908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73" name=""/>
          <p:cNvGrpSpPr/>
          <p:nvPr/>
        </p:nvGrpSpPr>
        <p:grpSpPr>
          <a:xfrm>
            <a:off x="684360" y="4365720"/>
            <a:ext cx="339480" cy="504720"/>
            <a:chOff x="684360" y="4365720"/>
            <a:chExt cx="339480" cy="504720"/>
          </a:xfrm>
        </p:grpSpPr>
        <p:graphicFrame>
          <p:nvGraphicFramePr>
            <p:cNvPr id="374" name=""/>
            <p:cNvGraphicFramePr/>
            <p:nvPr/>
          </p:nvGraphicFramePr>
          <p:xfrm>
            <a:off x="684360" y="4365720"/>
            <a:ext cx="123840" cy="504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7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84360" y="4365720"/>
                      <a:ext cx="123840" cy="504720"/>
                    </a:xfrm>
                    <a:prstGeom prst="rect">
                      <a:avLst/>
                    </a:prstGeom>
                    <a:ln w="1908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76" name=""/>
            <p:cNvGraphicFramePr/>
            <p:nvPr/>
          </p:nvGraphicFramePr>
          <p:xfrm>
            <a:off x="900000" y="4365720"/>
            <a:ext cx="123840" cy="504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7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00000" y="4365720"/>
                      <a:ext cx="123840" cy="504720"/>
                    </a:xfrm>
                    <a:prstGeom prst="rect">
                      <a:avLst/>
                    </a:prstGeom>
                    <a:ln w="1908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78" name=""/>
          <p:cNvGrpSpPr/>
          <p:nvPr/>
        </p:nvGrpSpPr>
        <p:grpSpPr>
          <a:xfrm>
            <a:off x="684360" y="5587920"/>
            <a:ext cx="555480" cy="504720"/>
            <a:chOff x="684360" y="5587920"/>
            <a:chExt cx="555480" cy="504720"/>
          </a:xfrm>
        </p:grpSpPr>
        <p:graphicFrame>
          <p:nvGraphicFramePr>
            <p:cNvPr id="379" name=""/>
            <p:cNvGraphicFramePr/>
            <p:nvPr/>
          </p:nvGraphicFramePr>
          <p:xfrm>
            <a:off x="684360" y="5587920"/>
            <a:ext cx="123840" cy="504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84360" y="5587920"/>
                      <a:ext cx="123840" cy="504720"/>
                    </a:xfrm>
                    <a:prstGeom prst="rect">
                      <a:avLst/>
                    </a:prstGeom>
                    <a:ln w="1908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81" name=""/>
            <p:cNvGraphicFramePr/>
            <p:nvPr/>
          </p:nvGraphicFramePr>
          <p:xfrm>
            <a:off x="900000" y="5587920"/>
            <a:ext cx="123840" cy="5047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8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900000" y="5587920"/>
                      <a:ext cx="123840" cy="504720"/>
                    </a:xfrm>
                    <a:prstGeom prst="rect">
                      <a:avLst/>
                    </a:prstGeom>
                    <a:ln w="1908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83" name=""/>
            <p:cNvGraphicFramePr/>
            <p:nvPr/>
          </p:nvGraphicFramePr>
          <p:xfrm>
            <a:off x="1116000" y="5587920"/>
            <a:ext cx="123840" cy="504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116000" y="5587920"/>
                      <a:ext cx="123840" cy="504720"/>
                    </a:xfrm>
                    <a:prstGeom prst="rect">
                      <a:avLst/>
                    </a:prstGeom>
                    <a:ln w="1908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85" name=""/>
          <p:cNvSpPr/>
          <p:nvPr/>
        </p:nvSpPr>
        <p:spPr>
          <a:xfrm>
            <a:off x="1476360" y="4149720"/>
            <a:ext cx="720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249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000"/>
                </a:solidFill>
                <a:latin typeface="Arial"/>
              </a:rPr>
              <a:t>IMPLEMENATION OF LK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000"/>
                </a:solidFill>
                <a:latin typeface="Arial"/>
              </a:rPr>
              <a:t>STANDARD PRE-PRINTED QUESTION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000"/>
                </a:solidFill>
                <a:latin typeface="Arial"/>
              </a:rPr>
              <a:t>STABILISATION of APOLO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547640" y="5373720"/>
            <a:ext cx="759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249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000"/>
                </a:solidFill>
                <a:latin typeface="Arial"/>
              </a:rPr>
              <a:t>INTRODUCE THE PHYLOSOPHY OF CONTINUITY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000"/>
                </a:solidFill>
                <a:latin typeface="Arial"/>
              </a:rPr>
              <a:t>FOLLOW-UP CHANGES for LARGE and MEDIUM 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000"/>
                </a:solidFill>
                <a:latin typeface="Arial"/>
              </a:rPr>
              <a:t>DISSEMINATE DETAILED INF. ON DEMOGRAPHY EV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826920" y="5372280"/>
            <a:ext cx="7274160" cy="129672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5000"/>
              </a:lnSpc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336699"/>
                </a:solidFill>
                <a:latin typeface="Arial"/>
              </a:rPr>
              <a:t>CONSOLIDATED DATA TAKE-ON FROM ADM.</a:t>
            </a:r>
            <a:r>
              <a:rPr b="1" lang="en-GB" sz="2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336699"/>
                </a:solidFill>
                <a:latin typeface="Arial"/>
              </a:rPr>
              <a:t>SOURC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587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336699"/>
                </a:solidFill>
                <a:latin typeface="Arial"/>
              </a:rPr>
              <a:t>SYSTEM OF MAINTENANCE UPON UNIQUE FRAME FOR STATISTICAL SURVEY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3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336699"/>
                </a:solidFill>
                <a:latin typeface="Arial"/>
              </a:rPr>
              <a:t>CONTINUITY RULES FOR AN ENTERPRISE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684360" y="1052640"/>
            <a:ext cx="7991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9a0000"/>
                </a:solidFill>
                <a:latin typeface="Arial"/>
              </a:rPr>
              <a:t>CONCLUS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0920" y="1916280"/>
            <a:ext cx="655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    </a:t>
            </a: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OBJECTIVES in the DEVELOPMENT  connected like a </a:t>
            </a:r>
            <a:r>
              <a:rPr b="1" lang="en-GB" sz="2600" spc="-1" strike="noStrike">
                <a:solidFill>
                  <a:srgbClr val="336699"/>
                </a:solidFill>
                <a:latin typeface="Arial"/>
              </a:rPr>
              <a:t>JIGSAW PUZZ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9080" y="2852640"/>
            <a:ext cx="8675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    </a:t>
            </a: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WHAT choice to make among OBJECTIVES </a:t>
            </a:r>
            <a:br>
              <a:rPr sz="2600"/>
            </a:b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which would lead to </a:t>
            </a:r>
            <a:br>
              <a:rPr sz="2600"/>
            </a:br>
            <a:r>
              <a:rPr b="1" lang="en-GB" sz="2600" spc="-1" strike="noStrike">
                <a:solidFill>
                  <a:srgbClr val="336699"/>
                </a:solidFill>
                <a:latin typeface="Arial"/>
              </a:rPr>
              <a:t>DECISIVE</a:t>
            </a: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336699"/>
                </a:solidFill>
                <a:latin typeface="Arial"/>
              </a:rPr>
              <a:t>QUALITY IMPROVEMENTS of the SBR</a:t>
            </a:r>
            <a:br>
              <a:rPr sz="2600"/>
            </a:br>
            <a:r>
              <a:rPr b="1" lang="en-GB" sz="2600" spc="-1" strike="noStrike">
                <a:solidFill>
                  <a:srgbClr val="336699"/>
                </a:solidFill>
                <a:latin typeface="Arial"/>
              </a:rPr>
              <a:t>leaving behind attribute of the SBR as </a:t>
            </a:r>
            <a:br>
              <a:rPr sz="2600"/>
            </a:br>
            <a:r>
              <a:rPr b="1" lang="en-GB" sz="2600" spc="-1" strike="noStrike">
                <a:solidFill>
                  <a:srgbClr val="336699"/>
                </a:solidFill>
                <a:latin typeface="Arial"/>
              </a:rPr>
              <a:t>a SIMPLE COLLECTION of ADM. and STAT. DATA</a:t>
            </a: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1773360"/>
            <a:ext cx="6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2500"/>
              </a:spcBef>
              <a:buClr>
                <a:srgbClr val="9a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a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9a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2781360"/>
            <a:ext cx="6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2500"/>
              </a:spcBef>
              <a:buClr>
                <a:srgbClr val="9a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a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9a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4724280"/>
            <a:ext cx="64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2500"/>
              </a:spcBef>
              <a:buClr>
                <a:srgbClr val="9a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a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9a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84360" y="4869000"/>
            <a:ext cx="763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THE ANSW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686800" y="765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561440" y="6093000"/>
            <a:ext cx="1582560" cy="76500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= MILE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ST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686800" y="6491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0720" y="1054080"/>
            <a:ext cx="4859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9a0000"/>
                </a:solidFill>
                <a:latin typeface="Arial"/>
              </a:rPr>
              <a:t>IDEA OF THE PAP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9440" y="2421000"/>
            <a:ext cx="82436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1301"/>
              </a:spcBef>
              <a:spcAft>
                <a:spcPts val="649"/>
              </a:spcAft>
              <a:buClr>
                <a:srgbClr val="9a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TO PRESENT SERBIAN SB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01"/>
              </a:spcBef>
              <a:spcAft>
                <a:spcPts val="649"/>
              </a:spcAft>
              <a:buClr>
                <a:srgbClr val="9a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EXPLORE  BENEFITS and DEFICIENCIES in the CREATION and the USE of the SBR RELEVANT TO FURTHER DEVELOPMENT OF THE SB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01"/>
              </a:spcBef>
              <a:spcAft>
                <a:spcPts val="649"/>
              </a:spcAft>
              <a:buClr>
                <a:srgbClr val="9a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IDENTIFY GOALS FOR QUALITY IMPROVEMENTS to serve as MILEST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8686800" y="6491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1280" y="981000"/>
            <a:ext cx="828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9a0000"/>
                </a:solidFill>
                <a:latin typeface="Arial"/>
              </a:rPr>
              <a:t>1.  SERBIAN SB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4360" y="1916280"/>
            <a:ext cx="828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ESTABLISHMENT AND MAIN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5640" y="2637000"/>
            <a:ext cx="7921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75000"/>
              </a:lnSpc>
              <a:spcBef>
                <a:spcPts val="649"/>
              </a:spcBef>
              <a:spcAft>
                <a:spcPts val="649"/>
              </a:spcAft>
              <a:buClr>
                <a:srgbClr val="9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INTRODUCTION of the SB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9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EU REGULATIONS</a:t>
            </a:r>
            <a:br>
              <a:rPr sz="2600"/>
            </a:b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9a0000"/>
                </a:solidFill>
                <a:latin typeface="Arial"/>
              </a:rPr>
              <a:t>CR 2186/93,CR 696/93, NEW DRAFT, MANUAL</a:t>
            </a: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451"/>
              </a:spcBef>
              <a:buClr>
                <a:srgbClr val="9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SOURCES</a:t>
            </a:r>
            <a:br>
              <a:rPr sz="2800"/>
            </a:b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9a0000"/>
                </a:solidFill>
                <a:latin typeface="Arial"/>
              </a:rPr>
              <a:t>ADM:</a:t>
            </a: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SORS </a:t>
            </a:r>
            <a:r>
              <a:rPr b="1" lang="en-GB" sz="2400" spc="-1" strike="noStrike">
                <a:solidFill>
                  <a:srgbClr val="9a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a0000"/>
                </a:solidFill>
                <a:latin typeface="Arial"/>
              </a:rPr>
              <a:t>LEGAL PERSONS (NON PROFIT and OTHER) </a:t>
            </a:r>
            <a:br>
              <a:rPr sz="1800"/>
            </a:br>
            <a:r>
              <a:rPr b="1" lang="en-GB" sz="1800" spc="-1" strike="noStrike">
                <a:solidFill>
                  <a:srgbClr val="9a0000"/>
                </a:solidFill>
                <a:latin typeface="Arial"/>
              </a:rPr>
              <a:t>             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SBRA </a:t>
            </a:r>
            <a:r>
              <a:rPr b="1" lang="en-GB" sz="2400" spc="-1" strike="noStrike">
                <a:solidFill>
                  <a:srgbClr val="9a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9a0000"/>
                </a:solidFill>
                <a:latin typeface="Arial"/>
              </a:rPr>
              <a:t> BUSINESS ENT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000"/>
                </a:solidFill>
                <a:latin typeface="Arial"/>
              </a:rPr>
              <a:t>                    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TA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9a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a0000"/>
                </a:solidFill>
                <a:latin typeface="Arial"/>
              </a:rPr>
              <a:t>TIN and VAT REGIS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                   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NBS/S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a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a0000"/>
                </a:solidFill>
                <a:latin typeface="Arial"/>
              </a:rPr>
              <a:t>REGISTER of FINAL STATEMENTS</a:t>
            </a:r>
            <a:r>
              <a:rPr b="1" lang="en-GB" sz="2400" spc="-1" strike="noStrike">
                <a:solidFill>
                  <a:srgbClr val="9a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TA      </a:t>
            </a:r>
            <a:r>
              <a:rPr b="1" lang="en-GB" sz="1800" spc="-1" strike="noStrike">
                <a:solidFill>
                  <a:srgbClr val="9a0000"/>
                </a:solidFill>
                <a:latin typeface="Arial"/>
              </a:rPr>
              <a:t>-  REGISTER of USERS of BUDGET FUN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a0000"/>
                </a:solidFill>
                <a:latin typeface="Arial"/>
              </a:rPr>
              <a:t>STAT. SURVEYS: 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NA, LABOUR FORCE, FOREIGN TRADE</a:t>
            </a: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1301"/>
              </a:spcBef>
              <a:buClr>
                <a:srgbClr val="9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DATA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8686800" y="6491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981000"/>
            <a:ext cx="828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9a0000"/>
                </a:solidFill>
                <a:latin typeface="Arial"/>
              </a:rPr>
              <a:t>1.  SERBIAN SBR (</a:t>
            </a:r>
            <a:r>
              <a:rPr b="1" lang="en-GB" sz="2200" spc="-1" strike="noStrike">
                <a:solidFill>
                  <a:srgbClr val="9a0000"/>
                </a:solidFill>
                <a:latin typeface="Arial"/>
              </a:rPr>
              <a:t>SOURCES AND DATA MODEL</a:t>
            </a:r>
            <a:r>
              <a:rPr b="1" lang="en-GB" sz="3100" spc="-1" strike="noStrike">
                <a:solidFill>
                  <a:srgbClr val="9a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08000" y="2205000"/>
            <a:ext cx="6048720" cy="425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-1292040" y="418104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ADMINISTRATIVE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56360" y="1844640"/>
            <a:ext cx="2297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TH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6658560" y="4095000"/>
            <a:ext cx="35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TISTICAL SURVE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81440" y="649116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01840" y="4797360"/>
            <a:ext cx="13683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GAL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2200" y="2494080"/>
            <a:ext cx="1838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733840" y="5878440"/>
            <a:ext cx="1895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 LOC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649920" y="5969160"/>
            <a:ext cx="1162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6.  LK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77080" y="2389320"/>
            <a:ext cx="809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5. K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44920" y="4289400"/>
            <a:ext cx="14176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408480" y="3228840"/>
            <a:ext cx="1217520" cy="782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369040" y="2948040"/>
            <a:ext cx="12808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7058160" y="3340080"/>
            <a:ext cx="0" cy="19000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44920" y="4289400"/>
            <a:ext cx="14176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97600" y="3340080"/>
            <a:ext cx="203040" cy="61452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27600" y="3340080"/>
            <a:ext cx="0" cy="1900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69040" y="5576760"/>
            <a:ext cx="13507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08480" y="4570560"/>
            <a:ext cx="1217520" cy="782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5231880" y="3284280"/>
            <a:ext cx="1622520" cy="20127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51520" y="4067280"/>
            <a:ext cx="1787400" cy="603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. ENTERPRIS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57600" y="5240160"/>
            <a:ext cx="809640" cy="6717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33840" y="3933720"/>
            <a:ext cx="811080" cy="6717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57600" y="2668680"/>
            <a:ext cx="811440" cy="6714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962600" y="3954600"/>
            <a:ext cx="809640" cy="671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649920" y="2668680"/>
            <a:ext cx="811440" cy="671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19760" y="5240160"/>
            <a:ext cx="809640" cy="671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94200" y="5445000"/>
            <a:ext cx="216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21120" y="4149720"/>
            <a:ext cx="215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21120" y="2852640"/>
            <a:ext cx="216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55680" y="3502080"/>
            <a:ext cx="1727280" cy="2160360"/>
          </a:xfrm>
          <a:prstGeom prst="ellipse">
            <a:avLst/>
          </a:prstGeom>
          <a:noFill/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55680" y="3141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Arial"/>
              </a:rPr>
              <a:t>LEGAL 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936720" y="2795760"/>
            <a:ext cx="606240" cy="3355920"/>
            <a:chOff x="936720" y="2795760"/>
            <a:chExt cx="606240" cy="3355920"/>
          </a:xfrm>
        </p:grpSpPr>
        <p:grpSp>
          <p:nvGrpSpPr>
            <p:cNvPr id="262" name=""/>
            <p:cNvGrpSpPr/>
            <p:nvPr/>
          </p:nvGrpSpPr>
          <p:grpSpPr>
            <a:xfrm>
              <a:off x="936720" y="2795760"/>
              <a:ext cx="606240" cy="502920"/>
              <a:chOff x="936720" y="2795760"/>
              <a:chExt cx="606240" cy="502920"/>
            </a:xfrm>
          </p:grpSpPr>
          <p:sp>
            <p:nvSpPr>
              <p:cNvPr id="263" name=""/>
              <p:cNvSpPr/>
              <p:nvPr/>
            </p:nvSpPr>
            <p:spPr>
              <a:xfrm>
                <a:off x="936720" y="2795760"/>
                <a:ext cx="606240" cy="502920"/>
              </a:xfrm>
              <a:prstGeom prst="flowChartMagneticDisk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003320" y="2963160"/>
                <a:ext cx="472680" cy="31212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S</a:t>
                </a:r>
                <a:r>
                  <a:rPr b="1" lang="sr-C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936720" y="3746520"/>
              <a:ext cx="606240" cy="503280"/>
              <a:chOff x="936720" y="3746520"/>
              <a:chExt cx="606240" cy="503280"/>
            </a:xfrm>
          </p:grpSpPr>
          <p:sp>
            <p:nvSpPr>
              <p:cNvPr id="266" name=""/>
              <p:cNvSpPr/>
              <p:nvPr/>
            </p:nvSpPr>
            <p:spPr>
              <a:xfrm>
                <a:off x="936720" y="3746520"/>
                <a:ext cx="606240" cy="503280"/>
              </a:xfrm>
              <a:prstGeom prst="flowChartMagneticDisk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003320" y="3914280"/>
                <a:ext cx="472680" cy="31212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S</a:t>
                </a:r>
                <a:r>
                  <a:rPr b="1" lang="sr-C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936720" y="4754520"/>
              <a:ext cx="606240" cy="50328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03320" y="4921200"/>
              <a:ext cx="472680" cy="3121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r>
                <a:rPr b="1" lang="sr-C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36720" y="5648400"/>
              <a:ext cx="606240" cy="50328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03320" y="5705640"/>
              <a:ext cx="4726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5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2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11280" y="981000"/>
            <a:ext cx="828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9a0000"/>
                </a:solidFill>
                <a:latin typeface="Arial"/>
              </a:rPr>
              <a:t>1.  SERBIAN SBR (</a:t>
            </a:r>
            <a:r>
              <a:rPr b="1" lang="en-GB" sz="2200" spc="-1" strike="noStrike">
                <a:solidFill>
                  <a:srgbClr val="9a0000"/>
                </a:solidFill>
                <a:latin typeface="Arial"/>
              </a:rPr>
              <a:t>OTHER MAIN FEATURES</a:t>
            </a: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4360" y="1844640"/>
            <a:ext cx="3958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2349360"/>
            <a:ext cx="8928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374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NACE Rev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74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ALL SECTORS of N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74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LEGAL UNIT = LEGAL PERSONS + ENTER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74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MAINTENANCE VARIABLES (</a:t>
            </a:r>
            <a:r>
              <a:rPr b="1" lang="en-GB" sz="1600" spc="-1" strike="noStrike">
                <a:solidFill>
                  <a:srgbClr val="336699"/>
                </a:solidFill>
                <a:latin typeface="Arial"/>
              </a:rPr>
              <a:t>DATA SOURCE, REFERENT DATE, ...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74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DEMOGRAPHY – ONLY BIRTHS and DE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74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CONTINUITY RULES – HAVE NOT BEEN ADOPTED Y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74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ANNUAL DATA: 2004, 2005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74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MONTHLY UPDATE IS ANTICIP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74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PROTOCOLS on COLABORATION EXIST (NEED for REVI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74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USER REQUESTS – 30 - 50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74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ORGANISATIONAL UNIT with 4 DEDICATED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74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ACTIVE UNITS in 2006: LU</a:t>
            </a:r>
            <a:r>
              <a:rPr b="1" lang="en-GB" sz="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=</a:t>
            </a:r>
            <a:r>
              <a:rPr b="1" lang="en-GB" sz="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2000" spc="-1" strike="noStrike" u="sng">
                <a:solidFill>
                  <a:srgbClr val="336699"/>
                </a:solidFill>
                <a:uFillTx/>
                <a:latin typeface="Arial"/>
              </a:rPr>
              <a:t>470</a:t>
            </a:r>
            <a:r>
              <a:rPr b="1" lang="en-GB" sz="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000 ENT</a:t>
            </a:r>
            <a:r>
              <a:rPr b="1" lang="en-GB" sz="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=</a:t>
            </a:r>
            <a:r>
              <a:rPr b="1" lang="en-GB" sz="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2000" spc="-1" strike="noStrike" u="sng">
                <a:solidFill>
                  <a:srgbClr val="336699"/>
                </a:solidFill>
                <a:uFillTx/>
                <a:latin typeface="Arial"/>
              </a:rPr>
              <a:t>341</a:t>
            </a:r>
            <a:r>
              <a:rPr b="1" lang="en-GB" sz="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000, LO</a:t>
            </a:r>
            <a:r>
              <a:rPr b="1" lang="en-GB" sz="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= </a:t>
            </a:r>
            <a:r>
              <a:rPr b="1" lang="en-GB" sz="2000" spc="-1" strike="noStrike" u="sng">
                <a:solidFill>
                  <a:srgbClr val="336699"/>
                </a:solidFill>
                <a:uFillTx/>
                <a:latin typeface="Arial"/>
              </a:rPr>
              <a:t>422</a:t>
            </a:r>
            <a:r>
              <a:rPr b="1" lang="en-GB" sz="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686800" y="6491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8686800" y="6491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1280" y="836640"/>
            <a:ext cx="8785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2. BENEFITS AND DEFICIENCIES RELEVANT TO FURTHER DEVELOPMEN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4360" y="2133720"/>
            <a:ext cx="6913440" cy="9363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GHLIGHTS of ESTABLISHMENT and DEVELOPMENT of the S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4000" y="4294080"/>
            <a:ext cx="874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75000"/>
              </a:lnSpc>
              <a:spcBef>
                <a:spcPts val="1624"/>
              </a:spcBef>
              <a:spcAft>
                <a:spcPts val="649"/>
              </a:spcAft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6699"/>
                </a:solidFill>
                <a:latin typeface="Arial"/>
              </a:rPr>
              <a:t>INTERNATIONA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88"/>
              </a:spcBef>
              <a:spcAft>
                <a:spcPts val="326"/>
              </a:spcAft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6699"/>
                </a:solidFill>
                <a:latin typeface="Arial"/>
              </a:rPr>
              <a:t>CHANGES in the SYSTEM of REGISTRATION</a:t>
            </a: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88"/>
              </a:spcBef>
              <a:spcAft>
                <a:spcPts val="326"/>
              </a:spcAft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6699"/>
                </a:solidFill>
                <a:latin typeface="Arial"/>
              </a:rPr>
              <a:t>DEVELOPMENT of KEY ADM. SOURCES  </a:t>
            </a:r>
            <a:br>
              <a:rPr sz="2600"/>
            </a:br>
            <a:r>
              <a:rPr b="1" lang="en-GB" sz="2600" spc="-1" strike="noStrike">
                <a:solidFill>
                  <a:srgbClr val="336699"/>
                </a:solidFill>
                <a:latin typeface="Arial"/>
              </a:rPr>
              <a:t>during the TRANSITION PERI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11280" y="3430440"/>
            <a:ext cx="410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THREE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8686800" y="6491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1280" y="836640"/>
            <a:ext cx="85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2. BENEFITS AND DEFICIENCIES RELEVANT TO FURTHER DEVELOPMEN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2852640"/>
            <a:ext cx="864072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75000"/>
              </a:lnSpc>
              <a:spcBef>
                <a:spcPts val="649"/>
              </a:spcBef>
              <a:spcAft>
                <a:spcPts val="649"/>
              </a:spcAft>
              <a:buClr>
                <a:srgbClr val="9a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INTERNATIONAL ENG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88"/>
              </a:spcBef>
              <a:spcAft>
                <a:spcPts val="326"/>
              </a:spcAft>
              <a:buClr>
                <a:srgbClr val="9a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PERIOD of TRANSITION of MAIN </a:t>
            </a:r>
            <a:br>
              <a:rPr sz="2600"/>
            </a:b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 ADM.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1. The TAX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2. The SERBIAN BUSINESS REGISTERS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3. The SOLVENCY CENTRE from the NATIONAL BANK of SER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4. The ADMINISTRATIVE REGISTER in the 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1137"/>
              </a:spcBef>
              <a:buClr>
                <a:srgbClr val="9a0000"/>
              </a:buClr>
              <a:buFont typeface="Arial"/>
              <a:buAutoNum type="alpha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CREATION of the SB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1137"/>
              </a:spcBef>
              <a:buClr>
                <a:srgbClr val="9a0000"/>
              </a:buClr>
              <a:buFont typeface="Arial"/>
              <a:buAutoNum type="alpha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9a0000"/>
                </a:solidFill>
                <a:latin typeface="Arial"/>
              </a:rPr>
              <a:t>USE of the SB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1280" y="2133720"/>
            <a:ext cx="475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SCOPE of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 rot="20346000">
            <a:off x="2840400" y="5609160"/>
            <a:ext cx="647640" cy="182880"/>
          </a:xfrm>
          <a:prstGeom prst="rect">
            <a:avLst/>
          </a:prstGeom>
          <a:solidFill>
            <a:srgbClr val="ffcc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359000">
            <a:off x="2845800" y="2351520"/>
            <a:ext cx="647640" cy="182880"/>
          </a:xfrm>
          <a:prstGeom prst="rect">
            <a:avLst/>
          </a:prstGeom>
          <a:solidFill>
            <a:srgbClr val="ffcc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11280" y="836640"/>
            <a:ext cx="85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2. BENEFITS AND DEFICIENCIES RELEVANT TO FURTHER DEVELOPMEN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79280" y="2062080"/>
            <a:ext cx="790560" cy="671400"/>
            <a:chOff x="179280" y="2062080"/>
            <a:chExt cx="790560" cy="671400"/>
          </a:xfrm>
        </p:grpSpPr>
        <p:sp>
          <p:nvSpPr>
            <p:cNvPr id="293" name=""/>
            <p:cNvSpPr/>
            <p:nvPr/>
          </p:nvSpPr>
          <p:spPr>
            <a:xfrm>
              <a:off x="179280" y="2062080"/>
              <a:ext cx="790560" cy="671400"/>
            </a:xfrm>
            <a:prstGeom prst="ellipse">
              <a:avLst/>
            </a:prstGeom>
            <a:solidFill>
              <a:srgbClr val="ccff99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9280" y="2206440"/>
              <a:ext cx="71928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R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2200" y="2422440"/>
              <a:ext cx="5047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 rot="16200000">
            <a:off x="4787640" y="2927160"/>
            <a:ext cx="1873440" cy="2305080"/>
          </a:xfrm>
          <a:prstGeom prst="flowChartMerge">
            <a:avLst/>
          </a:prstGeom>
          <a:solidFill>
            <a:srgbClr val="ffcc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59280" y="4440240"/>
            <a:ext cx="1296720" cy="792000"/>
          </a:xfrm>
          <a:prstGeom prst="rect">
            <a:avLst/>
          </a:prstGeom>
          <a:solidFill>
            <a:srgbClr val="cc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16000" y="5807160"/>
            <a:ext cx="6985080" cy="934920"/>
          </a:xfrm>
          <a:prstGeom prst="rightArrow">
            <a:avLst>
              <a:gd name="adj1" fmla="val 50000"/>
              <a:gd name="adj2" fmla="val 186783"/>
            </a:avLst>
          </a:prstGeom>
          <a:solidFill>
            <a:srgbClr val="ffcc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258920" y="6095880"/>
            <a:ext cx="5113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MENT and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877080" y="2349360"/>
            <a:ext cx="2087640" cy="3240000"/>
            <a:chOff x="6877080" y="2349360"/>
            <a:chExt cx="2087640" cy="3240000"/>
          </a:xfrm>
        </p:grpSpPr>
        <p:sp>
          <p:nvSpPr>
            <p:cNvPr id="301" name=""/>
            <p:cNvSpPr/>
            <p:nvPr/>
          </p:nvSpPr>
          <p:spPr>
            <a:xfrm>
              <a:off x="6877080" y="2349360"/>
              <a:ext cx="2087640" cy="3240000"/>
            </a:xfrm>
            <a:prstGeom prst="irregularSeal2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51640" y="3357360"/>
              <a:ext cx="3603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lnSpc>
                  <a:spcPct val="11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9a0000"/>
                  </a:solidFill>
                  <a:latin typeface="Arial"/>
                  <a:ea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8522000">
              <a:off x="6815520" y="4064760"/>
              <a:ext cx="20224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lnSpc>
                  <a:spcPct val="11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9a0000"/>
                  </a:solidFill>
                  <a:latin typeface="Arial"/>
                  <a:ea typeface="Times New Roman"/>
                </a:rPr>
                <a:t> </a:t>
              </a:r>
              <a:r>
                <a:rPr b="1" lang="en-GB" sz="1900" spc="-1" strike="noStrike">
                  <a:solidFill>
                    <a:srgbClr val="9a0000"/>
                  </a:solidFill>
                  <a:latin typeface="Arial"/>
                  <a:ea typeface="Times New Roman"/>
                </a:rPr>
                <a:t>IMPROVEMENT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45080" y="3863880"/>
            <a:ext cx="1873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IV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30560" y="4583160"/>
            <a:ext cx="1081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EFI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IENC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59280" y="2927520"/>
            <a:ext cx="1296720" cy="792000"/>
          </a:xfrm>
          <a:prstGeom prst="rect">
            <a:avLst/>
          </a:prstGeom>
          <a:solidFill>
            <a:srgbClr val="cc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30560" y="3216240"/>
            <a:ext cx="1079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BENEF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27280" y="2351160"/>
            <a:ext cx="216000" cy="3456000"/>
          </a:xfrm>
          <a:prstGeom prst="rect">
            <a:avLst/>
          </a:prstGeom>
          <a:solidFill>
            <a:srgbClr val="ffcc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92360" y="2135160"/>
            <a:ext cx="790560" cy="671400"/>
            <a:chOff x="1692360" y="2135160"/>
            <a:chExt cx="790560" cy="671400"/>
          </a:xfrm>
        </p:grpSpPr>
        <p:sp>
          <p:nvSpPr>
            <p:cNvPr id="310" name=""/>
            <p:cNvSpPr/>
            <p:nvPr/>
          </p:nvSpPr>
          <p:spPr>
            <a:xfrm>
              <a:off x="1692360" y="2135160"/>
              <a:ext cx="790560" cy="671400"/>
            </a:xfrm>
            <a:prstGeom prst="ellipse">
              <a:avLst/>
            </a:prstGeom>
            <a:solidFill>
              <a:srgbClr val="ccff99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63640" y="2279520"/>
              <a:ext cx="6480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lnSpc>
                  <a:spcPct val="11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REA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900000" y="2711520"/>
            <a:ext cx="790560" cy="671400"/>
            <a:chOff x="900000" y="2711520"/>
            <a:chExt cx="790560" cy="671400"/>
          </a:xfrm>
        </p:grpSpPr>
        <p:sp>
          <p:nvSpPr>
            <p:cNvPr id="313" name=""/>
            <p:cNvSpPr/>
            <p:nvPr/>
          </p:nvSpPr>
          <p:spPr>
            <a:xfrm>
              <a:off x="900000" y="2711520"/>
              <a:ext cx="790560" cy="671400"/>
            </a:xfrm>
            <a:prstGeom prst="ellipse">
              <a:avLst/>
            </a:prstGeom>
            <a:solidFill>
              <a:srgbClr val="ccff99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44720" y="2927160"/>
              <a:ext cx="5047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C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692360" y="5230800"/>
            <a:ext cx="790560" cy="671400"/>
            <a:chOff x="1692360" y="5230800"/>
            <a:chExt cx="790560" cy="671400"/>
          </a:xfrm>
        </p:grpSpPr>
        <p:sp>
          <p:nvSpPr>
            <p:cNvPr id="316" name=""/>
            <p:cNvSpPr/>
            <p:nvPr/>
          </p:nvSpPr>
          <p:spPr>
            <a:xfrm>
              <a:off x="1692360" y="5230800"/>
              <a:ext cx="790560" cy="671400"/>
            </a:xfrm>
            <a:prstGeom prst="ellipse">
              <a:avLst/>
            </a:prstGeom>
            <a:solidFill>
              <a:srgbClr val="ccff99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36720" y="5446440"/>
              <a:ext cx="505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692360" y="3359160"/>
            <a:ext cx="790560" cy="671400"/>
            <a:chOff x="1692360" y="3359160"/>
            <a:chExt cx="790560" cy="671400"/>
          </a:xfrm>
        </p:grpSpPr>
        <p:sp>
          <p:nvSpPr>
            <p:cNvPr id="319" name=""/>
            <p:cNvSpPr/>
            <p:nvPr/>
          </p:nvSpPr>
          <p:spPr>
            <a:xfrm>
              <a:off x="1692360" y="3359160"/>
              <a:ext cx="790560" cy="671400"/>
            </a:xfrm>
            <a:prstGeom prst="ellipse">
              <a:avLst/>
            </a:prstGeom>
            <a:solidFill>
              <a:srgbClr val="ccff99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36720" y="3574800"/>
              <a:ext cx="5745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B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79280" y="3575160"/>
            <a:ext cx="1152360" cy="671400"/>
            <a:chOff x="179280" y="3575160"/>
            <a:chExt cx="1152360" cy="671400"/>
          </a:xfrm>
        </p:grpSpPr>
        <p:sp>
          <p:nvSpPr>
            <p:cNvPr id="322" name=""/>
            <p:cNvSpPr/>
            <p:nvPr/>
          </p:nvSpPr>
          <p:spPr>
            <a:xfrm>
              <a:off x="179280" y="3575160"/>
              <a:ext cx="790560" cy="671400"/>
            </a:xfrm>
            <a:prstGeom prst="ellipse">
              <a:avLst/>
            </a:prstGeom>
            <a:solidFill>
              <a:srgbClr val="ccff99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560" y="3719520"/>
              <a:ext cx="1081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D.REG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08000" y="5880240"/>
            <a:ext cx="1008000" cy="671400"/>
            <a:chOff x="108000" y="5880240"/>
            <a:chExt cx="1008000" cy="671400"/>
          </a:xfrm>
        </p:grpSpPr>
        <p:sp>
          <p:nvSpPr>
            <p:cNvPr id="325" name=""/>
            <p:cNvSpPr/>
            <p:nvPr/>
          </p:nvSpPr>
          <p:spPr>
            <a:xfrm>
              <a:off x="108000" y="5880240"/>
              <a:ext cx="790560" cy="671400"/>
            </a:xfrm>
            <a:prstGeom prst="ellipse">
              <a:avLst/>
            </a:prstGeom>
            <a:solidFill>
              <a:srgbClr val="ccff99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8000" y="6095880"/>
              <a:ext cx="10080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U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2627280" y="3143160"/>
            <a:ext cx="2160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81080" y="4703760"/>
            <a:ext cx="790560" cy="671400"/>
            <a:chOff x="181080" y="4703760"/>
            <a:chExt cx="790560" cy="671400"/>
          </a:xfrm>
        </p:grpSpPr>
        <p:sp>
          <p:nvSpPr>
            <p:cNvPr id="329" name=""/>
            <p:cNvSpPr/>
            <p:nvPr/>
          </p:nvSpPr>
          <p:spPr>
            <a:xfrm>
              <a:off x="181080" y="4703760"/>
              <a:ext cx="790560" cy="671400"/>
            </a:xfrm>
            <a:prstGeom prst="ellipse">
              <a:avLst/>
            </a:prstGeom>
            <a:solidFill>
              <a:srgbClr val="ccff99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5440" y="4919400"/>
              <a:ext cx="505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A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971640" y="4078440"/>
            <a:ext cx="790560" cy="671400"/>
            <a:chOff x="971640" y="4078440"/>
            <a:chExt cx="790560" cy="671400"/>
          </a:xfrm>
        </p:grpSpPr>
        <p:sp>
          <p:nvSpPr>
            <p:cNvPr id="332" name=""/>
            <p:cNvSpPr/>
            <p:nvPr/>
          </p:nvSpPr>
          <p:spPr>
            <a:xfrm>
              <a:off x="971640" y="4078440"/>
              <a:ext cx="790560" cy="671400"/>
            </a:xfrm>
            <a:prstGeom prst="ellipse">
              <a:avLst/>
            </a:prstGeom>
            <a:solidFill>
              <a:srgbClr val="ccff99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16360" y="4294080"/>
              <a:ext cx="5047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lnSpc>
                  <a:spcPct val="12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F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6227640" y="2060640"/>
            <a:ext cx="21600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6515280" y="2060640"/>
          <a:ext cx="352080" cy="143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5280" y="2060640"/>
                    <a:ext cx="352080" cy="1439640"/>
                  </a:xfrm>
                  <a:prstGeom prst="rect">
                    <a:avLst/>
                  </a:prstGeom>
                  <a:ln w="1908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3851280" y="1989000"/>
            <a:ext cx="208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FLOW of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686800" y="6491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8686800" y="6491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57080" y="2635200"/>
            <a:ext cx="69836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75000"/>
              </a:lnSpc>
              <a:spcBef>
                <a:spcPts val="876"/>
              </a:spcBef>
              <a:spcAft>
                <a:spcPts val="700"/>
              </a:spcAft>
              <a:buClr>
                <a:srgbClr val="9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MAINTENANCE BEG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876"/>
              </a:spcBef>
              <a:spcAft>
                <a:spcPts val="700"/>
              </a:spcAft>
              <a:buClr>
                <a:srgbClr val="9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PROCESS of Q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876"/>
              </a:spcBef>
              <a:spcAft>
                <a:spcPts val="700"/>
              </a:spcAft>
              <a:buClr>
                <a:srgbClr val="9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DEVELOPMENT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876"/>
              </a:spcBef>
              <a:spcAft>
                <a:spcPts val="700"/>
              </a:spcAft>
              <a:buClr>
                <a:srgbClr val="9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WHICH ARE THE MILESTONES ? </a:t>
            </a:r>
            <a:br>
              <a:rPr sz="2800"/>
            </a:br>
            <a:r>
              <a:rPr b="1" lang="en-GB" sz="2800" spc="-1" strike="noStrike">
                <a:solidFill>
                  <a:srgbClr val="9a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1280" y="836640"/>
            <a:ext cx="85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3. IDENTIF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9a0000"/>
                </a:solidFill>
                <a:latin typeface="Arial"/>
              </a:rPr>
              <a:t>GOALS FOR QUALITY IMPROVEMENTS AS MILES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09:06:05Z</dcterms:created>
  <dc:creator>KORISNIK</dc:creator>
  <dc:description/>
  <dc:language>en-US</dc:language>
  <cp:lastModifiedBy>Blanchandin</cp:lastModifiedBy>
  <cp:lastPrinted>2007-06-13T07:46:57Z</cp:lastPrinted>
  <dcterms:modified xsi:type="dcterms:W3CDTF">2007-06-21T11:29:47Z</dcterms:modified>
  <cp:revision>203</cp:revision>
  <dc:subject/>
  <dc:title>PowerPoint Presentation</dc:title>
</cp:coreProperties>
</file>