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0" y="0"/>
            <a:ext cx="2938320" cy="495360"/>
          </a:xfrm>
          <a:prstGeom prst="rect">
            <a:avLst/>
          </a:prstGeom>
          <a:noFill/>
          <a:ln w="0">
            <a:noFill/>
          </a:ln>
        </p:spPr>
        <p:txBody>
          <a:bodyPr lIns="92520" rIns="92520" tIns="46440" bIns="46440" anchor="t">
            <a:noAutofit/>
          </a:bodyPr>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hr-HR" sz="1200" spc="-1" strike="noStrike">
                <a:solidFill>
                  <a:srgbClr val="000000"/>
                </a:solidFill>
                <a:latin typeface="Tahoma"/>
              </a:rPr>
              <a:t>&lt;header&gt;</a:t>
            </a:r>
            <a:endParaRPr b="0" lang="en-US" sz="1200" spc="-1" strike="noStrike">
              <a:solidFill>
                <a:srgbClr val="000000"/>
              </a:solidFill>
              <a:latin typeface="Arial"/>
            </a:endParaRPr>
          </a:p>
        </p:txBody>
      </p:sp>
      <p:sp>
        <p:nvSpPr>
          <p:cNvPr id="112" name="PlaceHolder 2"/>
          <p:cNvSpPr>
            <a:spLocks noGrp="1"/>
          </p:cNvSpPr>
          <p:nvPr>
            <p:ph type="dt" idx="7"/>
          </p:nvPr>
        </p:nvSpPr>
        <p:spPr>
          <a:xfrm>
            <a:off x="3843360" y="0"/>
            <a:ext cx="2938320" cy="495360"/>
          </a:xfrm>
          <a:prstGeom prst="rect">
            <a:avLst/>
          </a:prstGeom>
          <a:noFill/>
          <a:ln w="0">
            <a:noFill/>
          </a:ln>
        </p:spPr>
        <p:txBody>
          <a:bodyPr lIns="92520" rIns="92520" tIns="46440" bIns="46440" anchor="t">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hr-HR"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hr-HR" sz="1200" spc="-1" strike="noStrike">
                <a:solidFill>
                  <a:srgbClr val="000000"/>
                </a:solidFill>
                <a:latin typeface="Tahoma"/>
              </a:rPr>
              <a:t>&lt;date/time&gt;</a:t>
            </a:r>
            <a:endParaRPr b="0" lang="en-US" sz="1200" spc="-1" strike="noStrike">
              <a:solidFill>
                <a:srgbClr val="000000"/>
              </a:solidFill>
              <a:latin typeface="Arial"/>
            </a:endParaRPr>
          </a:p>
        </p:txBody>
      </p:sp>
      <p:sp>
        <p:nvSpPr>
          <p:cNvPr id="113"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4" name="PlaceHolder 4"/>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0" y="9423360"/>
            <a:ext cx="2938320" cy="495360"/>
          </a:xfrm>
          <a:prstGeom prst="rect">
            <a:avLst/>
          </a:prstGeom>
          <a:noFill/>
          <a:ln w="0">
            <a:noFill/>
          </a:ln>
        </p:spPr>
        <p:txBody>
          <a:bodyPr lIns="92520" rIns="92520" tIns="46440" bIns="46440" anchor="b">
            <a:noAutofit/>
          </a:bodyPr>
          <a:lstStyle>
            <a:lvl1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hr-HR" sz="1200" spc="-1" strike="noStrike">
                <a:solidFill>
                  <a:srgbClr val="000000"/>
                </a:solidFill>
                <a:latin typeface="Tahoma"/>
              </a:defRPr>
            </a:lvl1pPr>
          </a:lstStyle>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hr-HR" sz="1200" spc="-1" strike="noStrike">
                <a:solidFill>
                  <a:srgbClr val="000000"/>
                </a:solidFill>
                <a:latin typeface="Tahoma"/>
              </a:rPr>
              <a:t>&lt;footer&gt;</a:t>
            </a:r>
            <a:endParaRPr b="0" lang="en-US" sz="1200" spc="-1" strike="noStrike">
              <a:solidFill>
                <a:srgbClr val="000000"/>
              </a:solidFill>
              <a:latin typeface="Arial"/>
            </a:endParaRPr>
          </a:p>
        </p:txBody>
      </p:sp>
      <p:sp>
        <p:nvSpPr>
          <p:cNvPr id="116" name="PlaceHolder 6"/>
          <p:cNvSpPr>
            <a:spLocks noGrp="1"/>
          </p:cNvSpPr>
          <p:nvPr>
            <p:ph type="sldNum" idx="9"/>
          </p:nvPr>
        </p:nvSpPr>
        <p:spPr>
          <a:xfrm>
            <a:off x="3843360" y="9423360"/>
            <a:ext cx="2938320" cy="49536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hr-HR"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992EF4-FFCB-4CB4-8419-69FB175B2C75}" type="slidenum">
              <a:rPr b="0" lang="hr-H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1160" y="744480"/>
            <a:ext cx="4959360" cy="3719520"/>
          </a:xfrm>
          <a:prstGeom prst="rect">
            <a:avLst/>
          </a:prstGeom>
          <a:ln w="0">
            <a:noFill/>
          </a:ln>
        </p:spPr>
      </p:sp>
      <p:sp>
        <p:nvSpPr>
          <p:cNvPr id="168"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administrative sources, the SBR is also updated with the data from the statistical surveys. In 2006 the first Structural Business Statistic (SBS) survey for construction (section F of NACE) was conducted and the collected data was also used to update the SBR. Since it was conducted for the first time, all active units registered in section F were surveyed to obtain information about correct activity codes. 7.031 enterprises were covered, response rate was 81% (5.689) - and 900 out of 5.689 returned questionnaires reported different activity code (15,8%). So this information was used for updating the activity codes in the S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year, besides for section F, SBS survey will be conducted for section G using the sample and hopefully it will provide useful information for updating the SB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1160" y="744480"/>
            <a:ext cx="4959360" cy="3719520"/>
          </a:xfrm>
          <a:prstGeom prst="rect">
            <a:avLst/>
          </a:prstGeom>
          <a:ln w="0">
            <a:noFill/>
          </a:ln>
        </p:spPr>
      </p:sp>
      <p:sp>
        <p:nvSpPr>
          <p:cNvPr id="170"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ory activities for reclassification of business entities have been carried out since November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e RBE is situated in the CBS and is the basic source of the SBR, it is decided that it has to be reclassified first and the SBR will be reclassified after that, actually new codes for the units in the RBE will be taken over into the SB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1160" y="744480"/>
            <a:ext cx="4959360" cy="3719520"/>
          </a:xfrm>
          <a:prstGeom prst="rect">
            <a:avLst/>
          </a:prstGeom>
          <a:ln w="0">
            <a:noFill/>
          </a:ln>
        </p:spPr>
      </p:sp>
      <p:sp>
        <p:nvSpPr>
          <p:cNvPr id="172"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the lack of financial assets there will not be a survey to question enterprises about their new activity code. It is decided to involve statisticians from all business statistics, national accounts and labour statistics as well as business register staff in the work of reclassifying units in the RB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rozen state of the RBE data will be taken on 30 June 2007. Temporary working database will be created with this frozen state where all changes of activity codes will be sto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 automatic recoding will be done for those units whose activity code is changing using 1:1 and n:1 rel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cases 1:n and n:m selection will be made to extract active units which have 10 or more employees. This set of units will be recoded manually in the statistical departments that usually cover them in regular surveys according to the best knowledge about their activity and produ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t of the units: inactive and those under 10 employees will be reclassified automatically, that means using correspondence tables for achieving the most probable mat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ll units are reclassified in the working database, all new codes will be transferred into the real base of the RBE at a certain point in time, so from that day both codes NACE Rev. 1.1 (national version is NKD 2002) and NACE Rev. 2 (national version is NKD 2007) will be in use. The CBS intends to have dual coding of units for two yea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1160" y="744480"/>
            <a:ext cx="4959360" cy="3719520"/>
          </a:xfrm>
          <a:prstGeom prst="rect">
            <a:avLst/>
          </a:prstGeom>
          <a:ln w="0">
            <a:noFill/>
          </a:ln>
        </p:spPr>
      </p:sp>
      <p:sp>
        <p:nvSpPr>
          <p:cNvPr id="174"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of NACE Rev. 2 is also an opportunity to improve the quality of activity codes in both - the RBE and the S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far activity codes in the RBE were only exceptionally updated from statistical sources because of the administrative nature of this register. Every change needs to be justified with the proper documentation for every single unit and with the approval of the business entity. Normally the changes are made on the request of the business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ertain number of activity codes are incorrect because business entities are not obliged to report activity changes, so it is not unusual that the first registration code remains all the time even if activity has changed in the real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purpose of improving the quality of exiting codes in the RBE for active units with 10 or more employee, activity codes will be revised according to knowledge about their real activity and production gained through statistical surveys and daily contacts with business entities. After correcting the code, the units will be reclassified according to NACE Rev 2.</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1160" y="744480"/>
            <a:ext cx="4959360" cy="3719520"/>
          </a:xfrm>
          <a:prstGeom prst="rect">
            <a:avLst/>
          </a:prstGeom>
          <a:ln w="0">
            <a:noFill/>
          </a:ln>
        </p:spPr>
      </p:sp>
      <p:sp>
        <p:nvSpPr>
          <p:cNvPr id="176"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BE will inform all active units about the newly assigned codes through the Notification about classification - the document that every business entity receives by the first registration in the RBE and by every registered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business entity is not satisfied with new NACE code, it will be asked to react and inform the RBE. If the NACE code is assigned on the basis of previous statistical surveys and business entity is still not satisfied with the new code it will have to justify its own arguments with appropriate documentation why the assigned code is not appropriate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the plan major part of Notifications about new classification codes will be delivered through the offices of Financial Agency which are in daily contact with the most of the business entities. The rest of them will receive Notification by mai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1160" y="744480"/>
            <a:ext cx="4959360" cy="3719520"/>
          </a:xfrm>
          <a:prstGeom prst="rect">
            <a:avLst/>
          </a:prstGeom>
          <a:ln w="0">
            <a:noFill/>
          </a:ln>
        </p:spPr>
      </p:sp>
      <p:sp>
        <p:nvSpPr>
          <p:cNvPr id="178"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work on reclassifying the RBE, new codes will be taken over in the SBR. Since the SBR also covers crafts, we expect that reclassification will be done in similar way at Central Register of Crafts and by Tax Administration so the new activity codes for crafts (hopefully with improved quality) will be as well taken over in the SBR. It is expected that all work of implementing the new classification will be done by the end of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main activity, 1.879 enterprises have secondary activities. Those will be recoded using the previously mentioned correspondence tables. The same will be done with the local units which have activity codes different from main activity of the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ion is to revise a number of such automatically assigned codes in the next year quality survey that is planned to be carried out for the first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1160" y="744480"/>
            <a:ext cx="4959360" cy="3719520"/>
          </a:xfrm>
          <a:prstGeom prst="rect">
            <a:avLst/>
          </a:prstGeom>
          <a:ln w="0">
            <a:noFill/>
          </a:ln>
        </p:spPr>
      </p:sp>
      <p:sp>
        <p:nvSpPr>
          <p:cNvPr id="180"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y improvements of the SBR are continuing task that is among the key priorities in Croatian C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is and next year the coverage of units in the SBR will be improved when the method of matching misidentified crafts is developed and at least most important sets of free lances is included in the S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over, in order to comply with the proposed new BR Regulation, preparations for including enterprise groups will b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using the implementation of NACE Rev. 2 as opportunity to improve the quality of main activity codes for at least part of the units of the SBR, there is also intention to include the results from other statistical surveys, not just from the existing SBS surveys, to update activity codes in the S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ther administrative sources are under consideration to be used for updating or adding the new data to the SBR, and there are negotiations going on with sources currently used about improving their data quality and mutual cooperation in this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arce resources (especially IT and SBR staff, and funding for SBR surveys) are the major obstacle to bigger progress, but development of the Croatian SBR is steadily going on in fulfilling the task that is primarily finding the way to meet the users' nee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1160" y="744480"/>
            <a:ext cx="4959360" cy="3719520"/>
          </a:xfrm>
          <a:prstGeom prst="rect">
            <a:avLst/>
          </a:prstGeom>
          <a:ln w="0">
            <a:noFill/>
          </a:ln>
        </p:spPr>
      </p:sp>
      <p:sp>
        <p:nvSpPr>
          <p:cNvPr id="158"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ed for the Statistical Business Register (SBR) in the Central Bureau of Statistic (CBS) was recognised rather long time ago because existing Register of Business Entities (RBE) that has been kept in the CBS since 1976 was not fulfilling the needs of the users inside the statistical of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the ground for it started almost 10 years ago but actual project of establishing the Statistical Business Register started with the Twinning project with Statistics Denmark and Statistics Sweden in 2003. Although the twinning project finished in 2006, developing and improving of the SBR is still going on but the first version of the SBR was set up in 2004 (with a lot of difficulties with human and IT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reating the SBR the intention was to follow EU regulations concerning business registers for statistical purposes to achieve certain point of standardisation and harmonisation with other national business registers in European countries as well as complying with the demands from the users inside the C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 the demands from the BR regulation</a:t>
            </a:r>
            <a:r>
              <a:rPr b="0" lang="hr-HR" sz="1200" spc="-1" strike="noStrike">
                <a:solidFill>
                  <a:srgbClr val="000000"/>
                </a:solidFill>
                <a:latin typeface="Arial"/>
              </a:rPr>
              <a:t> </a:t>
            </a:r>
            <a:r>
              <a:rPr b="0" lang="en-GB" sz="1200" spc="-1" strike="noStrike">
                <a:solidFill>
                  <a:srgbClr val="000000"/>
                </a:solidFill>
                <a:latin typeface="Arial"/>
              </a:rPr>
              <a:t>from 1993 we managed to meet especially concerning the units and conditional variabl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1160" y="744480"/>
            <a:ext cx="4959360" cy="3719520"/>
          </a:xfrm>
          <a:prstGeom prst="rect">
            <a:avLst/>
          </a:prstGeom>
          <a:ln w="0">
            <a:noFill/>
          </a:ln>
        </p:spPr>
      </p:sp>
      <p:sp>
        <p:nvSpPr>
          <p:cNvPr id="160" name="PlaceHolder 2"/>
          <p:cNvSpPr>
            <a:spLocks noGrp="1"/>
          </p:cNvSpPr>
          <p:nvPr>
            <p:ph type="body"/>
          </p:nvPr>
        </p:nvSpPr>
        <p:spPr>
          <a:xfrm>
            <a:off x="883800" y="4710240"/>
            <a:ext cx="4994280" cy="463680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oposal of the new BR regulation points out </a:t>
            </a:r>
            <a:r>
              <a:rPr b="1" lang="en-GB" sz="1000" spc="-1" strike="noStrike">
                <a:solidFill>
                  <a:srgbClr val="000000"/>
                </a:solidFill>
                <a:latin typeface="Arial"/>
              </a:rPr>
              <a:t>enterprise groups</a:t>
            </a:r>
            <a:r>
              <a:rPr b="0" lang="en-GB" sz="1000" spc="-1" strike="noStrike">
                <a:solidFill>
                  <a:srgbClr val="000000"/>
                </a:solidFill>
                <a:latin typeface="Arial"/>
              </a:rPr>
              <a:t> as obligatory units, but in the Croatian SBR due to the asset constraints their inclusion was not priority task so far, so they are not included at the mo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egal units</a:t>
            </a:r>
            <a:r>
              <a:rPr b="0" lang="en-GB" sz="1200" spc="-1" strike="noStrike">
                <a:solidFill>
                  <a:srgbClr val="000000"/>
                </a:solidFill>
                <a:latin typeface="Arial"/>
              </a:rPr>
              <a:t> are transferred from administrative sources and stored in the SBR without any change of the information. So it is the copy of units registered in another register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ost important variables of the legal units are ID number (for connecting SBR with other administrative sources), name, address, activity code, legal form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342.361 legal units in the SBR (on 31 March 200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terprises</a:t>
            </a:r>
            <a:r>
              <a:rPr b="0" lang="en-GB" sz="1000" spc="-1" strike="noStrike">
                <a:solidFill>
                  <a:srgbClr val="000000"/>
                </a:solidFill>
                <a:latin typeface="Arial"/>
              </a:rPr>
              <a:t> are linked to the legal units by one-to-one connection which means that each legal unit forms its own enter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oncerning enterprises are compiled from different sources – both administrative and statistical. They refer to economic activity status, activity code that is eventually different from the one assigned at original registration body (more accurate one), secondary activities, employment and turnover fig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terprises are considered as active if they have submitted annual financial report to the Register of Annual Financial Reports where they stated to have some employment or turnover or to be in bankruptcy. To extend the coverage of active enterprises tax files are checked for those enterprises who did not submit financial report but according to this source they had some activity in previous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 enterprise has at least one </a:t>
            </a:r>
            <a:r>
              <a:rPr b="1" lang="en-GB" sz="1000" spc="-1" strike="noStrike">
                <a:solidFill>
                  <a:srgbClr val="000000"/>
                </a:solidFill>
                <a:latin typeface="Arial"/>
              </a:rPr>
              <a:t>local unit</a:t>
            </a:r>
            <a:r>
              <a:rPr b="0" lang="en-GB" sz="1000" spc="-1" strike="noStrike">
                <a:solidFill>
                  <a:srgbClr val="000000"/>
                </a:solidFill>
                <a:latin typeface="Arial"/>
              </a:rPr>
              <a:t>. Majority of local units in the SBR are compiled from administrative sources: the RBE and the Central Register of Crafts (CRC). The coverage of local units in the RBE is not satisfactory because they are not consistently registered. There is no obligation for the companies to register all local units. Certain number of local units is added to the SBR according to the information obtained directly from the enterprise (by phone or by fax) or from the Internet (web site of the enterpr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RC has better coverage of the local units because crafts are obliged to register their local unit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0240" y="744480"/>
            <a:ext cx="4959360" cy="3719520"/>
          </a:xfrm>
          <a:prstGeom prst="rect">
            <a:avLst/>
          </a:prstGeom>
          <a:ln w="0">
            <a:noFill/>
          </a:ln>
        </p:spPr>
      </p:sp>
      <p:sp>
        <p:nvSpPr>
          <p:cNvPr id="162"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arding the registration bodies and procedures, business entities in Croatia are divided in three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gal persons and government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a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lances</a:t>
            </a:r>
            <a:r>
              <a:rPr b="0" lang="hr-H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roatian SBR covers all legal persons, state government bodies and bodies of local and regional self-government units registered by the R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afts and free lances are considered as natural persons since their business operation is connected to the owner of the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2006 crafts are also included in the SBR but at the moment the coverage is 90 % of all crafts registered by the CRC. Missing 10 % of crafts is due to the incorrect identification data. Method of matching the data needs to be developed to improve the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lances are registered in the number of different registration offices and bodies but they are not yet included in the SBR. There are about 30.000 units of that type and there is a plan to cover at least a part of them which are feasible to transfer from their original register and with the possibility of regular up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sections of the NACE are covered and there are no size constraints among all units.</a:t>
            </a:r>
            <a:r>
              <a:rPr b="0" lang="hr-H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1160" y="744480"/>
            <a:ext cx="4959360" cy="3719520"/>
          </a:xfrm>
          <a:prstGeom prst="rect">
            <a:avLst/>
          </a:prstGeom>
          <a:ln w="0">
            <a:noFill/>
          </a:ln>
        </p:spPr>
      </p:sp>
      <p:sp>
        <p:nvSpPr>
          <p:cNvPr id="164"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R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al persons and government bodies are registered by the RBE. The RBE is the basic source for the SBR as the most important units and the data comes from i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though the RBE is also situated in the CBS, it is pure administrative register. At the moment of registration in the RBE, the company is assigned unique ID number which is used by all other administrative institutions. By registration each company is also assigned the NACE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esides activity code and ID number, the RBE keeps a number of other data about the company, such us: name,</a:t>
            </a:r>
            <a:r>
              <a:rPr b="0" lang="hr-HR" sz="900" spc="-1" strike="noStrike">
                <a:solidFill>
                  <a:srgbClr val="000000"/>
                </a:solidFill>
                <a:latin typeface="Arial"/>
              </a:rPr>
              <a:t> </a:t>
            </a:r>
            <a:r>
              <a:rPr b="0" lang="en-GB" sz="900" spc="-1" strike="noStrike">
                <a:solidFill>
                  <a:srgbClr val="000000"/>
                </a:solidFill>
                <a:latin typeface="Arial"/>
              </a:rPr>
              <a:t>address,</a:t>
            </a:r>
            <a:r>
              <a:rPr b="0" lang="hr-HR" sz="900" spc="-1" strike="noStrike">
                <a:solidFill>
                  <a:srgbClr val="000000"/>
                </a:solidFill>
                <a:latin typeface="Arial"/>
              </a:rPr>
              <a:t> </a:t>
            </a:r>
            <a:r>
              <a:rPr b="0" lang="en-GB" sz="900" spc="-1" strike="noStrike">
                <a:solidFill>
                  <a:srgbClr val="000000"/>
                </a:solidFill>
                <a:latin typeface="Arial"/>
              </a:rPr>
              <a:t>legal form,</a:t>
            </a:r>
            <a:r>
              <a:rPr b="0" lang="hr-HR" sz="900" spc="-1" strike="noStrike">
                <a:solidFill>
                  <a:srgbClr val="000000"/>
                </a:solidFill>
                <a:latin typeface="Arial"/>
              </a:rPr>
              <a:t> </a:t>
            </a:r>
            <a:r>
              <a:rPr b="0" lang="en-GB" sz="900" spc="-1" strike="noStrike">
                <a:solidFill>
                  <a:srgbClr val="000000"/>
                </a:solidFill>
                <a:latin typeface="Arial"/>
              </a:rPr>
              <a:t>origin of the capital,</a:t>
            </a:r>
            <a:r>
              <a:rPr b="0" lang="hr-HR" sz="900" spc="-1" strike="noStrike">
                <a:solidFill>
                  <a:srgbClr val="000000"/>
                </a:solidFill>
                <a:latin typeface="Arial"/>
              </a:rPr>
              <a:t> </a:t>
            </a:r>
            <a:r>
              <a:rPr b="0" lang="en-GB" sz="900" spc="-1" strike="noStrike">
                <a:solidFill>
                  <a:srgbClr val="000000"/>
                </a:solidFill>
                <a:latin typeface="Arial"/>
              </a:rPr>
              <a:t>type of ownership,</a:t>
            </a:r>
            <a:r>
              <a:rPr b="0" lang="hr-HR" sz="900" spc="-1" strike="noStrike">
                <a:solidFill>
                  <a:srgbClr val="000000"/>
                </a:solidFill>
                <a:latin typeface="Arial"/>
              </a:rPr>
              <a:t> </a:t>
            </a:r>
            <a:r>
              <a:rPr b="0" lang="en-GB" sz="900" spc="-1" strike="noStrike">
                <a:solidFill>
                  <a:srgbClr val="000000"/>
                </a:solidFill>
                <a:latin typeface="Arial"/>
              </a:rPr>
              <a:t>legal status,</a:t>
            </a:r>
            <a:r>
              <a:rPr b="0" lang="hr-HR" sz="900" spc="-1" strike="noStrike">
                <a:solidFill>
                  <a:srgbClr val="000000"/>
                </a:solidFill>
                <a:latin typeface="Arial"/>
              </a:rPr>
              <a:t> </a:t>
            </a:r>
            <a:r>
              <a:rPr b="0" lang="en-GB" sz="900" spc="-1" strike="noStrike">
                <a:solidFill>
                  <a:srgbClr val="000000"/>
                </a:solidFill>
                <a:latin typeface="Arial"/>
              </a:rPr>
              <a:t>local unit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RBE is updated daily and also provides information about changes of the variables which are reported by companies themselv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re are approx. 242.000 legal persons registered in the RBE which are legally active but a large proportion of them are economically inactive or dormant. This information about economic activity status does not exist in the R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moment of establishing, the SBR took over all RBE data and since then has been regularly, once a month, taking over changes - adding new units and updating the data on existing un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CR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other important source for improving the coverage of units in the SBR is the CRC established by the Ministry of Economy. The CRC is the original register of crafts and has complete coverage of that type of the companies. The CRC is used as a source for the SBR since autumn 200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vailable data in this source are:</a:t>
            </a:r>
            <a:r>
              <a:rPr b="0" lang="hr-HR" sz="900" spc="-1" strike="noStrike">
                <a:solidFill>
                  <a:srgbClr val="000000"/>
                </a:solidFill>
                <a:latin typeface="Arial"/>
              </a:rPr>
              <a:t> </a:t>
            </a:r>
            <a:r>
              <a:rPr b="0" lang="en-GB" sz="900" spc="-1" strike="noStrike">
                <a:solidFill>
                  <a:srgbClr val="000000"/>
                </a:solidFill>
                <a:latin typeface="Arial"/>
              </a:rPr>
              <a:t>ID number of the craft</a:t>
            </a:r>
            <a:r>
              <a:rPr b="0" lang="hr-HR" sz="900" spc="-1" strike="noStrike">
                <a:solidFill>
                  <a:srgbClr val="000000"/>
                </a:solidFill>
                <a:latin typeface="Arial"/>
              </a:rPr>
              <a:t>, </a:t>
            </a:r>
            <a:r>
              <a:rPr b="0" lang="en-GB" sz="900" spc="-1" strike="noStrike">
                <a:solidFill>
                  <a:srgbClr val="000000"/>
                </a:solidFill>
                <a:latin typeface="Arial"/>
              </a:rPr>
              <a:t>personal ID number of the holder of the craft</a:t>
            </a:r>
            <a:r>
              <a:rPr b="0" lang="hr-HR" sz="900" spc="-1" strike="noStrike">
                <a:solidFill>
                  <a:srgbClr val="000000"/>
                </a:solidFill>
                <a:latin typeface="Arial"/>
              </a:rPr>
              <a:t>, </a:t>
            </a:r>
            <a:r>
              <a:rPr b="0" lang="en-GB" sz="900" spc="-1" strike="noStrike">
                <a:solidFill>
                  <a:srgbClr val="000000"/>
                </a:solidFill>
                <a:latin typeface="Arial"/>
              </a:rPr>
              <a:t>name</a:t>
            </a:r>
            <a:r>
              <a:rPr b="0" lang="hr-HR" sz="900" spc="-1" strike="noStrike">
                <a:solidFill>
                  <a:srgbClr val="000000"/>
                </a:solidFill>
                <a:latin typeface="Arial"/>
              </a:rPr>
              <a:t>, </a:t>
            </a:r>
            <a:r>
              <a:rPr b="0" lang="en-GB" sz="900" spc="-1" strike="noStrike">
                <a:solidFill>
                  <a:srgbClr val="000000"/>
                </a:solidFill>
                <a:latin typeface="Arial"/>
              </a:rPr>
              <a:t>address</a:t>
            </a:r>
            <a:r>
              <a:rPr b="0" lang="hr-HR" sz="900" spc="-1" strike="noStrike">
                <a:solidFill>
                  <a:srgbClr val="000000"/>
                </a:solidFill>
                <a:latin typeface="Arial"/>
              </a:rPr>
              <a:t>, </a:t>
            </a:r>
            <a:r>
              <a:rPr b="0" lang="en-GB" sz="900" spc="-1" strike="noStrike">
                <a:solidFill>
                  <a:srgbClr val="000000"/>
                </a:solidFill>
                <a:latin typeface="Arial"/>
              </a:rPr>
              <a:t>local unit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each craft the CRC keeps one or more NACE codes for activities that are permitted to be carried out by the craft but there is no way to detect the ones that craft actually perform. Moreover, activity codes are of poor quality and that is why this variable is added to enterprises from another source – Tax Administr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raft register has more accurate information whether the craft is in operation, dormant or it is dea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re are approx. 112.000 crafts registered by the CR</a:t>
            </a:r>
            <a:r>
              <a:rPr b="0" lang="hr-HR"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1160" y="744480"/>
            <a:ext cx="4959360" cy="3719520"/>
          </a:xfrm>
          <a:prstGeom prst="rect">
            <a:avLst/>
          </a:prstGeom>
          <a:ln w="0">
            <a:noFill/>
          </a:ln>
        </p:spPr>
      </p:sp>
      <p:sp>
        <p:nvSpPr>
          <p:cNvPr id="166"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 is the state owned agency that deals with financial mediation. It provides different kind of services such as business information, cash operations, e-busines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mong other activities FINA holds a number of registers. For the SBR at this moment the most important one is the Register of Annual Financial Repor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Register of Annual Financial Reports contains all annual financial reports submitted b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n financial enterprises - all economically active legal persons and small part of crafts and free lances that are in the profit tax system (and also legal and natural persons in bankruptc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nks and credit institu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surance compan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sides the data from the Register of Annual Financial Reports, FINA provides the data from the annual reports of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n-profit organis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ate and budget institu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 provides a lot of business and financial information (balance sheet, profit and loss account), and for the SBR the most important are indication whether the unit is economically active, net turnover and employment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good thing about this source is that FINA provides a complete coverage of the legal persons and government bodies according to all measures: size, ownership, activity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data are available in the middle of the year for the previous y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TA holds the Register of Tax Payers, from which three types of taxation data are of interest for the SB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fit tax (corporate income tax) – covers legal persons and a small part of the crafts and free la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come tax - covers only crafts and free la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VAT – covers all types of businesses whose annual income exceeds 11.500 EUR (approx. 75 % of all legal and natural pers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ata used from this source a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vity status for crafts and for legal persons that are not found in the FINA database (units that are active according to the knowledge of the TA but for some reason did not submit annual financial report to FINA in ti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vity code for the craf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umber of employees for the crafts and for enterprises not found in FINA data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kness of this source is that the data are available with big delay – almost a year, and for income tax data even longer.</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41ED4-A9B1-4FF1-A927-FB55D62C2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8447D-439A-48BC-B3D5-7F8BA3B5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4D213-72FF-4D43-AB08-284CA92C2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30286-76E6-4DC5-A811-38318DA7E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D22E8-0EBB-4434-A4A4-AA64458CD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E468D-672D-4551-B9D3-01269CF77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6A6BE-06AE-430D-AD29-2028F358E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B242C-4668-4520-874C-797CDE77E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DF44B-4E90-47F5-A0DF-8CEFE9530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36023-709D-46B8-905D-F9E78F41A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80753-8055-4B8C-8918-4D6B97F9B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42920-751A-49C9-A12F-9A8FAFE43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6C62E-8A45-402D-ACF2-AFD0CBBFF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8B2FD-A4B9-41A5-B98C-05C6F3B51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C414B-9E36-4886-A32D-09ED50C45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F7BBF-9667-42E6-AF1B-606131D39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B11E7-94EF-4DFD-8643-E7D9C66BC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647EC-155F-4729-B421-78566122A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6A211-5318-4B12-8BA0-6971E0E56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7A74B-96C9-4F13-8B43-E3EA6E0B0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85A79-19C6-4800-89AC-954A46179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CD2E-6BEE-4EC2-8651-F0CDC9F3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8E3E-BFD8-405F-BC28-B2930A963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ECB1B-27AE-46FD-B88C-D2C0C5A5E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CC93-0792-49C2-A243-1B8097E03A7F}"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B429-3B20-45A9-9346-0E65177B69DF}"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graphicFrame>
        <p:nvGraphicFramePr>
          <p:cNvPr id="72" name=""/>
          <p:cNvGraphicFramePr/>
          <p:nvPr/>
        </p:nvGraphicFramePr>
        <p:xfrm>
          <a:off x="1042920" y="6237360"/>
          <a:ext cx="1447920" cy="438120"/>
        </p:xfrm>
        <a:graphic>
          <a:graphicData uri="http://schemas.openxmlformats.org/presentationml/2006/ole">
            <p:oleObj r:id="rId2" spid="">
              <p:embed/>
              <p:pic>
                <p:nvPicPr>
                  <p:cNvPr id="73" name="" descr=""/>
                  <p:cNvPicPr/>
                  <p:nvPr/>
                </p:nvPicPr>
                <p:blipFill>
                  <a:blip r:embed="rId3"/>
                  <a:stretch/>
                </p:blipFill>
                <p:spPr>
                  <a:xfrm>
                    <a:off x="1042920" y="6237360"/>
                    <a:ext cx="1447920" cy="438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1904760"/>
            <a:ext cx="75438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n-GB" sz="2400" spc="-1" strike="noStrike">
                <a:solidFill>
                  <a:srgbClr val="eaeaea"/>
                </a:solidFill>
                <a:latin typeface="Tahoma"/>
              </a:rPr>
              <a:t>QUALITY IMPROVEMENTS IN CROATIAN BUSINESS REGISTER AND IMPLICATIONS OF REVISION OF NACE</a:t>
            </a:r>
            <a:br>
              <a:rPr sz="2400"/>
            </a:br>
            <a:r>
              <a:rPr b="0" lang="en-GB" sz="2400" spc="-1" strike="noStrike">
                <a:solidFill>
                  <a:srgbClr val="eaeaea"/>
                </a:solidFill>
                <a:latin typeface="Tahoma"/>
              </a:rPr>
              <a:t>Prepared by </a:t>
            </a:r>
            <a:r>
              <a:rPr b="0" lang="hr-HR" sz="2400" spc="-1" strike="noStrike">
                <a:solidFill>
                  <a:srgbClr val="eaeaea"/>
                </a:solidFill>
                <a:latin typeface="Tahoma"/>
              </a:rPr>
              <a:t>Zrinka</a:t>
            </a:r>
            <a:r>
              <a:rPr b="0" lang="en-GB" sz="2400" spc="-1" strike="noStrike">
                <a:solidFill>
                  <a:srgbClr val="eaeaea"/>
                </a:solidFill>
                <a:latin typeface="Tahoma"/>
              </a:rPr>
              <a:t> Pavlo</a:t>
            </a:r>
            <a:r>
              <a:rPr b="0" lang="hr-HR" sz="2400" spc="-1" strike="noStrike">
                <a:solidFill>
                  <a:srgbClr val="eaeaea"/>
                </a:solidFill>
                <a:latin typeface="Tahoma"/>
              </a:rPr>
              <a:t>vić</a:t>
            </a:r>
            <a:r>
              <a:rPr b="0" lang="en-GB" sz="2400" spc="-1" strike="noStrike">
                <a:solidFill>
                  <a:srgbClr val="eaeaea"/>
                </a:solidFill>
                <a:latin typeface="Tahoma"/>
              </a:rPr>
              <a:t> and </a:t>
            </a:r>
            <a:r>
              <a:rPr b="0" lang="hr-HR" sz="2400" spc="-1" strike="noStrike">
                <a:solidFill>
                  <a:srgbClr val="eaeaea"/>
                </a:solidFill>
                <a:latin typeface="Tahoma"/>
              </a:rPr>
              <a:t>Dubravka</a:t>
            </a:r>
            <a:r>
              <a:rPr b="0" lang="en-GB" sz="2400" spc="-1" strike="noStrike">
                <a:solidFill>
                  <a:srgbClr val="eaeaea"/>
                </a:solidFill>
                <a:latin typeface="Tahoma"/>
              </a:rPr>
              <a:t> Celi</a:t>
            </a:r>
            <a:r>
              <a:rPr b="0" lang="hr-HR" sz="2400" spc="-1" strike="noStrike">
                <a:solidFill>
                  <a:srgbClr val="eaeaea"/>
                </a:solidFill>
                <a:latin typeface="Tahoma"/>
              </a:rPr>
              <a:t>ć</a:t>
            </a:r>
            <a:r>
              <a:rPr b="1" lang="hr-HR" sz="4400" spc="-1" strike="noStrike">
                <a:solidFill>
                  <a:srgbClr val="eaeaea"/>
                </a:solidFill>
                <a:latin typeface="Tahoma"/>
              </a:rPr>
              <a:t> </a:t>
            </a:r>
            <a:br>
              <a:rPr sz="2400"/>
            </a:br>
            <a:br>
              <a:rPr sz="800"/>
            </a:br>
            <a:r>
              <a:rPr b="0" lang="hr-HR" sz="2400" spc="-1" strike="noStrike">
                <a:solidFill>
                  <a:srgbClr val="eaeaea"/>
                </a:solidFill>
                <a:latin typeface="Tahoma"/>
              </a:rPr>
              <a:t>Geneva</a:t>
            </a:r>
            <a:r>
              <a:rPr b="0" lang="en-GB" sz="2400" spc="-1" strike="noStrike">
                <a:solidFill>
                  <a:srgbClr val="eaeaea"/>
                </a:solidFill>
                <a:latin typeface="Tahoma"/>
              </a:rPr>
              <a:t>, </a:t>
            </a:r>
            <a:r>
              <a:rPr b="0" lang="hr-HR" sz="2400" spc="-1" strike="noStrike">
                <a:solidFill>
                  <a:srgbClr val="eaeaea"/>
                </a:solidFill>
                <a:latin typeface="Tahoma"/>
              </a:rPr>
              <a:t>18 - 19</a:t>
            </a:r>
            <a:r>
              <a:rPr b="0" lang="en-GB" sz="2400" spc="-1" strike="noStrike">
                <a:solidFill>
                  <a:srgbClr val="eaeaea"/>
                </a:solidFill>
                <a:latin typeface="Tahoma"/>
              </a:rPr>
              <a:t> </a:t>
            </a:r>
            <a:r>
              <a:rPr b="0" lang="hr-HR" sz="2400" spc="-1" strike="noStrike">
                <a:solidFill>
                  <a:srgbClr val="eaeaea"/>
                </a:solidFill>
                <a:latin typeface="Tahoma"/>
              </a:rPr>
              <a:t>June</a:t>
            </a:r>
            <a:r>
              <a:rPr b="0" lang="en-GB" sz="2400" spc="-1" strike="noStrike">
                <a:solidFill>
                  <a:srgbClr val="eaeaea"/>
                </a:solidFill>
                <a:latin typeface="Tahoma"/>
              </a:rPr>
              <a:t> 200</a:t>
            </a:r>
            <a:r>
              <a:rPr b="0" lang="hr-HR" sz="2400" spc="-1" strike="noStrike">
                <a:solidFill>
                  <a:srgbClr val="eaeaea"/>
                </a:solidFill>
                <a:latin typeface="Tahoma"/>
              </a:rPr>
              <a:t>7</a:t>
            </a:r>
            <a:br>
              <a:rPr sz="2400"/>
            </a:br>
            <a:endParaRPr b="1" lang="en-US" sz="2400" spc="-1" strike="noStrike">
              <a:solidFill>
                <a:srgbClr val="eaeaea"/>
              </a:solidFill>
              <a:latin typeface="Tahoma"/>
            </a:endParaRPr>
          </a:p>
        </p:txBody>
      </p:sp>
      <p:pic>
        <p:nvPicPr>
          <p:cNvPr id="118" name="" descr=""/>
          <p:cNvPicPr/>
          <p:nvPr/>
        </p:nvPicPr>
        <p:blipFill>
          <a:blip r:embed="rId1"/>
          <a:stretch/>
        </p:blipFill>
        <p:spPr>
          <a:xfrm>
            <a:off x="1676520" y="228600"/>
            <a:ext cx="6248160" cy="1219320"/>
          </a:xfrm>
          <a:prstGeom prst="rect">
            <a:avLst/>
          </a:prstGeom>
          <a:ln w="0">
            <a:noFill/>
          </a:ln>
        </p:spPr>
      </p:pic>
      <p:pic>
        <p:nvPicPr>
          <p:cNvPr id="119" name="" descr=""/>
          <p:cNvPicPr/>
          <p:nvPr/>
        </p:nvPicPr>
        <p:blipFill>
          <a:blip r:embed="rId2"/>
          <a:stretch/>
        </p:blipFill>
        <p:spPr>
          <a:xfrm>
            <a:off x="1828800" y="5486400"/>
            <a:ext cx="6172200" cy="1158840"/>
          </a:xfrm>
          <a:prstGeom prst="rect">
            <a:avLst/>
          </a:prstGeom>
          <a:ln w="0">
            <a:noFill/>
          </a:ln>
        </p:spPr>
      </p:pic>
      <p:sp>
        <p:nvSpPr>
          <p:cNvPr id="3" name="PlaceHolder 2"/>
          <p:cNvSpPr>
            <a:spLocks noGrp="1"/>
          </p:cNvSpPr>
          <p:nvPr>
            <p:ph type="sldNum" idx="3"/>
          </p:nvPr>
        </p:nvSpPr>
        <p:spPr/>
        <p:txBody>
          <a:bodyPr/>
          <a:p>
            <a:fld id="{C05BE0E9-2678-4A09-A445-44BF1C24D8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ources of the SBR (3)</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Statistical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25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Results from the pilot SBS survey for construction 2005 (900 units needed correction of the main activity codes)</a:t>
            </a:r>
            <a:endParaRPr b="0" lang="en-US" sz="2000" spc="-1" strike="noStrike">
              <a:solidFill>
                <a:srgbClr val="ffffff"/>
              </a:solidFill>
              <a:latin typeface="Tahoma"/>
            </a:endParaRPr>
          </a:p>
          <a:p>
            <a:pPr marL="343080" indent="-343080">
              <a:spcBef>
                <a:spcPts val="125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Feedback from 2006 Annual reports on gross fixed capital formation in fixed assets </a:t>
            </a:r>
            <a:endParaRPr b="0" lang="en-US" sz="2000" spc="-1" strike="noStrike">
              <a:solidFill>
                <a:srgbClr val="ffffff"/>
              </a:solidFill>
              <a:latin typeface="Tahoma"/>
            </a:endParaRPr>
          </a:p>
          <a:p>
            <a:pPr marL="343080" indent="-343080">
              <a:spcBef>
                <a:spcPts val="125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Other SBS surveys (distributive trade in 200</a:t>
            </a:r>
            <a:r>
              <a:rPr b="0" lang="hr-HR" sz="2000" spc="-1" strike="noStrike">
                <a:solidFill>
                  <a:srgbClr val="eaeaea"/>
                </a:solidFill>
                <a:latin typeface="Tahoma"/>
              </a:rPr>
              <a:t>6</a:t>
            </a:r>
            <a:r>
              <a:rPr b="0" lang="en-GB" sz="2000" spc="-1" strike="noStrike">
                <a:solidFill>
                  <a:srgbClr val="eaeaea"/>
                </a:solidFill>
                <a:latin typeface="Tahoma"/>
              </a:rPr>
              <a:t> and industrial production in 200</a:t>
            </a:r>
            <a:r>
              <a:rPr b="0" lang="hr-HR" sz="2000" spc="-1" strike="noStrike">
                <a:solidFill>
                  <a:srgbClr val="eaeaea"/>
                </a:solidFill>
                <a:latin typeface="Tahoma"/>
              </a:rPr>
              <a:t>7</a:t>
            </a:r>
            <a:r>
              <a:rPr b="0" lang="en-GB" sz="2000" spc="-1" strike="noStrike">
                <a:solidFill>
                  <a:srgbClr val="eaeaea"/>
                </a:solidFill>
                <a:latin typeface="Tahoma"/>
              </a:rPr>
              <a:t>) are planned to be used for improving the quality of SBR data</a:t>
            </a:r>
            <a:endParaRPr b="0" lang="en-US" sz="2000" spc="-1" strike="noStrike">
              <a:solidFill>
                <a:srgbClr val="ffffff"/>
              </a:solidFill>
              <a:latin typeface="Tahom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8782FF4-0931-4F3C-AA0D-E1DA95CD95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IV. Updating of the SBR</a:t>
            </a:r>
            <a:endParaRPr b="1" lang="en-US" sz="3200" spc="-1" strike="noStrike">
              <a:solidFill>
                <a:srgbClr val="eaeaea"/>
              </a:solidFill>
              <a:latin typeface="Tahoma"/>
            </a:endParaRPr>
          </a:p>
        </p:txBody>
      </p:sp>
      <p:sp>
        <p:nvSpPr>
          <p:cNvPr id="140"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BR is updated from administrative and statistical sources:</a:t>
            </a:r>
            <a:endParaRPr b="0" lang="en-US" sz="2800" spc="-1" strike="noStrike">
              <a:solidFill>
                <a:srgbClr val="ffffff"/>
              </a:solidFill>
              <a:latin typeface="Tahoma"/>
            </a:endParaRPr>
          </a:p>
        </p:txBody>
      </p:sp>
      <p:graphicFrame>
        <p:nvGraphicFramePr>
          <p:cNvPr id="141" name=""/>
          <p:cNvGraphicFramePr/>
          <p:nvPr/>
        </p:nvGraphicFramePr>
        <p:xfrm>
          <a:off x="1270080" y="3213000"/>
          <a:ext cx="7543800" cy="2949840"/>
        </p:xfrm>
        <a:graphic>
          <a:graphicData uri="http://schemas.openxmlformats.org/drawingml/2006/table">
            <a:tbl>
              <a:tblPr/>
              <a:tblGrid>
                <a:gridCol w="2489040"/>
                <a:gridCol w="2185920"/>
                <a:gridCol w="2868840"/>
              </a:tblGrid>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Source</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Frequenc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Variable</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3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Register of Business Entitie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Month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Bir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Dea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Changes of name, address, activity code, legal</a:t>
                      </a:r>
                      <a:r>
                        <a:rPr b="0" lang="hr-HR" sz="1000" spc="-1" strike="noStrike">
                          <a:solidFill>
                            <a:srgbClr val="ffffff"/>
                          </a:solidFill>
                          <a:latin typeface="Tahoma"/>
                          <a:ea typeface="Arial"/>
                        </a:rPr>
                        <a:t> f</a:t>
                      </a:r>
                      <a:r>
                        <a:rPr b="0" lang="en-GB" sz="1000" spc="-1" strike="noStrike">
                          <a:solidFill>
                            <a:srgbClr val="ffffff"/>
                          </a:solidFill>
                          <a:latin typeface="Tahoma"/>
                          <a:ea typeface="Times New Roman"/>
                        </a:rPr>
                        <a:t>orm, etc.</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Central Register of Craft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Semi-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Bir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Dea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Changes of name, address, etc.</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Financial Agenc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Activity statu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Net turnover</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Employment</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Tax Administration</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Activity statu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Activity codes for craft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Employment</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SB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imes New Roman"/>
                        </a:rPr>
                        <a:t>Change of the activity code</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3"/>
          </p:nvPr>
        </p:nvSpPr>
        <p:spPr/>
        <p:txBody>
          <a:bodyPr/>
          <a:p>
            <a:fld id="{FC024D88-8355-46D0-976E-BC14E4601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V. Implications of revision of NACE</a:t>
            </a:r>
            <a:endParaRPr b="1" lang="en-US" sz="32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classification of units in the RBE</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mproving the quality of the registered activity codes</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nding the notification about the new code to the companies</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aking over main activity codes into the SBR</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83736A2-870B-4267-B334-AD2EC875AD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91880" y="4698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aeaea"/>
                </a:solidFill>
                <a:latin typeface="Tahoma"/>
              </a:rPr>
              <a:t>1. Reclassification of units in the Register of Business Entities</a:t>
            </a:r>
            <a:br>
              <a:rPr sz="3200"/>
            </a:br>
            <a:endParaRPr b="1" lang="en-US" sz="28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Updating activity codes in both RBE and SBR</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 survey</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tatisticians involved</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utomatic recoding for 1:1 and n:1 cases</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anual recoding for 1:n and m:n cases  - only for units with &gt;=10 employees, </a:t>
            </a:r>
            <a:endParaRPr b="0" lang="en-US" sz="2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other units – automatic recoding using correspondence tabl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649C51A-21FB-45D3-90BF-05C5599A30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2. Improving the quality of the registered activity codes</a:t>
            </a:r>
            <a:endParaRPr b="1" lang="en-US" sz="28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Updating of the RBE activity codes happen quite rarely on the demand of the company, exceptionally on the request of the statisticia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ing the old and incorrect codes will be combined with reclassification according to the new NACE Rev 2 cod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2C6B493-F015-47AF-BDCD-F1AEB0471F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3. Sending the notification about the new code to the companies</a:t>
            </a:r>
            <a:endParaRPr b="1" lang="en-US" sz="28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ve units will be informed about newly assigned main activity cod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portunity for the company to react if new code does not comply with actual activ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6840208-E3EA-4159-9F13-DEBD9644DC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hr-HR" sz="2800" spc="-1" strike="noStrike">
                <a:solidFill>
                  <a:srgbClr val="eaeaea"/>
                </a:solidFill>
                <a:latin typeface="Tahoma"/>
              </a:rPr>
              <a:t>4. </a:t>
            </a:r>
            <a:r>
              <a:rPr b="1" lang="en-GB" sz="2800" spc="-1" strike="noStrike">
                <a:solidFill>
                  <a:srgbClr val="eaeaea"/>
                </a:solidFill>
                <a:latin typeface="Tahoma"/>
              </a:rPr>
              <a:t>Taking over main activity codes into the SBR</a:t>
            </a:r>
            <a:br>
              <a:rPr sz="2800"/>
            </a:br>
            <a:endParaRPr b="1" lang="en-US" sz="28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ewly assigned codes of legal units in the RBE will be taken over into the SBR</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ew codes for crafts will be taken over from the Tax office since this is the main source for activity codes for crafts</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econdary activities of the enterprises will be recoded automatically as well as the activity codes for local units</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vision</a:t>
            </a:r>
            <a:r>
              <a:rPr b="0" lang="hr-HR" sz="2000" spc="-1" strike="noStrike">
                <a:solidFill>
                  <a:srgbClr val="ffffff"/>
                </a:solidFill>
                <a:latin typeface="Tahoma"/>
              </a:rPr>
              <a:t> of </a:t>
            </a:r>
            <a:r>
              <a:rPr b="0" lang="en-GB" sz="2000" spc="-1" strike="noStrike">
                <a:solidFill>
                  <a:srgbClr val="ffffff"/>
                </a:solidFill>
                <a:latin typeface="Tahoma"/>
              </a:rPr>
              <a:t>a number of such automatically assigned codes in the next year quality survey that is planned to be carried out for the first time</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is expected that all work of implementing the new classification will be done by the end of the year.</a:t>
            </a:r>
            <a:endParaRPr b="0" lang="en-US" sz="2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4F2738D-79CD-4869-8FB5-FEBB7F4DC4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eaeaea"/>
                </a:solidFill>
                <a:latin typeface="Tahoma"/>
              </a:rPr>
              <a:t>Future</a:t>
            </a:r>
            <a:r>
              <a:rPr b="1" lang="en-GB" sz="2800" spc="-1" strike="noStrike">
                <a:solidFill>
                  <a:srgbClr val="eaeaea"/>
                </a:solidFill>
                <a:latin typeface="Tahoma"/>
              </a:rPr>
              <a:t> plans </a:t>
            </a:r>
            <a:endParaRPr b="1" lang="en-US" sz="28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verage of units in the SBR will be improved by including the free lances</a:t>
            </a:r>
            <a:r>
              <a:rPr b="0" lang="hr-HR"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parations for including enterprise groups will be started</a:t>
            </a:r>
            <a:r>
              <a:rPr b="0" lang="hr-HR"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sing the results from other SBS and statistical surveys for updating activity codes in the SBR. </a:t>
            </a:r>
            <a:endParaRPr b="0" lang="en-US" sz="2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sing other administrative sources for updating or adding the new data to the SBR and cooperation with currently used sources in improving their data quality </a:t>
            </a:r>
            <a:r>
              <a:rPr b="0" lang="hr-HR"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274260F-7CC9-4708-84D5-4495B687DB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Conclusion</a:t>
            </a:r>
            <a:endParaRPr b="1" lang="en-US" sz="28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ty improvements of the SBR - continuing task and among the key priorities in Croatian CBS.</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rce resources (especially IT staff and funding for SBR surveys) are the major obstacle to bigger progress, but development of the Croatian SBR is steadily going on in fulfilling the task that is primarily finding the way to meet the users' need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CAF25C6-2CCB-49F2-A49B-3EFCF39742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
          <p:cNvSpPr txBox="1"/>
          <p:nvPr/>
        </p:nvSpPr>
        <p:spPr>
          <a:xfrm>
            <a:off x="1486080" y="270504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ahoma"/>
              </a:rPr>
              <a:t>THANK YOU FOR YOUR ATTENTION!</a:t>
            </a:r>
            <a:endParaRPr b="0" lang="en-US" sz="1800" spc="1" strike="noStrike">
              <a:ln w="0">
                <a:noFill/>
              </a:ln>
              <a:solidFill>
                <a:srgbClr val="336699"/>
              </a:solidFill>
              <a:effectLst>
                <a:outerShdw dist="40186" dir="1096358" blurRad="0" rotWithShape="0">
                  <a:srgbClr val="b2b2b2">
                    <a:alpha val="80000"/>
                  </a:srgbClr>
                </a:outerShdw>
              </a:effectLst>
              <a:latin typeface="Tahoma"/>
              <a:ea typeface="Tahoma"/>
            </a:endParaRPr>
          </a:p>
        </p:txBody>
      </p:sp>
      <p:sp>
        <p:nvSpPr>
          <p:cNvPr id="2" name="PlaceHolder 1"/>
          <p:cNvSpPr>
            <a:spLocks noGrp="1"/>
          </p:cNvSpPr>
          <p:nvPr>
            <p:ph type="sldNum" idx="3"/>
          </p:nvPr>
        </p:nvSpPr>
        <p:spPr/>
        <p:txBody>
          <a:bodyPr/>
          <a:p>
            <a:fld id="{76BD1EEE-9091-4FD7-BF36-91AC5661E9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ntent</a:t>
            </a:r>
            <a:r>
              <a:rPr b="1" lang="hr-HR" sz="3200" spc="-1" strike="noStrike">
                <a:solidFill>
                  <a:srgbClr val="ffffff"/>
                </a:solidFill>
                <a:latin typeface="Tahoma"/>
              </a:rPr>
              <a:t>s</a:t>
            </a:r>
            <a:endParaRPr b="1" lang="en-US" sz="32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r>
              <a:rPr b="0" lang="hr-HR"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s in the SBR</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verag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of the SBR</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of the SBR</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ications of revision of NAC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9E3941C-C4D3-4A58-ABDA-148DA44B13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eaeaea"/>
                </a:solidFill>
                <a:latin typeface="Tahoma"/>
              </a:rPr>
              <a:t>Introduction</a:t>
            </a:r>
            <a:endParaRPr b="1" lang="en-US" sz="3200" spc="-1" strike="noStrike">
              <a:solidFill>
                <a:srgbClr val="eaeaea"/>
              </a:solidFill>
              <a:latin typeface="Tahoma"/>
            </a:endParaRPr>
          </a:p>
        </p:txBody>
      </p:sp>
      <p:sp>
        <p:nvSpPr>
          <p:cNvPr id="123" name="PlaceHolder 2"/>
          <p:cNvSpPr>
            <a:spLocks noGrp="1"/>
          </p:cNvSpPr>
          <p:nvPr>
            <p:ph/>
          </p:nvPr>
        </p:nvSpPr>
        <p:spPr>
          <a:xfrm>
            <a:off x="1041120" y="1994040"/>
            <a:ext cx="7543800" cy="45338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gister of Business Entities – since 1976</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ject of establishing the Statistical Business Register started with the Twinning project with Statistics Denmark and Statistics Sweden in 2003</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first version of the SBR was set up in 2004</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Goal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eeting the demands from the users inside the CB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mplying with EU regulations concerning business registers for statistical purpose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7E5D38A-0901-4BCA-AA7E-BC74C90A15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tarting point</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ster of Business Entities – administrative register - used for statistical purposes but with many drawbacks</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ollected in the Pilot business census that covered around 5000 businesse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umber of administrative sources with possibility to be used in the SBR</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0BC35FF-9B8B-4E7D-B20F-1062C7692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Units in the SBR</a:t>
            </a:r>
            <a:endParaRPr b="1" lang="en-US" sz="3200" spc="-1" strike="noStrike">
              <a:solidFill>
                <a:srgbClr val="eaeaea"/>
              </a:solidFill>
              <a:latin typeface="Tahoma"/>
            </a:endParaRPr>
          </a:p>
        </p:txBody>
      </p:sp>
      <p:sp>
        <p:nvSpPr>
          <p:cNvPr id="127" name="PlaceHolder 2"/>
          <p:cNvSpPr>
            <a:spLocks noGrp="1"/>
          </p:cNvSpPr>
          <p:nvPr>
            <p:ph/>
          </p:nvPr>
        </p:nvSpPr>
        <p:spPr>
          <a:xfrm>
            <a:off x="1015560" y="190512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egal units </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transferred from administrative source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Enterprises </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inked to the legal units by one-to-one connection</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ocal units</a:t>
            </a:r>
            <a:endParaRPr b="0" lang="en-US" sz="2800" spc="-1" strike="noStrike">
              <a:solidFill>
                <a:srgbClr val="ffffff"/>
              </a:solidFill>
              <a:latin typeface="Tahoma"/>
            </a:endParaRPr>
          </a:p>
          <a:p>
            <a:pPr lvl="1" marL="727920" indent="-28008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iled from administrative sources,  contact with the enterprise, from Internet,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A74AB96-4839-43C5-992A-A12953616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Coverage</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egal persons and government bodi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Crafts (sole proprieto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Free lances – not yet cover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	</a:t>
            </a:r>
            <a:r>
              <a:rPr b="0" lang="en-US" sz="2800" spc="-1" strike="noStrike">
                <a:solidFill>
                  <a:srgbClr val="eaeaea"/>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F0C3D60-873F-4438-980F-0580493B9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eaeaea"/>
                </a:solidFill>
                <a:latin typeface="Tahoma"/>
              </a:rPr>
              <a:t>Sources of the SBR</a:t>
            </a:r>
            <a:r>
              <a:rPr b="1" lang="hr-HR" sz="3200" spc="-1" strike="noStrike">
                <a:solidFill>
                  <a:srgbClr val="eaeaea"/>
                </a:solidFill>
                <a:latin typeface="Tahoma"/>
              </a:rPr>
              <a:t> (1)</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Basic administrative sourc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Register of Business Entities (RBE)</a:t>
            </a:r>
            <a:endParaRPr b="0" lang="en-US" sz="2800" spc="-1" strike="noStrike">
              <a:solidFill>
                <a:srgbClr val="ffffff"/>
              </a:solidFill>
              <a:latin typeface="Tahoma"/>
            </a:endParaRPr>
          </a:p>
          <a:p>
            <a:pPr lvl="2" marL="1371600" indent="-457200">
              <a:spcBef>
                <a:spcPts val="601"/>
              </a:spcBef>
              <a:buClr>
                <a:srgbClr val="ffffc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For l</a:t>
            </a:r>
            <a:r>
              <a:rPr b="0" lang="en-US" sz="2400" spc="-1" strike="noStrike">
                <a:solidFill>
                  <a:srgbClr val="ffffff"/>
                </a:solidFill>
                <a:latin typeface="Tahoma"/>
              </a:rPr>
              <a:t>egal persons and government bodies </a:t>
            </a:r>
            <a:endParaRPr b="0" lang="en-US" sz="24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Central Register of Crafts (CRC)</a:t>
            </a:r>
            <a:endParaRPr b="0" lang="en-US" sz="2800" spc="-1" strike="noStrike">
              <a:solidFill>
                <a:srgbClr val="ffffff"/>
              </a:solidFill>
              <a:latin typeface="Tahoma"/>
            </a:endParaRPr>
          </a:p>
          <a:p>
            <a:pPr lvl="2" marL="1371600" indent="-457200">
              <a:spcBef>
                <a:spcPts val="601"/>
              </a:spcBef>
              <a:buClr>
                <a:srgbClr val="ffffc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For natural persons - crafts</a:t>
            </a:r>
            <a:endParaRPr b="0" lang="en-US" sz="2400" spc="-1" strike="noStrike">
              <a:solidFill>
                <a:srgbClr val="ffffff"/>
              </a:solidFill>
              <a:latin typeface="Tahoma"/>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BF3C9A5-5188-4495-AC45-ADF9789F1B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 name=""/>
          <p:cNvGraphicFramePr/>
          <p:nvPr/>
        </p:nvGraphicFramePr>
        <p:xfrm>
          <a:off x="1498680" y="723960"/>
          <a:ext cx="6286320" cy="7159680"/>
        </p:xfrm>
        <a:graphic>
          <a:graphicData uri="http://schemas.openxmlformats.org/presentationml/2006/ole">
            <p:oleObj r:id="rId1" spid="">
              <p:embed/>
              <p:pic>
                <p:nvPicPr>
                  <p:cNvPr id="134" name="" descr=""/>
                  <p:cNvPicPr/>
                  <p:nvPr/>
                </p:nvPicPr>
                <p:blipFill>
                  <a:blip r:embed="rId2"/>
                  <a:stretch/>
                </p:blipFill>
                <p:spPr>
                  <a:xfrm>
                    <a:off x="1498680" y="723960"/>
                    <a:ext cx="6286320" cy="7159680"/>
                  </a:xfrm>
                  <a:prstGeom prst="rect">
                    <a:avLst/>
                  </a:prstGeom>
                  <a:ln w="0">
                    <a:noFill/>
                  </a:ln>
                </p:spPr>
              </p:pic>
            </p:oleObj>
          </a:graphicData>
        </a:graphic>
      </p:graphicFrame>
      <p:sp>
        <p:nvSpPr>
          <p:cNvPr id="2" name="PlaceHolder 1"/>
          <p:cNvSpPr>
            <a:spLocks noGrp="1"/>
          </p:cNvSpPr>
          <p:nvPr>
            <p:ph type="sldNum" idx="3"/>
          </p:nvPr>
        </p:nvSpPr>
        <p:spPr/>
        <p:txBody>
          <a:bodyPr/>
          <a:p>
            <a:fld id="{97C1C4C2-ACFF-4B12-B376-FD095AF439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17748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3200" spc="-1" strike="noStrike">
                <a:solidFill>
                  <a:srgbClr val="eaeaea"/>
                </a:solidFill>
                <a:latin typeface="Tahoma"/>
              </a:rPr>
              <a:t>Sources of the SBR</a:t>
            </a:r>
            <a:r>
              <a:rPr b="1" lang="hr-HR" sz="3200" spc="-1" strike="noStrike">
                <a:solidFill>
                  <a:srgbClr val="eaeaea"/>
                </a:solidFill>
                <a:latin typeface="Tahoma"/>
              </a:rPr>
              <a:t> (2)</a:t>
            </a:r>
            <a:br>
              <a:rPr sz="3200"/>
            </a:b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Other administrative sources</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ahoma"/>
              </a:rPr>
              <a:t>Financial Agency (FINA)</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data on employment, </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net turnover </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activity status</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ahoma"/>
              </a:rPr>
              <a:t>Tax Administration (TA)</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data on activity status, </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activity codes for crafts</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number of employees for crafts and legal persons not found in FINA data base</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71A37B6-32AF-4459-82C7-CC1153F29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08:43:32Z</dcterms:created>
  <dc:creator>Ana Beljan</dc:creator>
  <dc:description/>
  <dc:language>en-US</dc:language>
  <cp:lastModifiedBy>Blanchandin</cp:lastModifiedBy>
  <cp:lastPrinted>2004-03-29T13:19:27Z</cp:lastPrinted>
  <dcterms:modified xsi:type="dcterms:W3CDTF">2007-06-15T16:50:09Z</dcterms:modified>
  <cp:revision>161</cp:revision>
  <dc:subject/>
  <dc:title>Classifications</dc:title>
</cp:coreProperties>
</file>