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421F73-0F0F-43DB-8D42-85EC998A76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1AF42A-2D55-4F45-A872-BCAE1ACA05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A578D2-3C81-4404-BF73-46404F7C84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C8D8A0-313F-4F2D-9048-A480BC4CC3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452FC8-4697-4CCB-BE8B-D029B79A04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FC7F5E-68AE-496C-8FA3-C2E25E644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5E8AAE-B16B-4275-87F9-E17AFF01EB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2328A8-D817-41F7-AD62-D52BE9E03E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132073-943F-4A80-BD32-F498AD0011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150036-4838-46F3-9ECA-1322FFD78A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A31FC3-D274-437C-9348-4DED42314D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653F8F-7208-4FF7-9F81-2B1F609C1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7558200" y="81000"/>
            <a:ext cx="1519200" cy="201600"/>
          </a:xfrm>
          <a:prstGeom prst="rect">
            <a:avLst/>
          </a:prstGeom>
          <a:ln w="0">
            <a:noFill/>
          </a:ln>
        </p:spPr>
      </p:pic>
      <p:sp>
        <p:nvSpPr>
          <p:cNvPr id="3" name=""/>
          <p:cNvSpPr/>
          <p:nvPr/>
        </p:nvSpPr>
        <p:spPr>
          <a:xfrm>
            <a:off x="0" y="504720"/>
            <a:ext cx="9112320" cy="0"/>
          </a:xfrm>
          <a:prstGeom prst="line">
            <a:avLst/>
          </a:prstGeom>
          <a:ln w="31680">
            <a:solidFill>
              <a:srgbClr val="186b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6262560"/>
            <a:ext cx="9201240" cy="613080"/>
          </a:xfrm>
          <a:prstGeom prst="rect">
            <a:avLst/>
          </a:prstGeom>
          <a:solidFill>
            <a:srgbClr val="2a6b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ftr" idx="1"/>
          </p:nvPr>
        </p:nvSpPr>
        <p:spPr>
          <a:xfrm>
            <a:off x="455760" y="6380280"/>
            <a:ext cx="5736960" cy="341280"/>
          </a:xfrm>
          <a:prstGeom prst="rect">
            <a:avLst/>
          </a:prstGeom>
          <a:solidFill>
            <a:srgbClr val="dee7f5"/>
          </a:solid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6551280" y="6381360"/>
            <a:ext cx="2133720" cy="343080"/>
          </a:xfrm>
          <a:prstGeom prst="rect">
            <a:avLst/>
          </a:prstGeom>
          <a:solidFill>
            <a:srgbClr val="dee7f5"/>
          </a:solid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2A83-7C8B-48EA-9E99-C6D2C8DBC5E8}" type="slidenum">
              <a:rPr b="0" lang="sl-SI"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3"/>
          <a:stretch/>
        </p:blipFill>
        <p:spPr>
          <a:xfrm>
            <a:off x="0" y="1440"/>
            <a:ext cx="4699080" cy="4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35280" y="2130120"/>
            <a:ext cx="518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5" name="" descr=""/>
          <p:cNvPicPr/>
          <p:nvPr/>
        </p:nvPicPr>
        <p:blipFill>
          <a:blip r:embed="rId2"/>
          <a:stretch/>
        </p:blipFill>
        <p:spPr>
          <a:xfrm>
            <a:off x="0" y="0"/>
            <a:ext cx="3429000" cy="68580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35280" y="2130120"/>
            <a:ext cx="518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Use of administrative sources for identification of EGs in Slovenia</a:t>
            </a:r>
            <a:br>
              <a:rPr sz="4100"/>
            </a:br>
            <a:endParaRPr b="0" lang="en-US" sz="3200" spc="-1" strike="noStrike">
              <a:solidFill>
                <a:srgbClr val="000000"/>
              </a:solidFill>
              <a:latin typeface="Arial"/>
            </a:endParaRPr>
          </a:p>
        </p:txBody>
      </p:sp>
      <p:sp>
        <p:nvSpPr>
          <p:cNvPr id="84" name="PlaceHolder 2"/>
          <p:cNvSpPr>
            <a:spLocks noGrp="1"/>
          </p:cNvSpPr>
          <p:nvPr>
            <p:ph type="subTitle"/>
          </p:nvPr>
        </p:nvSpPr>
        <p:spPr>
          <a:xfrm>
            <a:off x="3850920" y="3885840"/>
            <a:ext cx="4537080" cy="119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leksandra Lešnje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ojca Zalet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Agency for Public Legal Records (1)</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was established in July 2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e-collection, e-processing of data from different kind of annual repor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manages various administrative registers (business register, register of non possesory liens and seized movable proper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collects information of credit standing of individual legal units operating in SLO, CRO, M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it is an authorised producer of some statistical survey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Agency for Public Legal Records (2)</a:t>
            </a:r>
            <a:endParaRPr b="0" lang="en-US" sz="36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nsolidated annual account are not electronically processed yet (only scanned format avai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scussions between institutions are on go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t will increase the potential use of available data in the EG’s domai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Making a contract</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ORS made a contract with all relevant institutions to recive the relevant data in e-forma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the basis of the National Statistics Act, for the purpose of rational implementation of the activities of the national statistics, SORS makes use of identifiable individual data from various official and other administrative data collections of the public and private sectors (records, registers, databases, etc.) which are kept on the basis of law or written consent of the individual.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compliance with the </a:t>
            </a:r>
            <a:r>
              <a:rPr b="0" lang="sl-SI" sz="2400" spc="-1" strike="noStrike">
                <a:solidFill>
                  <a:srgbClr val="000000"/>
                </a:solidFill>
                <a:latin typeface="Arial"/>
              </a:rPr>
              <a:t>Statististical A</a:t>
            </a:r>
            <a:r>
              <a:rPr b="0" lang="en-GB" sz="2400" spc="-1" strike="noStrike">
                <a:solidFill>
                  <a:srgbClr val="000000"/>
                </a:solidFill>
                <a:latin typeface="Arial"/>
              </a:rPr>
              <a:t>ct, register holders must, free of charge, submit to SORS all the requested information.</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400" spc="-1" strike="noStrike">
                <a:solidFill>
                  <a:srgbClr val="000000"/>
                </a:solidFill>
                <a:latin typeface="Arial"/>
              </a:rPr>
              <a:t>Preparation of a common database of shares and control based </a:t>
            </a:r>
            <a:r>
              <a:rPr b="1" lang="sl-SI" sz="2400" spc="-1" strike="noStrike">
                <a:solidFill>
                  <a:srgbClr val="000000"/>
                </a:solidFill>
                <a:latin typeface="Arial"/>
              </a:rPr>
              <a:t>on the combination of 3</a:t>
            </a:r>
            <a:r>
              <a:rPr b="1" lang="en-GB" sz="2400" spc="-1" strike="noStrike">
                <a:solidFill>
                  <a:srgbClr val="000000"/>
                </a:solidFill>
                <a:latin typeface="Arial"/>
              </a:rPr>
              <a:t> main sources</a:t>
            </a:r>
            <a:r>
              <a:rPr b="0" lang="sl-SI" sz="4000" spc="-1" strike="noStrike">
                <a:solidFill>
                  <a:srgbClr val="000000"/>
                </a:solidFill>
                <a:latin typeface="Arial"/>
              </a:rPr>
              <a:t> </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9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0400" indent="-5904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ration of guidelines for creating the common database of shares and control relationships between economic operators</a:t>
            </a:r>
            <a:endParaRPr b="0" lang="en-US" sz="2400" spc="-1" strike="noStrike">
              <a:solidFill>
                <a:srgbClr val="000000"/>
              </a:solidFill>
              <a:latin typeface="Arial"/>
            </a:endParaRPr>
          </a:p>
          <a:p>
            <a:pPr marL="59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0400" indent="-5904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ing </a:t>
            </a:r>
            <a:r>
              <a:rPr b="0" lang="sl-SI" sz="2400" spc="-1" strike="noStrike">
                <a:solidFill>
                  <a:srgbClr val="000000"/>
                </a:solidFill>
                <a:latin typeface="Arial"/>
              </a:rPr>
              <a:t>the </a:t>
            </a:r>
            <a:r>
              <a:rPr b="0" lang="en-GB" sz="2400" spc="-1" strike="noStrike">
                <a:solidFill>
                  <a:srgbClr val="000000"/>
                </a:solidFill>
                <a:latin typeface="Arial"/>
              </a:rPr>
              <a:t>common database of financial relationships and control</a:t>
            </a:r>
            <a:endParaRPr b="0" lang="en-US" sz="2400" spc="-1" strike="noStrike">
              <a:solidFill>
                <a:srgbClr val="000000"/>
              </a:solidFill>
              <a:latin typeface="Arial"/>
            </a:endParaRPr>
          </a:p>
          <a:p>
            <a:pPr marL="59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0400" indent="-5904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the common database</a:t>
            </a:r>
            <a:endParaRPr b="0" lang="en-US" sz="2400" spc="-1" strike="noStrike">
              <a:solidFill>
                <a:srgbClr val="000000"/>
              </a:solidFill>
              <a:latin typeface="Arial"/>
            </a:endParaRPr>
          </a:p>
          <a:p>
            <a:pPr marL="59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0400" indent="-5904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ol of data in the common database of financial relationships and control</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Programming the algorithm for identification of enterprise groups</a:t>
            </a:r>
            <a:r>
              <a:rPr b="1" lang="sl-SI" sz="2800" spc="-1" strike="noStrike">
                <a:solidFill>
                  <a:srgbClr val="000000"/>
                </a:solidFill>
                <a:latin typeface="Arial"/>
              </a:rPr>
              <a:t> (1)</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lgorithm was programmed on the basis of direct or indirect relationship of the parent unit over the daughter un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lgorithm operates by combining the top-down and the bottom-down approach, so that in an efficient way in addition to the group head also the identification of all its units is provided.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Programming the algorithm for identification of enterprise groups</a:t>
            </a:r>
            <a:r>
              <a:rPr b="1" lang="sl-SI" sz="2800" spc="-1" strike="noStrike">
                <a:solidFill>
                  <a:srgbClr val="000000"/>
                </a:solidFill>
                <a:latin typeface="Arial"/>
              </a:rPr>
              <a:t> (2)</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first stage every unit that appears in the common table of relationships represents the starting group of enterprises. Further on the program operates according to the bottom-up principle, taking into account direct and indirect control</a:t>
            </a: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unit is evaluated by searching for the appropriate parent unit which controls it, so that the unit is moved to the group which controls i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Programming the algorithm for identification of enterprise groups</a:t>
            </a:r>
            <a:r>
              <a:rPr b="1" lang="sl-SI" sz="2800" spc="-1" strike="noStrike">
                <a:solidFill>
                  <a:srgbClr val="000000"/>
                </a:solidFill>
                <a:latin typeface="Arial"/>
              </a:rPr>
              <a:t> (3)</a:t>
            </a:r>
            <a:endParaRPr b="0" lang="en-US" sz="2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the algorithm follows a top-down approach identifying all daughter units in a group by the direct control method.</a:t>
            </a: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ycle is repeated as many times as necessary to appropriately classify all units into group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its that no one controls are eliminated.</a:t>
            </a:r>
            <a:r>
              <a:rPr b="0" lang="sl-SI"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GB" sz="2700" spc="-1" strike="noStrike">
                <a:solidFill>
                  <a:srgbClr val="000000"/>
                </a:solidFill>
                <a:latin typeface="Arial"/>
              </a:rPr>
              <a:t>Linking the data from the algorithm with the Statistical Business Register</a:t>
            </a:r>
            <a:r>
              <a:rPr b="0" lang="sl-SI"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s results of the algorithm </a:t>
            </a:r>
            <a:r>
              <a:rPr b="0" lang="sl-SI" sz="2800" spc="-1" strike="noStrike">
                <a:solidFill>
                  <a:srgbClr val="000000"/>
                </a:solidFill>
                <a:latin typeface="Arial"/>
              </a:rPr>
              <a:t>are</a:t>
            </a:r>
            <a:r>
              <a:rPr b="0" lang="en-GB" sz="2800" spc="-1" strike="noStrike">
                <a:solidFill>
                  <a:srgbClr val="000000"/>
                </a:solidFill>
                <a:latin typeface="Arial"/>
              </a:rPr>
              <a:t> in the </a:t>
            </a:r>
            <a:r>
              <a:rPr b="0" lang="sl-SI" sz="2800" spc="-1" strike="noStrike">
                <a:solidFill>
                  <a:srgbClr val="000000"/>
                </a:solidFill>
                <a:latin typeface="Arial"/>
              </a:rPr>
              <a:t>next stage </a:t>
            </a:r>
            <a:r>
              <a:rPr b="0" lang="en-GB" sz="2800" spc="-1" strike="noStrike">
                <a:solidFill>
                  <a:srgbClr val="000000"/>
                </a:solidFill>
                <a:latin typeface="Arial"/>
              </a:rPr>
              <a:t> linked with the data from the Statistical Business Register in order to obtain and recalculate some general data for  enterprise group (number of employees, main activity code,  et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 this approach the pilot national register w</a:t>
            </a:r>
            <a:r>
              <a:rPr b="0" lang="sl-SI" sz="2800" spc="-1" strike="noStrike">
                <a:solidFill>
                  <a:srgbClr val="000000"/>
                </a:solidFill>
                <a:latin typeface="Arial"/>
              </a:rPr>
              <a:t>as</a:t>
            </a:r>
            <a:r>
              <a:rPr b="0" lang="en-GB" sz="2800" spc="-1" strike="noStrike">
                <a:solidFill>
                  <a:srgbClr val="000000"/>
                </a:solidFill>
                <a:latin typeface="Arial"/>
              </a:rPr>
              <a:t>  set out. The next step is planned for 2008 to upgrade it as a transactional databa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Graphic presentation of groups</a:t>
            </a:r>
            <a:endParaRPr b="0" lang="en-US" sz="32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G</a:t>
            </a:r>
            <a:r>
              <a:rPr b="0" lang="en-GB" sz="2800" spc="-1" strike="noStrike">
                <a:solidFill>
                  <a:srgbClr val="000000"/>
                </a:solidFill>
                <a:latin typeface="Arial"/>
              </a:rPr>
              <a:t>raphic presentation of the group </a:t>
            </a:r>
            <a:r>
              <a:rPr b="0" lang="sl-SI" sz="2800" spc="-1" strike="noStrike">
                <a:solidFill>
                  <a:srgbClr val="000000"/>
                </a:solidFill>
                <a:latin typeface="Arial"/>
              </a:rPr>
              <a:t>i</a:t>
            </a:r>
            <a:r>
              <a:rPr b="0" lang="en-GB" sz="2800" spc="-1" strike="noStrike">
                <a:solidFill>
                  <a:srgbClr val="000000"/>
                </a:solidFill>
                <a:latin typeface="Arial"/>
              </a:rPr>
              <a:t>nclud</a:t>
            </a:r>
            <a:r>
              <a:rPr b="0" lang="sl-SI" sz="2800" spc="-1" strike="noStrike">
                <a:solidFill>
                  <a:srgbClr val="000000"/>
                </a:solidFill>
                <a:latin typeface="Arial"/>
              </a:rPr>
              <a:t>e</a:t>
            </a:r>
            <a:r>
              <a:rPr b="0" lang="en-GB" sz="2800" spc="-1" strike="noStrike">
                <a:solidFill>
                  <a:srgbClr val="000000"/>
                </a:solidFill>
                <a:latin typeface="Arial"/>
              </a:rPr>
              <a:t> some general data on its component parts (name of the unit, country of the unit, ownership share)</a:t>
            </a: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W</a:t>
            </a:r>
            <a:r>
              <a:rPr b="0" lang="en-GB" sz="2800" spc="-1" strike="noStrike">
                <a:solidFill>
                  <a:srgbClr val="000000"/>
                </a:solidFill>
                <a:latin typeface="Arial"/>
              </a:rPr>
              <a:t>e selected between Visio and GoDiagrams Win Professional</a:t>
            </a: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t>
            </a:r>
            <a:r>
              <a:rPr b="0" lang="en-GB" sz="2800" spc="-1" strike="noStrike">
                <a:solidFill>
                  <a:srgbClr val="000000"/>
                </a:solidFill>
                <a:latin typeface="Arial"/>
              </a:rPr>
              <a:t>he main advantage of GoDiagrams is good presentation of both small and large groups and in contrast to Visio is a manage.net library.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GB" sz="2700" spc="-1" strike="noStrike">
                <a:solidFill>
                  <a:srgbClr val="000000"/>
                </a:solidFill>
                <a:latin typeface="Arial"/>
              </a:rPr>
              <a:t>Problems encountered and solutions found or proposed </a:t>
            </a:r>
            <a:r>
              <a:rPr b="1" lang="sl-SI" sz="2700" spc="-1" strike="noStrike">
                <a:solidFill>
                  <a:srgbClr val="000000"/>
                </a:solidFill>
                <a:latin typeface="Arial"/>
              </a:rPr>
              <a:t>(1)</a:t>
            </a:r>
            <a:br>
              <a:rPr sz="2700"/>
            </a:br>
            <a:endParaRPr b="0" lang="en-US" sz="27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echnically unparalleled content of sources</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have used three main sources which are maintained by different institutions. They are not linked and their data are used for different purposes, so we had to transform the data into a technically and methodologically comparable form.</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ata were transformed so that the relationship</a:t>
            </a:r>
            <a:r>
              <a:rPr b="0" i="1" lang="en-GB" sz="2400" spc="-1" strike="noStrike">
                <a:solidFill>
                  <a:srgbClr val="000000"/>
                </a:solidFill>
                <a:latin typeface="Arial"/>
              </a:rPr>
              <a:t> “</a:t>
            </a:r>
            <a:r>
              <a:rPr b="0" lang="sl-SI" sz="2400" spc="-1" strike="noStrike">
                <a:solidFill>
                  <a:srgbClr val="000000"/>
                </a:solidFill>
                <a:latin typeface="Arial"/>
              </a:rPr>
              <a:t>legal unit</a:t>
            </a:r>
            <a:r>
              <a:rPr b="0" lang="en-GB" sz="2400" spc="-1" strike="noStrike">
                <a:solidFill>
                  <a:srgbClr val="000000"/>
                </a:solidFill>
                <a:latin typeface="Arial"/>
              </a:rPr>
              <a:t>–holder–share of the holder in</a:t>
            </a:r>
            <a:r>
              <a:rPr b="0" lang="sl-SI" sz="2400" spc="-1" strike="noStrike">
                <a:solidFill>
                  <a:srgbClr val="000000"/>
                </a:solidFill>
                <a:latin typeface="Arial"/>
              </a:rPr>
              <a:t> the legal unit</a:t>
            </a:r>
            <a:r>
              <a:rPr b="0" lang="en-GB" sz="2400" spc="-1" strike="noStrike">
                <a:solidFill>
                  <a:srgbClr val="000000"/>
                </a:solidFill>
                <a:latin typeface="Arial"/>
              </a:rPr>
              <a:t>” was determined</a:t>
            </a:r>
            <a:r>
              <a:rPr b="0" lang="sl-SI"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ctivities of setting up EG register </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nalysing the available administrative and statistical source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etting up a pilot EG register as analytical data base</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pgrade and integrate the pilot EG as transactional data base within the ISIS – new project of modernisation of IT infrastructure in the business statistics domain</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GB" sz="2700" spc="-1" strike="noStrike">
                <a:solidFill>
                  <a:srgbClr val="000000"/>
                </a:solidFill>
                <a:latin typeface="Arial"/>
              </a:rPr>
              <a:t>Problems encountered and solutions found or proposed </a:t>
            </a:r>
            <a:r>
              <a:rPr b="1" lang="sl-SI" sz="2700" spc="-1" strike="noStrike">
                <a:solidFill>
                  <a:srgbClr val="000000"/>
                </a:solidFill>
                <a:latin typeface="Arial"/>
              </a:rPr>
              <a:t>(2)</a:t>
            </a:r>
            <a:br>
              <a:rPr sz="2700"/>
            </a:br>
            <a:endParaRPr b="0" lang="en-US" sz="27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dividual records concerning </a:t>
            </a:r>
            <a:r>
              <a:rPr b="0" lang="sl-SI" sz="2500" spc="-1" strike="noStrike">
                <a:solidFill>
                  <a:srgbClr val="000000"/>
                </a:solidFill>
                <a:latin typeface="Arial"/>
              </a:rPr>
              <a:t>legal units</a:t>
            </a:r>
            <a:r>
              <a:rPr b="0" lang="en-GB" sz="2500" spc="-1" strike="noStrike">
                <a:solidFill>
                  <a:srgbClr val="000000"/>
                </a:solidFill>
                <a:latin typeface="Arial"/>
              </a:rPr>
              <a:t> can appear in several sources at the same time</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les of priority have to be settled out that enable us to make the data editing as efficiently as possible and to check and process the data on the couples simultaneousl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GB" sz="2700" spc="-1" strike="noStrike">
                <a:solidFill>
                  <a:srgbClr val="000000"/>
                </a:solidFill>
                <a:latin typeface="Arial"/>
              </a:rPr>
              <a:t>Problems encountered and solutions found or proposed </a:t>
            </a:r>
            <a:r>
              <a:rPr b="1" lang="sl-SI" sz="2700" spc="-1" strike="noStrike">
                <a:solidFill>
                  <a:srgbClr val="000000"/>
                </a:solidFill>
                <a:latin typeface="Arial"/>
              </a:rPr>
              <a:t>(3)</a:t>
            </a:r>
            <a:br>
              <a:rPr sz="2700"/>
            </a:br>
            <a:endParaRPr b="0" lang="en-US" sz="27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identifier of non-residents</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ata for non-residents do not have unique identifier and they appear in different sources at the same ti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ould identify them only considering name, address and state. However, names and addresses in different sources are not written down uniformly, so we used matching (matching rules) by certain criteria for selection and finally checked the entries manually which could increase the mistak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Main conclusion and question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o need to use commercial sources for resident and truncated EGs, but strong need to link the data with the Euro Group Register for multinational gro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How to define the countinuity rules for EG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atural persons – to identify them as group heads  or no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Republic of Slovenia - to identify it as group head  or no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ity rules for Slovenian register</a:t>
            </a:r>
            <a:r>
              <a:rPr b="0" lang="sl-SI" sz="3600" spc="-1" strike="noStrike">
                <a:solidFill>
                  <a:srgbClr val="000000"/>
                </a:solidFill>
                <a:latin typeface="Arial"/>
              </a:rPr>
              <a:t> (</a:t>
            </a:r>
            <a:r>
              <a:rPr b="0" lang="en-US" sz="3600" spc="-1" strike="noStrike">
                <a:solidFill>
                  <a:srgbClr val="000000"/>
                </a:solidFill>
                <a:latin typeface="Arial"/>
              </a:rPr>
              <a:t>practical criteria </a:t>
            </a:r>
            <a:r>
              <a:rPr b="0" lang="sl-SI" sz="3600" spc="-1" strike="noStrike">
                <a:solidFill>
                  <a:srgbClr val="000000"/>
                </a:solidFill>
                <a:latin typeface="Arial"/>
              </a:rPr>
              <a:t>)</a:t>
            </a:r>
            <a:endParaRPr b="0" lang="en-US" sz="36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erprise group is changed if at least one of below conditions is complied</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EG ( up to 5 units )</a:t>
            </a:r>
            <a:r>
              <a:rPr b="0" lang="sl-SI" sz="2400" spc="-1" strike="noStrike">
                <a:solidFill>
                  <a:srgbClr val="000000"/>
                </a:solidFill>
                <a:latin typeface="Arial"/>
              </a:rPr>
              <a: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group hea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enterprises belonging to the group except group head</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EG ( more than 5 units )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group hea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Change of</a:t>
            </a:r>
            <a:r>
              <a:rPr b="0" lang="en-US" sz="2000" spc="-1" strike="noStrike">
                <a:solidFill>
                  <a:srgbClr val="000000"/>
                </a:solidFill>
                <a:latin typeface="Arial"/>
              </a:rPr>
              <a:t> the share of old units in a new group is less than 50% ( share= number of old units in a new group/ number all units in a new group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2800" spc="-1" strike="noStrike">
                <a:solidFill>
                  <a:srgbClr val="000000"/>
                </a:solidFill>
                <a:latin typeface="Arial"/>
              </a:rPr>
              <a:t>Analysing the available administrative and statistical sources</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Central Securities Clearing Corporation - Register of dematerialised securities and monetary settelment of securities transac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Court regis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Bank of Slovenia - Statistical reports on capital investment among residents and non-resid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Data kept by AJPES (Agency for Public Legal Records and Related Services), consolidated accou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Internet data avail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sl-SI" sz="3200" spc="-1" strike="noStrike">
                <a:solidFill>
                  <a:srgbClr val="000000"/>
                </a:solidFill>
                <a:latin typeface="Arial"/>
              </a:rPr>
              <a:t>Register of dematerialised securities</a:t>
            </a:r>
            <a:r>
              <a:rPr b="0" lang="sl-SI" sz="2800" spc="-1" strike="noStrike">
                <a:solidFill>
                  <a:srgbClr val="000000"/>
                </a:solidFill>
                <a:latin typeface="Arial"/>
              </a:rPr>
              <a:t> (1)</a:t>
            </a:r>
            <a:br>
              <a:rPr sz="2800"/>
            </a:br>
            <a:br>
              <a:rPr sz="2800"/>
            </a:br>
            <a:br>
              <a:rPr sz="2800"/>
            </a:br>
            <a:endParaRPr b="0" lang="en-US" sz="2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entral Securities Clearing Corporation  was established by law regulating the securities market for performing the services of calculation, equalisation and providing payment on the basis of securities transactions on organised sequrities mar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s</a:t>
            </a:r>
            <a:r>
              <a:rPr b="0" lang="en-GB" sz="1800" spc="-1" strike="noStrike">
                <a:solidFill>
                  <a:srgbClr val="000000"/>
                </a:solidFill>
                <a:latin typeface="Arial"/>
              </a:rPr>
              <a:t> the first and only institution in Slovenia to provide central securities custody services, clearance and settlement of securities transactions and maintenance of the central registry of holders of dematerialised securities in the Republic of Sloveni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eep the data on securities in the central IT data base (daily updat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t is a potential source of data for identifying parent companies of Slovenian joint stock companies  (based on ownership shares of parent companies in daughter companies); non-residents legal and natural persons include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l-SI" sz="3200" spc="-1" strike="noStrike">
                <a:solidFill>
                  <a:srgbClr val="000000"/>
                </a:solidFill>
                <a:latin typeface="Arial"/>
              </a:rPr>
              <a:t>Register of dematerialised securities</a:t>
            </a:r>
            <a:r>
              <a:rPr b="0" lang="sl-SI" sz="2800" spc="-1" strike="noStrike">
                <a:solidFill>
                  <a:srgbClr val="000000"/>
                </a:solidFill>
                <a:latin typeface="Arial"/>
              </a:rPr>
              <a:t> (2)</a:t>
            </a:r>
            <a:br>
              <a:rPr sz="2800"/>
            </a:br>
            <a:endParaRPr b="0" lang="en-US" sz="28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ata in e-format year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Data on Slovenian joint stock companies (js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Data on the number and types of issued jsc’s sha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ame, address on holders of the shares (legal units and natural persons, residents and non-resi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Data on the number and types of holder’s sha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Data on holder’s country of residence (IS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Information if the jsc quoted on the organised sequrities marke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Court Register (1)</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egislation stipulates that all companies-legal units with the exception of small and medium-sized sole proprietors must be registered in the Court Regist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entry into the court register, companies obtain the status of legal persons. Beside the ordinary variables, it comprises the structure of ownership for all legal persons that are subject of entry in the regist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It is a potential source of data for identifying parent companies of Slovenian limited liability companies  (based on ownership shares of parent companies in daughter companies);  non-residents legal and natural persons includ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Court register (2)</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a in e-format yearl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ata on Slovenian limited liability compa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ucture of ownership for all legal </a:t>
            </a:r>
            <a:r>
              <a:rPr b="0" lang="sl-SI" sz="2800" spc="-1" strike="noStrike">
                <a:solidFill>
                  <a:srgbClr val="000000"/>
                </a:solidFill>
                <a:latin typeface="Arial"/>
              </a:rPr>
              <a:t>and natural </a:t>
            </a:r>
            <a:r>
              <a:rPr b="0" lang="en-GB" sz="2800" spc="-1" strike="noStrike">
                <a:solidFill>
                  <a:srgbClr val="000000"/>
                </a:solidFill>
                <a:latin typeface="Arial"/>
              </a:rPr>
              <a:t>persons that are subject of entry in the register in absolute </a:t>
            </a:r>
            <a:r>
              <a:rPr b="0" lang="sl-SI" sz="2800" spc="-1" strike="noStrike">
                <a:solidFill>
                  <a:srgbClr val="000000"/>
                </a:solidFill>
                <a:latin typeface="Arial"/>
              </a:rPr>
              <a:t>valu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me, address on holders of the shares (legal units and natural persons, residents and non-resid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ata on holder’s country of residence (ISO standard)</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l-SI" sz="3200" spc="-1" strike="noStrike">
                <a:solidFill>
                  <a:srgbClr val="000000"/>
                </a:solidFill>
                <a:latin typeface="Arial"/>
              </a:rPr>
              <a:t>Bank of Slovenia (1)</a:t>
            </a:r>
            <a:br>
              <a:rPr sz="3200"/>
            </a:b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C</a:t>
            </a:r>
            <a:r>
              <a:rPr b="0" lang="en-GB" sz="2000" spc="-1" strike="noStrike">
                <a:solidFill>
                  <a:srgbClr val="000000"/>
                </a:solidFill>
                <a:latin typeface="Arial"/>
              </a:rPr>
              <a:t>apital investment </a:t>
            </a:r>
            <a:r>
              <a:rPr b="0" lang="sl-SI" sz="2000" spc="-1" strike="noStrike">
                <a:solidFill>
                  <a:srgbClr val="000000"/>
                </a:solidFill>
                <a:latin typeface="Arial"/>
              </a:rPr>
              <a:t>report </a:t>
            </a:r>
            <a:r>
              <a:rPr b="0" lang="en-GB" sz="2000" spc="-1" strike="noStrike">
                <a:solidFill>
                  <a:srgbClr val="000000"/>
                </a:solidFill>
                <a:latin typeface="Arial"/>
              </a:rPr>
              <a:t>among residents and non-residents</a:t>
            </a:r>
            <a:r>
              <a:rPr b="0" lang="sl-SI"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on holdings of Slovene residents abroad (directly affiliated investments abro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on holdings of directly affiliated companies abroad in other companies abroad (indirectly affiliated investments abroad) on condition that directly and indirectly affiliated investments equal or are greater than 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on holdings of non-residents in companies in Slovenia (directly affiliated investments in Sloven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ank of Slovenia (2)</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ities obliged to report (i.e. reporting units) 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dents – legal persons and individual private entrepreneurs that in the reporting year owned participating interest or shares of legal persons abroad, founded an affiliate abroad (performing profit activity) or owned real estate abro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dents in which the reporting year non-residents (legal and natural persons) are owners of participating interest or shares of legal persons abroad, founders of an affiliate (performing profit activity), and (co)founders of an institution or foundation in the Republic of Sloveni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eneva, 18-19 June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3T10:42:55Z</dcterms:created>
  <dc:creator>Aleksandra Lešnjek</dc:creator>
  <dc:description/>
  <dc:language>en-US</dc:language>
  <cp:lastModifiedBy>Aleksandra Lešnjek</cp:lastModifiedBy>
  <dcterms:modified xsi:type="dcterms:W3CDTF">2007-06-04T09:55:07Z</dcterms:modified>
  <cp:revision>11</cp:revision>
  <dc:subject/>
  <dc:title>Use of administrative sources for identification of EGs in Slovenia </dc:title>
</cp:coreProperties>
</file>