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61FA-9FF8-4722-BD71-ADABE2F6D9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DF9C-B2F9-496C-A9CF-E4A4828B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FD08-D729-40E5-8131-49D982E6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936D-8659-4707-9383-04C51E300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BFBA-E5EF-45A3-83D4-D9D1F2FE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B44B-8ED3-4A3F-A0B2-C4940F45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6A08-A420-4835-B726-C0A0497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FD4D-C50B-43AE-9D7A-EB32D77D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15D3-6B72-4E3F-927E-13A44913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C317-3915-4625-B0D8-6744B47D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1E82-CB98-44CE-9A49-523E54A1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64D5-4634-4576-9815-47CD8C4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MetaNormalLF-Roman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93880" indent="-298440">
              <a:spcBef>
                <a:spcPts val="575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333440" indent="-239760">
              <a:spcBef>
                <a:spcPts val="5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73360" indent="-239760"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211480" indent="-238320">
              <a:spcBef>
                <a:spcPts val="575"/>
              </a:spcBef>
              <a:buClr>
                <a:srgbClr val="990033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211480" indent="-238320">
              <a:spcBef>
                <a:spcPts val="575"/>
              </a:spcBef>
              <a:buClr>
                <a:srgbClr val="000000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211480" indent="-238320">
              <a:spcBef>
                <a:spcPts val="575"/>
              </a:spcBef>
              <a:buClr>
                <a:srgbClr val="000000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7840" y="6400800"/>
            <a:ext cx="1078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E12214-0E52-4E51-9C9B-9DF42E343B4B}" type="datetime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02600" y="6400800"/>
            <a:ext cx="70488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Folie </a:t>
            </a:r>
            <a:fld id="{693BF4FE-3112-4256-81AD-AD1AB0AC7EFC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7280" y="6351480"/>
            <a:ext cx="6121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7728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"/>
          <p:cNvSpPr/>
          <p:nvPr/>
        </p:nvSpPr>
        <p:spPr>
          <a:xfrm>
            <a:off x="400320" y="6351480"/>
            <a:ext cx="2447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MetaNormalLF-Roman"/>
              </a:rPr>
              <a:t>© Statistisches Bundesamt, IV/A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440" y="1402920"/>
            <a:ext cx="82771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0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1" lang="en-US" sz="50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635148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MetaNormalLF-Roman"/>
              </a:rPr>
              <a:t>© Statistisches Bundesamt, IV/A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79520"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957240" indent="136440" algn="ctr"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436760" indent="96840" algn="ctr"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1916280" indent="56880" algn="ctr">
              <a:spcBef>
                <a:spcPts val="374"/>
              </a:spcBef>
              <a:buClr>
                <a:srgbClr val="990033"/>
              </a:buClr>
              <a:buFont typeface="MetaNormalLF-Roman"/>
              <a:buChar char="•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1916280" indent="56880">
              <a:spcBef>
                <a:spcPts val="374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1916280" indent="56880">
              <a:spcBef>
                <a:spcPts val="374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440" y="2424240"/>
            <a:ext cx="8277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gfa Rotis Semisans Ex Bold"/>
              </a:rPr>
              <a:t>German Business Register Re-Engeneering:</a:t>
            </a:r>
            <a:br>
              <a:rPr sz="3600"/>
            </a:br>
            <a:r>
              <a:rPr b="1" lang="de-DE" sz="3600" spc="-1" strike="noStrike">
                <a:solidFill>
                  <a:srgbClr val="666666"/>
                </a:solidFill>
                <a:latin typeface="Agfa Rotis Semisans Ex Bold"/>
              </a:rPr>
              <a:t>Heading for a tool to acquire, combine and connect statistical data sources</a:t>
            </a:r>
            <a:endParaRPr b="1" lang="en-US" sz="36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1440" y="4581360"/>
            <a:ext cx="8277120" cy="1368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MetaNormalLF-Roman"/>
              </a:rPr>
              <a:t>Roland Sturm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MetaNormalLF-Roman"/>
              </a:rPr>
              <a:t>Federal Statistical Office, Germany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MetaNormalLF-Roman"/>
              </a:rPr>
              <a:t>Geneva, 18. and 19. June 2007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MetaNormalLF-Roman"/>
              </a:rPr>
              <a:t>Connecting Business Registers in Germany</a:t>
            </a:r>
            <a:endParaRPr b="1" lang="en-US" sz="3200" spc="-1" strike="noStrike">
              <a:solidFill>
                <a:srgbClr val="666666"/>
              </a:solidFill>
              <a:latin typeface="MetaNormalLF-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914560" y="1752480"/>
          <a:ext cx="351468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4560" y="1752480"/>
                    <a:ext cx="351468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4F9F-409E-428F-A094-626696A02E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DAA81-1999-41A0-B4F3-72129CB57A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MetaNormalLF-Roman"/>
              </a:rPr>
              <a:t>Present situation in Business Statistics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87280" y="2060640"/>
            <a:ext cx="6840720" cy="3456000"/>
            <a:chOff x="1187280" y="2060640"/>
            <a:chExt cx="6840720" cy="3456000"/>
          </a:xfrm>
        </p:grpSpPr>
        <p:sp>
          <p:nvSpPr>
            <p:cNvPr id="95" name=""/>
            <p:cNvSpPr/>
            <p:nvPr/>
          </p:nvSpPr>
          <p:spPr>
            <a:xfrm>
              <a:off x="1187280" y="2060640"/>
              <a:ext cx="6840720" cy="34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9920" y="2273040"/>
              <a:ext cx="1973160" cy="108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5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81840" y="2273040"/>
              <a:ext cx="1841400" cy="1188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1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75880" y="3676680"/>
              <a:ext cx="3025800" cy="540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rvey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4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2720" y="4109040"/>
              <a:ext cx="1446840" cy="108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6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13240" y="4433040"/>
              <a:ext cx="2104560" cy="75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3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65880" y="3029040"/>
              <a:ext cx="2499480" cy="1296000"/>
            </a:xfrm>
            <a:prstGeom prst="rect">
              <a:avLst/>
            </a:prstGeom>
            <a:solidFill>
              <a:srgbClr val="66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2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65880" y="346104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3600" y="2920680"/>
              <a:ext cx="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12720" y="41090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12360" y="4109040"/>
              <a:ext cx="10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9040" y="3676680"/>
              <a:ext cx="65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676680"/>
              <a:ext cx="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738680" y="4217040"/>
              <a:ext cx="9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25240" y="2273040"/>
              <a:ext cx="92052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3240" y="3676680"/>
              <a:ext cx="92052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23080" y="4433040"/>
              <a:ext cx="11836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89080" y="5805360"/>
            <a:ext cx="63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etaNormalLF-Roman"/>
              </a:rPr>
              <a:t>??: white spots filled with administrative data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732B-4D2A-403F-A70D-232A8271E4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F9D36-183F-4776-9011-0F9C305E41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MetaNormalLF-Roman"/>
              </a:rPr>
              <a:t>The New Maxim of Business Statistics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5840" y="2039760"/>
            <a:ext cx="697248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F639-1474-4997-916F-411FCEF1BBC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0D250-6B3A-4C51-9002-B901CC5EAD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1440" y="836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MetaNormalLF-Roman"/>
              </a:rPr>
              <a:t>The unit data model of the New Business Register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55880" y="2060640"/>
          <a:ext cx="5446800" cy="408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955880" y="2060640"/>
                    <a:ext cx="54468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FCAB-F974-438D-8320-F46655A326D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0751C-A69B-494D-884E-EBCF73F54D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MetaNormalLF-Roman"/>
              </a:rPr>
              <a:t>Storing and connecting information in the Business Register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852640"/>
            <a:ext cx="8278560" cy="2448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participation in survey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whole populations – not only sample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combine micro data from surveys and administrative source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multiple markings to trace further source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E225-76AB-4A32-9032-0D0C3ADEBF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B7A98-B467-4C76-83CF-92C4055C83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MetaNormalLF-Roman"/>
              </a:rPr>
              <a:t>The New Business Register as a tool for data combination</a:t>
            </a:r>
            <a:endParaRPr b="1" lang="en-US" sz="2400" spc="-1" strike="noStrike">
              <a:solidFill>
                <a:srgbClr val="666666"/>
              </a:solidFill>
              <a:latin typeface="MetaNormalLF-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752480"/>
            <a:ext cx="777708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8EC4-D371-4D1F-A0EE-4F441649786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843BF-D467-480F-9910-3B705CA5C3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276640"/>
            <a:ext cx="8278560" cy="1512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MetaNormalLF-Roman"/>
              </a:rPr>
              <a:t>Thank you for your attention!</a:t>
            </a:r>
            <a:endParaRPr b="1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4148280"/>
            <a:ext cx="82789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MetaNormalLF-Roman"/>
              </a:rPr>
              <a:t>Roland Sturm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MetaNormalLF-Roman"/>
              </a:rPr>
              <a:t>Federal Statistical Office, Germany 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MetaNormalLF-Roman"/>
              </a:rPr>
              <a:t>roland.sturm@destatis.de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80B5-6B93-42DB-A3AF-F13422668F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AF5B8-6972-4EEC-BA60-4C667AE232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8:38:43Z</dcterms:created>
  <dc:creator>Opfermann-R</dc:creator>
  <dc:description/>
  <dc:language>en-US</dc:language>
  <cp:lastModifiedBy>Blanchandin</cp:lastModifiedBy>
  <cp:lastPrinted>2002-05-22T15:37:50Z</cp:lastPrinted>
  <dcterms:modified xsi:type="dcterms:W3CDTF">2007-06-15T10:43:55Z</dcterms:modified>
  <cp:revision>35</cp:revision>
  <dc:subject/>
  <dc:title>unternehmensgruppen</dc:title>
</cp:coreProperties>
</file>