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628560" cy="4683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68000" y="6140520"/>
            <a:ext cx="277164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33399"/>
                </a:solidFill>
                <a:latin typeface="Tahoma"/>
              </a:rPr>
              <a:t>18-19 июня 2007 г</a:t>
            </a:r>
            <a:r>
              <a:rPr b="0" lang="en-US" sz="1100" spc="-1" strike="noStrike">
                <a:solidFill>
                  <a:srgbClr val="333399"/>
                </a:solidFill>
                <a:latin typeface="Tahoma"/>
              </a:rPr>
              <a:t>.,</a:t>
            </a:r>
            <a:r>
              <a:rPr b="0" lang="ru-RU" sz="1100" spc="-1" strike="noStrike">
                <a:solidFill>
                  <a:srgbClr val="333399"/>
                </a:solidFill>
                <a:latin typeface="Tahoma"/>
              </a:rPr>
              <a:t> Женева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94920" y="6381360"/>
            <a:ext cx="33116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333399"/>
                </a:solidFill>
                <a:latin typeface="Tahoma"/>
              </a:rPr>
              <a:t>Совещание по коммерческим регистрам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7956720" y="189000"/>
            <a:ext cx="1008000" cy="471240"/>
          </a:xfrm>
          <a:prstGeom prst="rect">
            <a:avLst/>
          </a:prstGeom>
          <a:ln w="0">
            <a:noFill/>
          </a:ln>
        </p:spPr>
      </p:pic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395280" y="6381720"/>
            <a:ext cx="8353440" cy="0"/>
          </a:xfrm>
          <a:prstGeom prst="line">
            <a:avLst/>
          </a:prstGeom>
          <a:ln w="19080">
            <a:solidFill>
              <a:srgbClr val="0000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1676160"/>
            <a:ext cx="73598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20000" y="341280"/>
            <a:ext cx="1757160" cy="822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6720" y="2575080"/>
            <a:ext cx="4384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79400" y="257508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0560" y="2997360"/>
            <a:ext cx="422280" cy="474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0640" y="299736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200" y="2924280"/>
            <a:ext cx="628920" cy="4683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41240" y="2438280"/>
            <a:ext cx="3204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3280" y="1483920"/>
            <a:ext cx="7359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Использование административных данных для формирования статистического регистра Республики Молдова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32000" y="3500280"/>
            <a:ext cx="723240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вещание по коммерческим регистра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енева, 18-19 июня 2007 год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563760" y="5137200"/>
            <a:ext cx="830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Юрий Мокан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циональное бюро статистики Республики Молд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еимущества использования ГРПЕ органов</a:t>
            </a:r>
            <a:r>
              <a:rPr b="1" lang="ro-RO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административного</a:t>
            </a:r>
            <a:r>
              <a:rPr b="1" lang="ro-RO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управления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63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ГРПЕ </a:t>
            </a:r>
            <a:r>
              <a:rPr b="0" lang="ro-RO" sz="2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основной источник формирования административных регистров правовых единиц, в том числе регистров НБС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аличие во всех административных регистрах единых идентификационных кодов 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IDNO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и единых кодов статистических классификаторов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лучение информации в электроном виде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Любое изменение в учредительных документах правовой единицы носит обязательный характер и должно отражаться в ГРП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Недостатки использования ГРПЕ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шибки в присвоении кодов статистических классификаторов (например: определение основного вида деятельност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все единицы необходимые в статистических целях содержатся в ГРПЕ (нет информации о некоммерческих предприятиях, местных единицах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</a:t>
            </a:r>
            <a:r>
              <a:rPr b="0" i="1" lang="ro-RO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ктуализируется в полной мере все необходимые изменения (например: изменения адреса, телефона, вида деятельности, формы собственност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Регистр Крестьянских (Фермерских) Хозяйств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20680" y="2852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лектронная версия зарегистрированных крестьянских (фермерских) хозяйст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АД используемые для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ENUS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512800"/>
            <a:ext cx="7772400" cy="27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spcAft>
                <a:spcPts val="1400"/>
              </a:spcAft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дентификационные данные из регистра RENIM 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НБ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400"/>
              </a:spcBef>
              <a:spcAft>
                <a:spcPts val="1400"/>
              </a:spcAft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аза данных бухгалтерских отчетов 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НБ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400"/>
              </a:spcBef>
              <a:spcAft>
                <a:spcPts val="1400"/>
              </a:spcAft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логовый регистр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Данные содержащиеся в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ENUS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6920" y="2421000"/>
            <a:ext cx="776772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дентификационные дан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лассификационные данны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кономические данны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мографические данны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Статистические единицы, включенные в RENUS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00000" y="2421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9720" indent="-45972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авовая едини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9720" indent="-45972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рият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9720" indent="-45972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стная едини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9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Для включения местных единиц в RENUS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были предприняты следующие шаги в 2007 год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Из Налогового Регистра - структурные подразделения и объекты налогообложения предприятия, которые находятся на другом почтовом адресе, чем головное предприятия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Исключены те объекты налогообложения, которые по своему содержанию не соответствуют определениям местных единиц (земельные участки, рекламные щиты, и др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Информация о местных единицах из Налогового Регистра проверяется и актуализируется путем обследования предприятий посредством годовой структурной анкеты за 2006 год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Актуализация RENUS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66760" y="2271240"/>
            <a:ext cx="777240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87"/>
              </a:spcBef>
              <a:spcAft>
                <a:spcPts val="1687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ГРПЕ - идентификационные данные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687"/>
              </a:spcBef>
              <a:spcAft>
                <a:spcPts val="1687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База данных бухгалтерских отчетов, Налоговый Регистр и годовая структурная анкета - экономические данные, собственность, фактические виды деятельности, фактический адрес и телефон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ерспективы развития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82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Более тесное сотрудничество с держателями АИД необходимых для создания и актуализации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REN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82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Актуализация других административных регистров на основе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RENUS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(обратная связь с другими административными регистрами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82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Включение в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RENUS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статистических единиц согласно требованиями ЕС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82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оздание полноценного бизнес - регистра согласно международным требованиям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82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Разработка автоматизированного комплекса для администрирования СР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71640" y="2708280"/>
            <a:ext cx="7792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ahom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Oc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новной приоритет в стратегии развития статистики Молдовы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6000" y="2349000"/>
            <a:ext cx="7772400" cy="26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здание функционального статистического регистра (СР) согласно европейски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бования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еобходимые условия для использования Административных Источников Данных (АИД) для создания статистического регистра 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1630080"/>
            <a:ext cx="7343640" cy="46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3603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конодатель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ступ статистического органа к обобщенным и индивидуальным А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еспечение защиты полученных индивидуальных А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личие универсальных систем кодирования и классификации, использованных при создании А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ование информационных технологий при создании и управлении А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заимодействие между статистической системой и органами публичного управления, держателями А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Законодательная база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7280" y="2637000"/>
            <a:ext cx="7632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кон об официальной статистик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жегодная программа статистических рабо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20280"/>
            <a:ext cx="779292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Согласно Закону, органы официальной статистики имеют право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1440" y="2254320"/>
            <a:ext cx="77724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вать и вест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татистические регист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ать и собирать в статистических целях от всех юридических и физических лиц статистические 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дминистративные дан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есплатн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олучать от органов публичного управления, других юридических лиц необходимую информацию для формирования и обновления статистических регистр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ограмма статистических работ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361240" y="2198880"/>
            <a:ext cx="4495320" cy="4274640"/>
            <a:chOff x="2361240" y="2198880"/>
            <a:chExt cx="4495320" cy="4274640"/>
          </a:xfrm>
        </p:grpSpPr>
        <p:sp>
          <p:nvSpPr>
            <p:cNvPr id="109" name="_s222214"/>
            <p:cNvSpPr/>
            <p:nvPr/>
          </p:nvSpPr>
          <p:spPr>
            <a:xfrm>
              <a:off x="3421080" y="2198880"/>
              <a:ext cx="2374560" cy="2374560"/>
            </a:xfrm>
            <a:custGeom>
              <a:avLst/>
              <a:gdLst>
                <a:gd name="textAreaLeft" fmla="*/ 0 w 2374560"/>
                <a:gd name="textAreaRight" fmla="*/ 2374920 w 2374560"/>
                <a:gd name="textAreaTop" fmla="*/ 0 h 2374560"/>
                <a:gd name="textAreaBottom" fmla="*/ 2374920 h 23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5b43"/>
              </a:solidFill>
              <a:miter/>
            </a:ln>
            <a:effectLst>
              <a:outerShdw dist="71785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222215"/>
            <p:cNvSpPr/>
            <p:nvPr/>
          </p:nvSpPr>
          <p:spPr>
            <a:xfrm rot="4320000">
              <a:off x="4173120" y="2743920"/>
              <a:ext cx="2374560" cy="2374560"/>
            </a:xfrm>
            <a:custGeom>
              <a:avLst/>
              <a:gdLst>
                <a:gd name="textAreaLeft" fmla="*/ 0 w 2374560"/>
                <a:gd name="textAreaRight" fmla="*/ 2374920 w 2374560"/>
                <a:gd name="textAreaTop" fmla="*/ 0 h 2374560"/>
                <a:gd name="textAreaBottom" fmla="*/ 2374920 h 23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5b43"/>
              </a:solidFill>
              <a:miter/>
            </a:ln>
            <a:effectLst>
              <a:outerShdw dist="71785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22216"/>
            <p:cNvSpPr/>
            <p:nvPr/>
          </p:nvSpPr>
          <p:spPr>
            <a:xfrm rot="8640000">
              <a:off x="3884760" y="3627720"/>
              <a:ext cx="2375280" cy="2374200"/>
            </a:xfrm>
            <a:custGeom>
              <a:avLst/>
              <a:gdLst>
                <a:gd name="textAreaLeft" fmla="*/ 0 w 2375280"/>
                <a:gd name="textAreaRight" fmla="*/ 2375640 w 2375280"/>
                <a:gd name="textAreaTop" fmla="*/ 0 h 2374200"/>
                <a:gd name="textAreaBottom" fmla="*/ 2374200 h 237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5b43"/>
              </a:solidFill>
              <a:miter/>
            </a:ln>
            <a:effectLst>
              <a:outerShdw dist="71785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22217"/>
            <p:cNvSpPr/>
            <p:nvPr/>
          </p:nvSpPr>
          <p:spPr>
            <a:xfrm rot="12960000">
              <a:off x="2956320" y="3628080"/>
              <a:ext cx="2374560" cy="2374200"/>
            </a:xfrm>
            <a:custGeom>
              <a:avLst/>
              <a:gdLst>
                <a:gd name="textAreaLeft" fmla="*/ 0 w 2374560"/>
                <a:gd name="textAreaRight" fmla="*/ 2374920 w 2374560"/>
                <a:gd name="textAreaTop" fmla="*/ 0 h 2374200"/>
                <a:gd name="textAreaBottom" fmla="*/ 2374200 h 237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5b43"/>
              </a:solidFill>
              <a:miter/>
            </a:ln>
            <a:effectLst>
              <a:outerShdw dist="71785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22218"/>
            <p:cNvSpPr/>
            <p:nvPr/>
          </p:nvSpPr>
          <p:spPr>
            <a:xfrm rot="17280000">
              <a:off x="2669760" y="2743920"/>
              <a:ext cx="2374560" cy="2374560"/>
            </a:xfrm>
            <a:custGeom>
              <a:avLst/>
              <a:gdLst>
                <a:gd name="textAreaLeft" fmla="*/ 0 w 2374560"/>
                <a:gd name="textAreaRight" fmla="*/ 2374920 w 2374560"/>
                <a:gd name="textAreaTop" fmla="*/ 0 h 2374560"/>
                <a:gd name="textAreaBottom" fmla="*/ 2374920 h 23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5b43"/>
              </a:solidFill>
              <a:miter/>
            </a:ln>
            <a:effectLst>
              <a:outerShdw dist="71785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22219"/>
            <p:cNvSpPr/>
            <p:nvPr/>
          </p:nvSpPr>
          <p:spPr>
            <a:xfrm>
              <a:off x="5866200" y="4289040"/>
              <a:ext cx="87336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ahoma"/>
                </a:rPr>
                <a:t>Держатели А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22220"/>
            <p:cNvSpPr/>
            <p:nvPr/>
          </p:nvSpPr>
          <p:spPr>
            <a:xfrm>
              <a:off x="2477160" y="4289040"/>
              <a:ext cx="87336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ahoma"/>
                </a:rPr>
                <a:t>Периодичность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ahoma"/>
                </a:rPr>
                <a:t>получения А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22221"/>
            <p:cNvSpPr/>
            <p:nvPr/>
          </p:nvSpPr>
          <p:spPr>
            <a:xfrm>
              <a:off x="5217840" y="2297880"/>
              <a:ext cx="873000" cy="87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ahoma"/>
                </a:rPr>
                <a:t>Перечень А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222222"/>
            <p:cNvSpPr/>
            <p:nvPr/>
          </p:nvSpPr>
          <p:spPr>
            <a:xfrm>
              <a:off x="4171320" y="5520240"/>
              <a:ext cx="87336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ahoma"/>
                </a:rPr>
                <a:t>Разрез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ahoma"/>
                </a:rPr>
                <a:t>разработки АД</a:t>
              </a:r>
              <a:r>
                <a:rPr b="1" lang="ru-RU" sz="13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22223"/>
            <p:cNvSpPr/>
            <p:nvPr/>
          </p:nvSpPr>
          <p:spPr>
            <a:xfrm>
              <a:off x="3125160" y="2297880"/>
              <a:ext cx="873360" cy="87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ahoma"/>
                </a:rPr>
                <a:t>Срок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ahoma"/>
                </a:rPr>
                <a:t>представления А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Регистры НБС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Комплекс RENIM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ahoma"/>
              </a:rPr>
              <a:t>(Национальный межадминистративный регистр Молдовы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RENUS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ahoma"/>
              </a:rPr>
              <a:t>(Национальный регистр статистических единиц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Регистр крестьянских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фермерских)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озяйств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42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АД используемые для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ENIM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223720"/>
            <a:ext cx="7772400" cy="34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Государственный регистр правовых единиц (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ГРПЕ)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ahoma"/>
              </a:rPr>
              <a:t>(Министерство информационного  развития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Государственный регистр некоммерческих организации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ahoma"/>
              </a:rPr>
              <a:t>(Министерство юстиции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еимущества при регистрации посредством единого окна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01"/>
              </a:spcBef>
              <a:spcAft>
                <a:spcPts val="13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Быстрота регистрирования (возможность регистрации в течение 1 дня, а также через Интернет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01"/>
              </a:spcBef>
              <a:spcAft>
                <a:spcPts val="13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Удобство (правовой единице присваиваются все идентификационные данные в одном месте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01"/>
              </a:spcBef>
              <a:spcAft>
                <a:spcPts val="13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Уменьшение затрат по регистрации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06:23:32Z</dcterms:created>
  <dc:creator>Andrew Shontsu</dc:creator>
  <dc:description/>
  <dc:language>en-US</dc:language>
  <cp:lastModifiedBy>Blanchandin</cp:lastModifiedBy>
  <dcterms:modified xsi:type="dcterms:W3CDTF">2007-06-08T08:29:46Z</dcterms:modified>
  <cp:revision>150</cp:revision>
  <dc:subject/>
  <dc:title>Использование административных источников данных в статистических целях   в Республике Молдо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7D54B6F435102043B67579E0C4986DECA4482A00</vt:lpwstr>
  </property>
  <property fmtid="{D5CDD505-2E9C-101B-9397-08002B2CF9AE}" pid="3" name="_ReviewCycleID">
    <vt:r8>-136348131</vt:r8>
  </property>
  <property fmtid="{D5CDD505-2E9C-101B-9397-08002B2CF9AE}" pid="4" name="_ReviewingToolsShownOnce">
    <vt:lpwstr/>
  </property>
</Properties>
</file>