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09240" y="3962160"/>
            <a:ext cx="852012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924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532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89960" y="121104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70680" y="121104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09240" y="396216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89960" y="396216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70680" y="396216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09240" y="-6480"/>
            <a:ext cx="8520120" cy="47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0924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532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9240" y="3962160"/>
            <a:ext cx="852012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09240" y="3962160"/>
            <a:ext cx="852012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924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532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89960" y="121104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70680" y="121104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09240" y="396216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89960" y="396216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70680" y="396216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09240" y="-6480"/>
            <a:ext cx="8520120" cy="47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0924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532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9240" y="3962160"/>
            <a:ext cx="852012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4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366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4448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0" y="1038240"/>
            <a:ext cx="9144000" cy="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61960" y="3768480"/>
            <a:ext cx="684864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 flipH="1">
            <a:off x="1739520" y="3619440"/>
            <a:ext cx="7404120" cy="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936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44280" algn="ctr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68482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Business Register Outputs in Support of Regional Policy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909800" y="4519080"/>
            <a:ext cx="6400800" cy="10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hn Per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K Office for National Stati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 Sour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poration Ta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4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k to Company Annual  Accou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4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eds new legal gate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4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od indicator of trading busin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4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nge of accounting var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4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tential for reducing compli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el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4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ercial 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4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od source for business telephone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4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icult to use to extend cover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4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sharing require some 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eg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orking with the reg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S appointed statisticians in the English regions in April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-located with the Regional Development Agencies (RD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DA responsible for  economic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 done to establish the statistical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ining needed in use of the business regi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gional data require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itor turnover and employment changes in their ar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 clusters of businesses to monitor perform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itor businesses receiving assistance against other busin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 with local planning author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feedback on business register quality based on local knowled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gal Framewor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ata access limited by current legis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tistical use of disclosive and micro data permitted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4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overnment departments – including the ONS regional statistici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4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ocal author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4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 other public bod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4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overnment contrac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ot RDA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ing ac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stics and Registration Bill to create an independent 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s provisions to enable wider data sharing with public bo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requires secondary legislation to impl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llows the April 2008 creation of independent 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interim, ONS regional statisticians will be an important channel for dissemination of disclosure-free outpu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9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uality improvement (extended coverage, better surveys and more focus to business profiling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9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e small area outpu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9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mproved support  for regional custom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Projec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nhanced outputs for regional accounts and other regional enterprise statistics, in support of the Review of Statistics for Economic Policymaking (Allsopp Review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vision of small area outputs, in support of the UK government Neighbourhood Statistics Program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Inter-Departmental Business Register (IDBR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09600" y="1211400"/>
            <a:ext cx="8520120" cy="52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isting Sour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18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rrent coverage of enterpr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7680" indent="-271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T Tra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7680" indent="-271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YE Tax Employ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7680" indent="-271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orted b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24000" indent="-226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anies House registr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24000" indent="-226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un and Bradstreet link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24000" indent="-226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S and other statistical survey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8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8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ing coverage of enterpr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7680" indent="-271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m Companies Ho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7680" indent="-271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ying those without VAT or PAYE regis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7680" indent="-271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ting to see which should be on the IDB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7680" indent="-271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ishing rules for ad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ing qual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ost for the Business Register Survey for small enterpris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ed business profi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rged the Business Register Survey with the employment collection within the Structural Business 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ing a replacement Business Register and Employment 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4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tter local unit employment estim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4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l turnover estimates (subject to a successful pilot in 200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isting Outpu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urvey samples and survey pop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sts of businesses - confident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ub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4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K Businesses on National Statistics web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4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usiness demography on DTI web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abulations to user specifications, including disclosive fig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 Outpu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all area tables for enterprises and local units on the Neighbourhood Statistics web 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4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d on 2001 Population Census output are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4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 tables in 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4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 in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tables for “UK Business” publ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4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liamentary Constituen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4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local unit 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tools for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4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active cha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4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active ma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448920" cy="7086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6T10:39:58Z</dcterms:created>
  <dc:creator>allena</dc:creator>
  <dc:description/>
  <dc:language>en-US</dc:language>
  <cp:lastModifiedBy>perryj</cp:lastModifiedBy>
  <dcterms:modified xsi:type="dcterms:W3CDTF">2007-05-16T06:32:47Z</dcterms:modified>
  <cp:revision>18</cp:revision>
  <dc:subject/>
  <dc:title>Slide 1</dc:title>
</cp:coreProperties>
</file>