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97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701640" y="742680"/>
            <a:ext cx="5378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943128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41920" y="9431280"/>
            <a:ext cx="29397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CB55D4-B364-422D-A486-18506F6426B4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70488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3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A1747-5B76-4A84-8C3A-B503E0B1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A6F6-D3ED-4B4E-A5FA-E7C066C9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04CDE-9935-496C-894A-C566A488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C5CB-40AB-4A7B-B203-AB249C86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CA73-1CBF-4D55-AA6A-C99C6A3C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E3E5-BC16-4AC2-A0AD-ED9778B8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A341-2FB2-4FDC-81AC-946E4C8E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36DEE-F255-4CA7-BA74-4B59E567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CD75-4F9F-4CBC-8AA0-575F726D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91C1-C526-467C-ADB3-9D929F2D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D33D-8BC1-44FA-AA56-B7DCDFCD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E01C-8FFA-4A87-9EC6-F2C25706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5BB9-0CB4-46AF-B842-0CDB0FCF65B4}" type="datetime">
              <a:rPr b="0" lang="fi-FI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01240" y="6552720"/>
            <a:ext cx="552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CDED-5E08-4057-A0B0-8DA589105E25}" type="slidenum">
              <a:rPr b="0" lang="fi-FI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409720" y="6552720"/>
            <a:ext cx="221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usiness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459400" y="6516720"/>
            <a:ext cx="4446720" cy="36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82600" y="304920"/>
            <a:ext cx="307008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267080" cy="760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361200"/>
            <a:ext cx="9926640" cy="573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56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18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2100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1080" y="228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Business Register and administrative data -</a:t>
            </a:r>
            <a:br>
              <a:rPr sz="3700"/>
            </a:b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rounds for effective 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duction of economic stat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90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int UNECE/Eurostat/OECD Seminar on Business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neva, 18-19 June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nele Orjala and Tuula Viitaharju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stics 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he use of Admin data still incr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test admin data in use (2007 onw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data on owners and partnership members (Tax adminis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data farm register (Information Centre of the Ministry of Agriculture and Fore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6DE7-2A0F-4C62-A75F-1D4477AF74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4D1F5-F04E-4F68-9050-15A43232A5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19044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e13955"/>
                </a:solidFill>
                <a:latin typeface="Arial"/>
              </a:rPr>
              <a:t>Identifiers of statistical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 identifiers used in all data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19044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e13955"/>
                </a:solidFill>
                <a:latin typeface="Arial"/>
              </a:rPr>
              <a:t>Class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cally taken from bas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19044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e13955"/>
                </a:solidFill>
                <a:latin typeface="Arial"/>
              </a:rPr>
              <a:t>Statistical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cally taken from bas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80520" y="990720"/>
            <a:ext cx="8929800" cy="963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tion system architecture at Statistics Finla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1523880"/>
            <a:ext cx="419112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90440" indent="-190440"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1905120"/>
            <a:ext cx="4496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2502d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e13955"/>
              </a:buClr>
              <a:buFont typeface="Arial"/>
              <a:buChar char="•"/>
              <a:tabLst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e13955"/>
                </a:solidFill>
                <a:latin typeface="Arial"/>
              </a:rPr>
              <a:t>Data copied from one system to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cally, “shared” data is copied to each data system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e13955"/>
              </a:buClr>
              <a:buFont typeface="Arial"/>
              <a:buChar char="•"/>
              <a:tabLst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e13955"/>
                </a:solidFill>
                <a:latin typeface="Arial"/>
              </a:rPr>
              <a:t>Business register has about 300 users (out of 600 persons employed in statistics divis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population statistics, price statistics, labour force survey, national accounts, business statistic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B2032-9D47-4D24-9505-769F9E864D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141E5-E944-43F1-BEF4-2534381D85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95320" y="304920"/>
            <a:ext cx="4496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s based on registers - pre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560" y="1295280"/>
            <a:ext cx="290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iversal ID-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ings, apar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438280" y="2895480"/>
            <a:ext cx="3895200" cy="1066680"/>
            <a:chOff x="2438280" y="2895480"/>
            <a:chExt cx="3895200" cy="1066680"/>
          </a:xfrm>
        </p:grpSpPr>
        <p:sp>
          <p:nvSpPr>
            <p:cNvPr id="130" name=""/>
            <p:cNvSpPr/>
            <p:nvPr/>
          </p:nvSpPr>
          <p:spPr>
            <a:xfrm>
              <a:off x="2498040" y="2971440"/>
              <a:ext cx="383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Tahoma"/>
                </a:rPr>
                <a:t>Acceptance by the people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Tahoma"/>
                </a:rPr>
                <a:t>businesses and administ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8280" y="2895480"/>
              <a:ext cx="3810240" cy="10666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flipV="1">
            <a:off x="3048120" y="251424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3581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267080" y="24379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2057400"/>
            <a:ext cx="68580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34120" y="18352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ID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809880" y="4876920"/>
            <a:ext cx="0" cy="3045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581280" y="4114800"/>
            <a:ext cx="0" cy="3808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781680" y="5105520"/>
            <a:ext cx="685800" cy="3045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46520" y="4495680"/>
            <a:ext cx="39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rict confidentiality in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53040" y="5181480"/>
            <a:ext cx="423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p-to-date legi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statistics 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personal information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07280" y="1600200"/>
            <a:ext cx="222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ll deve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T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58920" y="3352680"/>
            <a:ext cx="143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ssi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use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tistic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2057400"/>
            <a:ext cx="45720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29600" y="2743200"/>
            <a:ext cx="0" cy="4572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676520" y="3276720"/>
            <a:ext cx="685800" cy="3045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505320"/>
            <a:ext cx="221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ith other register/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 provider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1219320"/>
            <a:ext cx="9448920" cy="5105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92494-94A2-45C3-A253-6E7A161552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72E9F-EEA1-450D-8D7A-93A19E9E9C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ing Administrative and Survey Data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: STS - Short Term Business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monthly VAT (Value added tax) and PAYE (pay as you earn) data file of the Tax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-15840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tal coverage of units (200 000 statistical units, 150 observations, 40 variab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-15840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ach release covers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-15840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delay: one-two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BR: units, classification variables, sample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irect surveys: 2000 largest enterprises from industry, construction, trade and oth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gional STS -&gt; to use local kind of activity unit data from the BR to disaggregate monthly enterprise level VAT data to a regional, establishmen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3B0AF-7EE9-4941-A863-D869E0911B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5DE77-FC87-4D70-B3AE-50262C4D10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991720" cy="396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 fontScale="97000"/>
          </a:bodyPr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mber of enterpris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rect colle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ministrati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 Business Statisti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8 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Regist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 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over 41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 Term Business Statistic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rno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2 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0 00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ges and salar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9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0 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601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en for enterprises in direct collection some data are taken from administrative sour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990360"/>
            <a:ext cx="8929440" cy="609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collection vs. the use of administrative Data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ax authorities in statistics on ente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392D-1804-402B-9463-C8497CE5CE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BFE19-4AF7-46B6-B639-0E785F0873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siness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362680"/>
            <a:ext cx="39020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inquiry on foreign trade in servi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uthority (Virati) data collections (A and T data collectio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ilding cost index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siness Register inquiry for multi-establishment enterpris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siness Register inquiry for new enterpris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siness Register inquiry for single-establishment enterpris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siness Register inquiry for small single-establishment enterpris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siness servi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VTS, Continuing Vocational Training Surve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redit card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ata collection on occupation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ata collection on personnel of multi-establishment enterprises for employment statistic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nergy production inqui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nergy use in manufactur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nterprises' research and develop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nvironmental protection expenditure in indust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inance of housing corporation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inancial leasing inqui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inancial statements inquiry for enterprises (TILKE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inancial statements of mutual funds and investment management compan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orest workers' wag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480" y="991440"/>
            <a:ext cx="3583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ome and expenditure of foreign sea trans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formation technology and electronic commerce in enterpris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novation surve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for industrial establishments (T5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on cost indi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on incentive stock option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on manufacturing commodit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on new orders in manufactur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on postal and small freight deliver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on private sector wages and salar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on volume index of industrial outpu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ventory inqui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Job vacancy surve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onthly inquiry for accommodation statistic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onthly inquiry for iron and steel statistic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utual fund inqui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Outstanding credi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eriodic survey of motor vehicle tr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eriodical regional survey of tr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eriodical survey of retail tr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eriodical survey of wholesale tr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ice inquiry on producer price indices for manufactured produc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ducer price indices for servi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Quarterly inquiry on international trade in servi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Quarterly inquiry on labour cos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outstanding credi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novation building of construction enterpris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novation building of housing corporation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ales inqui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atistics on agricultu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atistics on goods trans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elecommunications inqui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inquiry on financial accou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167400"/>
            <a:ext cx="390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re information on survey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stat.fi/keruu/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ex_e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294560"/>
            <a:ext cx="404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Altogether about 60 direct surv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9553-C2E1-4B27-9523-018AE5DE0C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AB862-0054-43E2-A802-AAF67FD7F7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er of enterprise responden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enlargement of the Business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tablish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ocated in the BR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rates as an inner service register of statistics, also respondents get information of the inquiries they are pick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t of the program leadership: enterprise respondent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742F-C0F3-451B-82E4-265A3AEF90F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D2423-9276-41A8-85BB-33C94FDEB2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Es and response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90720" indent="-9072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of enterprises in our surveys is as follow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2514600"/>
          <a:ext cx="8602920" cy="160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14600"/>
                    <a:ext cx="860292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609480" y="434340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marL="35280" indent="-35280">
              <a:lnSpc>
                <a:spcPct val="100000"/>
              </a:lnSpc>
              <a:spcBef>
                <a:spcPts val="4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enterprises in class 0-9   16 700 are only in Business Register surv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280" indent="-35280">
              <a:lnSpc>
                <a:spcPct val="100000"/>
              </a:lnSpc>
              <a:spcBef>
                <a:spcPts val="4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enterprises in class 0-9 only 800 are in monthly and 5900 in quarterly 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280" indent="-35280">
              <a:lnSpc>
                <a:spcPct val="100000"/>
              </a:lnSpc>
              <a:spcBef>
                <a:spcPts val="4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enterprises in class 10-49  5100 are only in Business Register surv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280" indent="-35280">
              <a:lnSpc>
                <a:spcPct val="100000"/>
              </a:lnSpc>
              <a:spcBef>
                <a:spcPts val="4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enterprises in class 10-49 only 650 are in monthly and 350 in quarterly survey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280" indent="-35280">
              <a:lnSpc>
                <a:spcPct val="100000"/>
              </a:lnSpc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 seems to be limited possibilities to reduce the numbers furt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8A0B3-A994-40B5-956A-894BE37D72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BA11B-109A-4D21-A6C7-5E1AF9FCF5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goals of the Business Register - ground for effective production of economic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lob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-15840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-15840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nternational co-operation around multinational corporations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rategic means in improving coh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ew strategy for economic statistics: the BR as a common frame of business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larging the scope of the 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-15840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ew industrial sectors and new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re real time BR with interactive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-15840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nfra an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4F71-C1D2-440C-AE7F-D8986ABFC8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8B548-E7F6-46C8-B7F6-856A08E908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4520" y="83628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1440" y="206064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ing innovative and competitive ways of reusing collected data gathered by the public or other sectors in society are essential concerns of toda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 of co-operation is very much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t practices are in high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AFB5-4551-4433-97FE-F4A334BF54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8D092-504D-4D6E-B508-8D22BFDC2A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asons and preconditions for the use of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production process of statistics in Statistics Fin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administrative sources of the Business Register (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information system architecture of Statistics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gister of enterprise respon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rategic goals of the 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2A8C3-F896-4F5D-9CBD-54158A664E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5C519-6840-4ED5-9768-2E2204D408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nnele.orjala@stat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ula.viitaharju@stat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DB6F8-8DE0-4B7C-96ED-557F92F3416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5204A-FE6C-446E-BCA2-48137122B9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175248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8520" y="1125000"/>
            <a:ext cx="880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reasons for using admin data are as fol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04520" y="220464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tion of the response burden of enterpri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tion of the costs of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the cost-effectiveness and coherence of statistics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 users high quality statistics by using total populations and producing detailed classif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the ability to compile small area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s an extensive basis for revision analysis and the follow-up of statistics based on directly collec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EC71-4A85-4661-8245-1DA157B08D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5F44B-4BD5-4354-A88D-FDD4FB0FA4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75248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0160" y="105264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pre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1440" y="191628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nciples of the Finnish Statistics act (200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compulsory to use existing data (if sui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 government and social security institu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obliged to deliver their data to Statistics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arantees access to administrativ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 of charge, compensation of direct cost of larger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confidentiality: some of the BR is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6129-2326-40FE-A89D-DFE879B3D1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9D70B-940E-4E4F-A4F8-226736A710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60160" y="475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ing - precondition for use of administrativ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04520" y="14839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0640" indent="-1706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ing at the state level: Register Board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695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on development and co-operation between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695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strategic level definitions of the register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695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ure integration of the registers, promote data secur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ing at data providers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695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ordinators inside Statistics Finland to take care of administrative data providers, registers and other statistics produc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5800" indent="-17064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on the statistical questions: quantity, coverage,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695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meetings at the Director General level: bi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CC0A-79A1-4C8F-BC37-C9F9B5CE75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816E0-1C4D-459F-8203-5ABD0160C0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duction process of statistics in Statistics Finlan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88880" y="2060640"/>
          <a:ext cx="9034560" cy="26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2060640"/>
                    <a:ext cx="903456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V="1">
            <a:off x="3200400" y="3962160"/>
            <a:ext cx="0" cy="990360"/>
          </a:xfrm>
          <a:prstGeom prst="line">
            <a:avLst/>
          </a:prstGeom>
          <a:ln w="28440">
            <a:solidFill>
              <a:srgbClr val="e1395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895120" y="4952520"/>
            <a:ext cx="4133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he Business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he survey frame and tool for 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he source of basic information of all relevant statistical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952880"/>
            <a:ext cx="4114800" cy="1524240"/>
          </a:xfrm>
          <a:prstGeom prst="rect">
            <a:avLst/>
          </a:prstGeom>
          <a:noFill/>
          <a:ln w="28440">
            <a:solidFill>
              <a:srgbClr val="e13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895480"/>
            <a:ext cx="1981080" cy="1295640"/>
          </a:xfrm>
          <a:prstGeom prst="ellipse">
            <a:avLst/>
          </a:prstGeom>
          <a:noFill/>
          <a:ln w="28440">
            <a:solidFill>
              <a:srgbClr val="e13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248520" y="4076280"/>
            <a:ext cx="0" cy="919080"/>
          </a:xfrm>
          <a:prstGeom prst="line">
            <a:avLst/>
          </a:prstGeom>
          <a:ln w="28440">
            <a:solidFill>
              <a:srgbClr val="e1395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29240" y="2852640"/>
            <a:ext cx="1297080" cy="1295640"/>
          </a:xfrm>
          <a:prstGeom prst="ellipse">
            <a:avLst/>
          </a:prstGeom>
          <a:noFill/>
          <a:ln w="28440">
            <a:solidFill>
              <a:srgbClr val="e13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AECA-84D2-4024-9200-3A1477CE0ADC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4E362-6CC2-4141-825D-37F73ED413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iness Regist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and large business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tral and local government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kind-of-activity units (local KA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pris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er covers all NACE se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10 000 active enter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80 000 active local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0D95-56EE-4C41-8C44-2381DEC64F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D437B-92B9-4712-A561-28574749BA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iness Register; sources and update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ive sources, other mass data (priv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data collection, BR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edback information from other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ing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thly, annu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data for each statistical year (t) are completed in 10 months =&gt; by the end of October (t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075E-CC62-4F4C-935B-A4DEC1833E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77DC3-DBFE-4785-B7FB-F355902174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sources of Business Regist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1523880"/>
          <a:ext cx="7696440" cy="4970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76964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05480" y="40968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fb1f39"/>
                </a:solidFill>
                <a:latin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949AE-4FB2-467D-8306-15E9E0110C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71A3C-51D6-4CEB-B0FF-AF1CCAE69D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20:07:07Z</dcterms:created>
  <dc:creator>orjala</dc:creator>
  <dc:description/>
  <dc:language>en-US</dc:language>
  <cp:lastModifiedBy>Blanchandin</cp:lastModifiedBy>
  <cp:lastPrinted>2007-06-15T05:41:01Z</cp:lastPrinted>
  <dcterms:modified xsi:type="dcterms:W3CDTF">2007-06-15T16:05:20Z</dcterms:modified>
  <cp:revision>19</cp:revision>
  <dc:subject/>
  <dc:title>Otsikkodia</dc:title>
</cp:coreProperties>
</file>