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97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701640" y="742680"/>
            <a:ext cx="5378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943128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41920" y="9431280"/>
            <a:ext cx="29397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3EF028-0E89-4483-875D-3E89E2E4BF43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70488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7520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3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5ED99-905F-49F7-B3E0-DDC9C211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CFDCF-A2F8-459E-86E7-D914E8FB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BC670-5216-4077-8EDF-CF76F821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8578F-4D11-4861-AAF2-1BACD97F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971CF-039E-4CC5-B25E-1C45D62F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48612-94EF-483B-903E-D6B2D220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CF6FB-3EC3-467E-A56C-DE40EC7F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BF983-BBFA-49C6-90CE-DD501BD0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515FE-ED3C-4F3C-8C9C-161F9CF9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24282-941D-44AD-B7FA-1DFCEBC5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6B83-FEC8-4918-929D-E76B61F1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62FE-F86C-4555-AF96-6B01FCAB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020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936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530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4F2F-88B6-410C-B2D0-F2222F50BCA2}" type="datetime">
              <a:rPr b="0" lang="fi-FI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201240" y="6552720"/>
            <a:ext cx="552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7A22-BB3B-421E-B300-3ED39CAD2A19}" type="slidenum">
              <a:rPr b="0" lang="fi-FI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5409720" y="6552720"/>
            <a:ext cx="221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usiness Tre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459400" y="6516720"/>
            <a:ext cx="4446720" cy="36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82600" y="304920"/>
            <a:ext cx="307008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267080" cy="760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361200"/>
            <a:ext cx="9926640" cy="573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556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18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2100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1080" y="228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Business Register and administrative data -</a:t>
            </a:r>
            <a:br>
              <a:rPr sz="3700"/>
            </a:b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grounds for effective </a:t>
            </a:r>
            <a:br>
              <a:rPr sz="2500"/>
            </a:b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duction of economic statis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90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oint UNECE/Eurostat/OECD Seminar on Business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neva, 18-19 June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nele Orjala and Tuula Viitaharju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istics 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he use of Admin data still incre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test admin data in use (2007 onwa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data on owners and partnership members (Tax adminis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data farm register (Information Centre of the Ministry of Agriculture and Fore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7E37B-E8F4-43ED-961E-2E105B9ADF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55CB6-4618-4603-94FB-3E0FE81412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4800600" cy="4572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190440">
              <a:spcBef>
                <a:spcPts val="499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000" spc="-1" strike="noStrike">
                <a:solidFill>
                  <a:srgbClr val="e13955"/>
                </a:solidFill>
                <a:latin typeface="Arial"/>
              </a:rPr>
              <a:t>Identifiers of statistical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on identifiers used in all data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190440">
              <a:spcBef>
                <a:spcPts val="499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000" spc="-1" strike="noStrike">
                <a:solidFill>
                  <a:srgbClr val="e13955"/>
                </a:solidFill>
                <a:latin typeface="Arial"/>
              </a:rPr>
              <a:t>Class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cally taken from base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190440">
              <a:spcBef>
                <a:spcPts val="499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000" spc="-1" strike="noStrike">
                <a:solidFill>
                  <a:srgbClr val="e13955"/>
                </a:solidFill>
                <a:latin typeface="Arial"/>
              </a:rPr>
              <a:t>Statistical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cally taken from base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380520" y="990720"/>
            <a:ext cx="8929800" cy="9633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ormation system architecture at Statistics Finland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1523880"/>
            <a:ext cx="419112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190440" indent="-190440"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1905120"/>
            <a:ext cx="4496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000" spc="-1" strike="noStrike">
                <a:solidFill>
                  <a:srgbClr val="2502d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e13955"/>
              </a:buClr>
              <a:buFont typeface="Arial"/>
              <a:buChar char="•"/>
              <a:tabLst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000" spc="-1" strike="noStrike">
                <a:solidFill>
                  <a:srgbClr val="e13955"/>
                </a:solidFill>
                <a:latin typeface="Arial"/>
              </a:rPr>
              <a:t>Data copied from one system to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cally, “shared” data is copied to each data system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e13955"/>
              </a:buClr>
              <a:buFont typeface="Arial"/>
              <a:buChar char="•"/>
              <a:tabLst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000" spc="-1" strike="noStrike">
                <a:solidFill>
                  <a:srgbClr val="e13955"/>
                </a:solidFill>
                <a:latin typeface="Arial"/>
              </a:rPr>
              <a:t>Business register has about 300 users (out of 600 persons employed in statistics divis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population statistics, price statistics, labour force survey, national accounts, business statistic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4F914-145F-4D88-B9DD-9A47EE548F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51DBC-4207-4F5E-9ED7-5432EAE894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95320" y="304920"/>
            <a:ext cx="4496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stics based on registers - pre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5560" y="1295280"/>
            <a:ext cx="290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iversal ID-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Per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ings, apar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438280" y="2895480"/>
            <a:ext cx="3895200" cy="1066680"/>
            <a:chOff x="2438280" y="2895480"/>
            <a:chExt cx="3895200" cy="1066680"/>
          </a:xfrm>
        </p:grpSpPr>
        <p:sp>
          <p:nvSpPr>
            <p:cNvPr id="130" name=""/>
            <p:cNvSpPr/>
            <p:nvPr/>
          </p:nvSpPr>
          <p:spPr>
            <a:xfrm>
              <a:off x="2498040" y="2971440"/>
              <a:ext cx="383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Tahoma"/>
                </a:rPr>
                <a:t>Acceptance by the people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Tahoma"/>
                </a:rPr>
                <a:t>businesses and administ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38280" y="2895480"/>
              <a:ext cx="3810240" cy="10666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 flipV="1">
            <a:off x="3048120" y="251424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35812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267080" y="243792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2057400"/>
            <a:ext cx="68580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34120" y="18352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IDE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809880" y="4876920"/>
            <a:ext cx="0" cy="3045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581280" y="4114800"/>
            <a:ext cx="0" cy="38088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781680" y="5105520"/>
            <a:ext cx="685800" cy="3045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46520" y="4495680"/>
            <a:ext cx="39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rict confidentiality in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53040" y="5181480"/>
            <a:ext cx="423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p-to-date legi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statistics 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personal information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07280" y="1600200"/>
            <a:ext cx="222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ll develo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T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admin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58920" y="3352680"/>
            <a:ext cx="143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ssi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use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tistic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2057400"/>
            <a:ext cx="45720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29600" y="2743200"/>
            <a:ext cx="0" cy="4572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676520" y="3276720"/>
            <a:ext cx="685800" cy="3045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505320"/>
            <a:ext cx="2211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t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ith other register/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a provider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1219320"/>
            <a:ext cx="9448920" cy="5105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7A29C-DBBA-44F8-8E7E-890496EF6E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269DD-6213-45AC-B81D-560920C975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ing Administrative and Survey Data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: STS - Short Term Business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8420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59480" indent="-1594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monthly VAT (Value added tax) and PAYE (pay as you earn) data file of the Tax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6000" indent="-158400">
              <a:spcBef>
                <a:spcPts val="499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otal coverage of units (200 000 statistical units, 150 observations, 40 variabl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6000" indent="-158400">
              <a:spcBef>
                <a:spcPts val="499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ach release covers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6000" indent="-158400">
              <a:spcBef>
                <a:spcPts val="499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delay: one-two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BR: units, classification variables, samples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Direct surveys: 2000 largest enterprises from industry, construction, trade and oth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egional STS -&gt; to use local kind of activity unit data from the BR to disaggregate monthly enterprise level VAT data to a regional, establishmen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6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6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866D-2322-44FF-AE15-74163EE39C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FC4DA-8FB6-4F48-A446-7874F11562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991720" cy="396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 fontScale="97000"/>
          </a:bodyPr>
          <a:p>
            <a:pPr marL="18468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mber of enterpris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rect colle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ministrati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 Business Statisti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8 0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Regist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5 0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over 41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 Term Business Statistic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urnov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2 0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50 000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ges and salari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9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10 0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spcBef>
                <a:spcPts val="601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ven for enterprises in direct collection some data are taken from administrative sourc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spcBef>
                <a:spcPts val="499"/>
              </a:spcBef>
              <a:buNone/>
              <a:tabLst>
                <a:tab algn="l" pos="0"/>
                <a:tab algn="l" pos="28584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04920" y="990360"/>
            <a:ext cx="8929440" cy="609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collection vs. the use of administrative Data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ax authorities in statistics on enter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5F264-A59D-41AE-B750-BA6BA769B3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0335B-6C2E-40FA-BA71-3608B50FF5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siness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362680"/>
            <a:ext cx="39020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nual inquiry on foreign trade in servic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uthority (Virati) data collections (A and T data collection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uilding cost index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usiness Register inquiry for multi-establishment enterpris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usiness Register inquiry for new enterpris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usiness Register inquiry for single-establishment enterpris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usiness Register inquiry for small single-establishment enterpris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usiness servic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VTS, Continuing Vocational Training Surve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redit card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ata collection on occupation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ata collection on personnel of multi-establishment enterprises for employment statistic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Energy production inqui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Energy use in manufactur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Enterprises' research and develop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Environmental protection expenditure in indust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Finance of housing corporation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Financial leasing inqui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Financial statements inquiry for enterprises (TILKE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Financial statements of mutual funds and investment management compani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Forest workers' wag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4480" y="991440"/>
            <a:ext cx="3583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ome and expenditure of foreign sea transpo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formation technology and electronic commerce in enterpris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novation surve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quiry for industrial establishments (T5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quiry on cost indic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quiry on incentive stock option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quiry on manufacturing commoditi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quiry on new orders in manufactur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quiry on postal and small freight deliveri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quiry on private sector wages and salari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quiry on volume index of industrial outpu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ventory inqui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Job vacancy surve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onthly inquiry for accommodation statistic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onthly inquiry for iron and steel statistic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utual fund inqui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Outstanding credi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eriodic survey of motor vehicle tr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eriodical regional survey of tr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eriodical survey of retail tr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eriodical survey of wholesale tr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ice inquiry on producer price indices for manufactured produc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ducer price indices for servic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Quarterly inquiry on international trade in servic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Quarterly inquiry on labour cos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gional outstanding credi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novation building of construction enterpris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novation building of housing corporation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ales inqui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tatistics on agricultu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tatistics on goods transpo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elecommunications inqui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inquiry on financial accoun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167400"/>
            <a:ext cx="390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re information on surveys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stat.fi/keruu/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ex_e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294560"/>
            <a:ext cx="404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Altogether about 60 direct surv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C048C-7221-4664-B187-4C06FE5E205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DCA2F-D937-40A8-A0EB-DC03DE61DB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er of enterprise respondent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enlargement of the Business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1760" y="2437920"/>
            <a:ext cx="8420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stablished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ocated in the BR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rates as an inner service register of statistics, also respondents get information of the inquiries they are pick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rt of the program leadership: enterprise respondent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2FB5E-4CD9-4DAB-80AB-7C099CBF16F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2A336-3CD5-4CE6-9EAD-B866608E3B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Es and response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90720" indent="-9072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 of enterprises in our surveys is as follow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09480" y="2514600"/>
          <a:ext cx="8602920" cy="160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14600"/>
                    <a:ext cx="860292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609480" y="434340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 marL="35280" indent="-35280">
              <a:lnSpc>
                <a:spcPct val="100000"/>
              </a:lnSpc>
              <a:spcBef>
                <a:spcPts val="40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enterprises in class 0-9   16 700 are only in Business Register surve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280" indent="-35280">
              <a:lnSpc>
                <a:spcPct val="100000"/>
              </a:lnSpc>
              <a:spcBef>
                <a:spcPts val="40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enterprises in class 0-9 only 800 are in monthly and 5900 in quarterly surv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280" indent="-35280">
              <a:lnSpc>
                <a:spcPct val="100000"/>
              </a:lnSpc>
              <a:spcBef>
                <a:spcPts val="40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enterprises in class 10-49  5100 are only in Business Register surve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280" indent="-35280">
              <a:lnSpc>
                <a:spcPct val="100000"/>
              </a:lnSpc>
              <a:spcBef>
                <a:spcPts val="40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enterprises in class 10-49 only 650 are in monthly and 350 in quarterly survey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280" indent="-35280">
              <a:lnSpc>
                <a:spcPct val="100000"/>
              </a:lnSpc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 seems to be limited possibilities to reduce the numbers furth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FC4E-F002-4B1B-8F9C-732B3F8F7C9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C9894-F7ED-4EDC-8258-EC3E702A46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ic goals of the Business Register - ground for effective production of economic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59480" indent="-1594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lob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6000" indent="-15840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6000" indent="-15840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nternational co-operation around multinational corporations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trategic means in improving coh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ew strategy for economic statistics: the BR as a common frame of business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larging the scope of the 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6000" indent="-158400">
              <a:spcBef>
                <a:spcPts val="499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ew industrial sectors and new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ore real time BR with interactive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6000" indent="-158400">
              <a:spcBef>
                <a:spcPts val="499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nfra an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7618C-D9C3-481D-B3DE-C93C13861D9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21A75-8D29-4085-BEF7-D49839112B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4520" y="83628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1440" y="206064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ing innovative and competitive ways of reusing collected data gathered by the public or other sectors in society are essential concerns of toda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 of co-operation is very much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st practices are in high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11F73-572D-4446-A194-557C75F1464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4B137-54EA-4A85-A07C-81DAE59659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420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easons and preconditions for the use of administr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production process of statistics in Statistics Fin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administrative sources of the Business Register (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information system architecture of Statistics Fi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egister of enterprise respon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trategic goals of the 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311B8-3063-4982-A1D8-9772B5AE1DC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28631-5C4B-4A2D-A825-E2CD58E1E8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nnele.orjala@stat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ula.viitaharju@stat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1C11D-04AE-4AC1-895E-78129D8AA4B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92A61-5CEC-450A-90CC-36249D9147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1752480"/>
            <a:ext cx="8458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8520" y="1125000"/>
            <a:ext cx="8807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reasons for using admin data are as fol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04520" y="220464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tion of the response burden of enterpri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tion of the costs of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 the cost-effectiveness and coherence of statistics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er users high quality statistics by using total populations and producing detailed classif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 the ability to compile small area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ers an extensive basis for revision analysis and the follow-up of statistics based on directly collect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A081F-8862-40F7-994B-5B2A20C8FE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3C1E6-F5FE-453C-BF98-0F1DA51C08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1752480"/>
            <a:ext cx="8458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0160" y="105264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gal precon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1440" y="191628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70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nciples of the Finnish Statistics act (2004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compulsory to use existing data (if sui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e government and social security institut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obliged to deliver their data to Statistics Fi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arantees access to administrativ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e of charge, compensation of direct cost of larger re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confidentiality: some of the BR is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9F465-45C0-4E54-A37A-5A4B4AE439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DFB12-AD76-4562-B393-02C906FAA5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60160" y="475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ing - precondition for use of administrative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04520" y="14839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70640" indent="-17064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ing at the state level: Register Board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695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cus on development and co-operation between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695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strategic level definitions of the register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695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ure integration of the registers, promote data secur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ing at data providers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695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-ordinators inside Statistics Finland to take care of administrative data providers, registers and other statistics produc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5800" indent="-17064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cus on the statistical questions: quantity, coverage,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695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 meetings at the Director General level: bi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D060-DC3A-4A35-84CA-39589CA72E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717F1-EF84-4FB9-9F4F-E5C03AEB1B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duction process of statistics in Statistics Finlan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33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88880" y="2060640"/>
          <a:ext cx="9034560" cy="26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2060640"/>
                    <a:ext cx="9034560" cy="26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 flipV="1">
            <a:off x="3200400" y="3962160"/>
            <a:ext cx="0" cy="990360"/>
          </a:xfrm>
          <a:prstGeom prst="line">
            <a:avLst/>
          </a:prstGeom>
          <a:ln w="28440">
            <a:solidFill>
              <a:srgbClr val="e1395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895120" y="4952520"/>
            <a:ext cx="4133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he Business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he survey frame and tool for 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he source of basic information of all relevant statistical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4952880"/>
            <a:ext cx="4114800" cy="1524240"/>
          </a:xfrm>
          <a:prstGeom prst="rect">
            <a:avLst/>
          </a:prstGeom>
          <a:noFill/>
          <a:ln w="28440">
            <a:solidFill>
              <a:srgbClr val="e13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2895480"/>
            <a:ext cx="1981080" cy="1295640"/>
          </a:xfrm>
          <a:prstGeom prst="ellipse">
            <a:avLst/>
          </a:prstGeom>
          <a:noFill/>
          <a:ln w="28440">
            <a:solidFill>
              <a:srgbClr val="e13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248520" y="4076280"/>
            <a:ext cx="0" cy="919080"/>
          </a:xfrm>
          <a:prstGeom prst="line">
            <a:avLst/>
          </a:prstGeom>
          <a:ln w="28440">
            <a:solidFill>
              <a:srgbClr val="e1395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29240" y="2852640"/>
            <a:ext cx="1297080" cy="1295640"/>
          </a:xfrm>
          <a:prstGeom prst="ellipse">
            <a:avLst/>
          </a:prstGeom>
          <a:noFill/>
          <a:ln w="28440">
            <a:solidFill>
              <a:srgbClr val="e13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FE201-718A-4E76-8C5B-FC7207DBB3B4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DD30D-F1B7-4103-8E0D-C062A5E0CE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siness Regist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and large business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ntral and local government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 kind-of-activity units (local KA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pris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gister covers all NACE se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10 000 active enterp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80 000 active local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CDC20-1066-4656-97A9-7D10C1AD13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9CE94-F31B-4957-B8A0-534D959FF6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siness Register; sources and update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ministrative sources, other mass data (priv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data collection, BR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edback information from other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ing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thly, annu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499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data for each statistical year (t) are completed in 10 months =&gt; by the end of October (t+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1CD02-367C-4C39-83A3-1E821E8DAC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3450E-1A9E-480F-9CE7-5E81EA4FDB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ve sources of Business Regist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66680" y="1523880"/>
          <a:ext cx="7696440" cy="4970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76964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05480" y="40968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fb1f39"/>
                </a:solidFill>
                <a:latin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formation Servic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24280-8158-4054-A30B-FF146E2219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1388C-954C-45DD-8C22-55598C28EB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20:07:07Z</dcterms:created>
  <dc:creator>orjala</dc:creator>
  <dc:description/>
  <dc:language>en-US</dc:language>
  <cp:lastModifiedBy>Blanchandin</cp:lastModifiedBy>
  <cp:lastPrinted>2007-06-15T05:41:01Z</cp:lastPrinted>
  <dcterms:modified xsi:type="dcterms:W3CDTF">2007-06-15T16:05:20Z</dcterms:modified>
  <cp:revision>19</cp:revision>
  <dc:subject/>
  <dc:title>Otsikkodia</dc:title>
</cp:coreProperties>
</file>