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85760"/>
            <a:ext cx="82296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85760"/>
            <a:ext cx="82296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ill Sans MT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814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Gill Sans MT"/>
              </a:rPr>
              <a:t>Click to edit the outline text format</a:t>
            </a:r>
            <a:endParaRPr b="1" lang="en-US" sz="2800" spc="-1" strike="noStrike">
              <a:solidFill>
                <a:srgbClr val="dddddd"/>
              </a:solidFill>
              <a:latin typeface="Gill Sans MT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2030040"/>
            <a:ext cx="835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a2f"/>
                </a:solidFill>
                <a:latin typeface="Gill Sans MT"/>
              </a:rPr>
              <a:t>Towards a common European business register</a:t>
            </a:r>
            <a:endParaRPr b="1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476360" y="4220640"/>
            <a:ext cx="64008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ECB presentation at the</a:t>
            </a:r>
            <a:endParaRPr b="1" lang="en-US" sz="2800" spc="-1" strike="noStrike">
              <a:solidFill>
                <a:srgbClr val="dddddd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Business Registers Seminar</a:t>
            </a:r>
            <a:endParaRPr b="1" lang="en-US" sz="2800" spc="-1" strike="noStrike">
              <a:solidFill>
                <a:srgbClr val="dddddd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Geneva, 18-19 June 2007</a:t>
            </a:r>
            <a:endParaRPr b="1" lang="en-US" sz="2800" spc="-1" strike="noStrike">
              <a:solidFill>
                <a:srgbClr val="dddddd"/>
              </a:solidFill>
              <a:latin typeface="Gill Sans MT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82880" y="149400"/>
            <a:ext cx="1548000" cy="661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515772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ill Sans MT"/>
              </a:rPr>
              <a:t>Main goals, advantages and challenges (II)</a:t>
            </a:r>
            <a:endParaRPr b="1" lang="en-US" sz="28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74872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Gill Sans MT"/>
            </a:endParaRPr>
          </a:p>
          <a:p>
            <a:pPr marL="322200" indent="-322200"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Different national </a:t>
            </a: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confidentiality considerations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may currently prove to be cumbersome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2200" indent="-322200"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Alternative is progress in </a:t>
            </a: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successive steps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- e.g. first via database with links to national (diverse) registers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2200" indent="-322200"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Goals, advantages and challenges to be </a:t>
            </a: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discussed at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</a:t>
            </a: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European level (CMFB)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ill Sans MT"/>
              </a:rPr>
              <a:t>Contact at the ECB</a:t>
            </a:r>
            <a:endParaRPr b="1" lang="en-US" sz="28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74872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Thank you for your attention!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Alda Morais (alda.morais@ecb.int)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ill Sans MT"/>
              </a:rPr>
              <a:t>Overview</a:t>
            </a:r>
            <a:endParaRPr b="1" lang="en-US" sz="28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74872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European statistics: a brief introduction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Registers today: the background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Towards a common European business register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Main goals, advantages and challenges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ill Sans MT"/>
              </a:rPr>
              <a:t>European statistics</a:t>
            </a:r>
            <a:endParaRPr b="1" lang="en-US" sz="28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74872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da2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Memorandum of Understanding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Eurostat/ECB - avoids gaps and overlaps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To perform its tasks, </a:t>
            </a: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ECB uses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mainly ESCB statistics and ESS statistics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Both Eurostat and the ECB </a:t>
            </a: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cooperate intensively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on statistical issues of common interest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Both ESCB and ESS have a </a:t>
            </a: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close and fruitful dialogue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in European fora: STC, CMFB, SPC, …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ill Sans MT"/>
              </a:rPr>
              <a:t>Registers today (I)</a:t>
            </a:r>
            <a:endParaRPr b="1" lang="en-US" sz="28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74872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Registers </a:t>
            </a: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currently used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to produce ESCB statistics: 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MFI List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ECB Sector Manual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da2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MFI List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- exhaustive register compiled jointly by all EU NCBs using modern technologies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Similar lists for Other Financial Intermediaries are </a:t>
            </a: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under preparation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ill Sans MT"/>
              </a:rPr>
              <a:t>Registers today (II)</a:t>
            </a:r>
            <a:endParaRPr b="1" lang="en-US" sz="28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ECB </a:t>
            </a: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Sector Manual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: Used to classify counterparties to monetary transactions, by all ESA sectors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Based on (national) existing registers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Reveals a </a:t>
            </a: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wide range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of </a:t>
            </a: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national lists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published and maintained by different institutions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For </a:t>
            </a: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efficiency reasons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, respondents and compilers may favour a single national register e.g. as required by Business Registers Regulation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ill Sans MT"/>
              </a:rPr>
              <a:t>Registers today (III)</a:t>
            </a:r>
            <a:endParaRPr b="1" lang="en-US" sz="28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74872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ffda2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EuroGroups Register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: ECB notes the importance and urgency of this project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ffda2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ESCB involvement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desirable in view of: 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Interest in sharing the data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ESCB expertise with the financial sector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ECB invited to become a member of the Steering Group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ill Sans MT"/>
              </a:rPr>
              <a:t>Towards a common register (I)</a:t>
            </a:r>
            <a:endParaRPr b="1" lang="en-US" sz="28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74872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Gill Sans MT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Assess feasibility of combining </a:t>
            </a: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registers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(national registers, EuroGroups Register, ECB Sector Manual, MFI List, etc.)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Possibly a</a:t>
            </a: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 joint ESS/ESCB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database system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Regular </a:t>
            </a: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online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updating by NSIs, NCBs, others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Well-defined </a:t>
            </a: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governance structure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(incl. distribution of tasks)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ill Sans MT"/>
              </a:rPr>
              <a:t>Towards a common register (II)</a:t>
            </a:r>
            <a:endParaRPr b="1" lang="en-US" sz="28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74872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Well-defined </a:t>
            </a: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quality management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network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ffda2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Maintenance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should be done at </a:t>
            </a: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national level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, with a role for Eurostat and ECB in the case of multinationals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ffda2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Available to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respondents, statistical compilers and possibly other parties (if confidentiality is not an issue)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ill Sans MT"/>
              </a:rPr>
              <a:t>Main goals, advantages and challenges (I)</a:t>
            </a:r>
            <a:endParaRPr b="1" lang="en-US" sz="2800" spc="-1" strike="noStrike">
              <a:solidFill>
                <a:srgbClr val="0033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74872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Reduce </a:t>
            </a: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burden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of respondents and </a:t>
            </a: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costs 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of data collection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da2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Enhance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quality and consistency of European statistics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da2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Modern technologies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reduce the costs of and facilitate dealing with large files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Unique </a:t>
            </a:r>
            <a:r>
              <a:rPr b="1" lang="en-GB" sz="2800" spc="-1" strike="noStrike">
                <a:solidFill>
                  <a:srgbClr val="ffda2f"/>
                </a:solidFill>
                <a:latin typeface="Gill Sans MT"/>
              </a:rPr>
              <a:t>identifier allocation system</a:t>
            </a:r>
            <a:r>
              <a:rPr b="1" lang="en-GB" sz="2800" spc="-1" strike="noStrike">
                <a:solidFill>
                  <a:srgbClr val="dddddd"/>
                </a:solidFill>
                <a:latin typeface="Gill Sans MT"/>
              </a:rPr>
              <a:t> may be a challenge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6:19:41Z</dcterms:created>
  <dc:creator>Alda Morais</dc:creator>
  <dc:description/>
  <dc:language>en-US</dc:language>
  <cp:lastModifiedBy>moraisa</cp:lastModifiedBy>
  <dcterms:modified xsi:type="dcterms:W3CDTF">2007-06-05T07:04:33Z</dcterms:modified>
  <cp:revision>87</cp:revision>
  <dc:subject>ECB paper</dc:subject>
  <dc:title>Business Registers Seminar, Geneva, 18-19 June 200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23163088</vt:r8>
  </property>
  <property fmtid="{D5CDD505-2E9C-101B-9397-08002B2CF9AE}" pid="3" name="_AuthorEmail">
    <vt:lpwstr>Alda.Morais@ecb.int</vt:lpwstr>
  </property>
  <property fmtid="{D5CDD505-2E9C-101B-9397-08002B2CF9AE}" pid="4" name="_AuthorEmailDisplayName">
    <vt:lpwstr>Morais, Alda</vt:lpwstr>
  </property>
  <property fmtid="{D5CDD505-2E9C-101B-9397-08002B2CF9AE}" pid="5" name="_EmailSubject">
    <vt:lpwstr>Business registers ECB presentation</vt:lpwstr>
  </property>
</Properties>
</file>