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236E-98AA-481E-AEC9-54AD187DA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680" y="393012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E0AF-5BED-4FFA-8FCD-276B1503F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096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C58F-FA35-4F23-B070-7C21D2209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34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62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6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34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62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3363-F34D-407A-86B9-B20C57C49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05EE6-C48B-4C59-86AE-CFF2A602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CD6C1-F994-4C26-B4D5-1FF1A4F6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798DF-A3A0-41CB-91FD-A1426CA1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EFF02-F088-4AA2-9D67-4F74E3F6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D1204-AC4E-4E41-B7C9-5C5318B0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5FD5B-B7FD-424C-A536-9476437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5004D-5CF4-459C-9A9C-7D95D095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28AE-6CBF-409F-BF1B-08035D980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096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93D7B-DB05-4C3C-9D8B-081B7426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86823-248C-4998-8F53-9D7F0A0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0680" y="393012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45EB2-79D6-4F03-AFDE-615D358B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096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B5754-4DFF-41D3-96C8-01EB0B0A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34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462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06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34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462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C12A7-4A3D-47F4-AB17-1310C424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95AD-66F2-462A-AEE4-9CF506B7A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3002-B1E9-462C-9784-EED9E2E40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4302-7A02-4E87-83E3-B185C5EC9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776D-BE41-410F-BA48-B0EBF3EC9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4F72-5A13-4D8D-917E-0E8A27471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096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76AF-37C9-46DD-BCA4-8E4DB5D0D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0665-9268-42EA-BD14-96AB38A37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3920" y="1650960"/>
            <a:ext cx="75405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6240" y="635796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urostat, Unit G-1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375400" y="6367320"/>
            <a:ext cx="69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49DF-4265-45B0-A62F-D41190FC65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905600" y="219240"/>
            <a:ext cx="1047960" cy="722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42920" y="216000"/>
            <a:ext cx="116820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FD43-C2F1-49EB-A574-016AC65F38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87520" y="1760400"/>
            <a:ext cx="78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uroGroups Registe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7360" y="4305240"/>
            <a:ext cx="9026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UNECE/Eurostat/OE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8 - 19 June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360" y="2924280"/>
            <a:ext cx="78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oad Map for 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61A8-2362-466D-9353-603781ADF7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39680" y="1754280"/>
            <a:ext cx="716148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ing a result-oriented Steering Group with representatives of Eurostat, ECB and NSIs, starting as EGR Task Force (Oct 200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ing national and European expertise in order to ensure and improve quality of the EGR for the needs of Eurostat and NSIs by provision of advic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ing responsibilities/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ying difficulties and solving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dentiality and data security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itoring quality and time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isation of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olidation of contacts to external partners (e. g. NC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ep by step involvement of stakeholders (Eurostat and/or NSIs), e. g. FATS, FDI, Int.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45360" y="1158840"/>
            <a:ext cx="58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2 Follow-up Measures (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C0E4-C120-4A9D-A6E3-15CCA3DE69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39680" y="1671480"/>
            <a:ext cx="71614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isks concerning the EG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lexity of integration of data from different sources: a flexible solution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ifferent opinions on the contents of the Commission Regulation defining the details of the data exchange; Restrictions to use confidential data may involve double work (to survey the same unit tw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sufficient availability of human and financial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hances concerning the EG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rmonisation of data at European level for statistics related to globalisation (foreign affiliates, direct investment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GR: a source regarding the role of MNEs at national, EU and glob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richment of the BR quality at N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8600" y="1158840"/>
            <a:ext cx="71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3 Chances and Risks for the E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F1F3-4B04-4596-A920-5C3E3E1F5F0E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79240" y="26028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26828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4840" y="1755720"/>
            <a:ext cx="67928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1.1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Need for Data on Globalis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New BR regu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Pilot project in 20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Road Map and Follow-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3.1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Road Map for Eurost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3.2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Follow-up Meas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B646-10F6-43DF-BFE0-247916B188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54240" y="26028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7600" y="1158840"/>
            <a:ext cx="72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.1 Need for Data on Global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39680" y="1754280"/>
            <a:ext cx="716148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rowing importance of multinational enterprise groups (MNE) in increasing globalisation of worldwide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munity Statistical Programme 2008 – 2012: Need for a Community register, the EuroGroups Register (EGR);  Full implementation of the EGR (2009 and onwar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EGR as necessary infrastructure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rmonisation and development of the measurement of globalisation in various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ing as basis for possible coordinated European surveys at group level on globalisation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viding a source of information for demographical changes of MNEs in and outside of EU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4394-4FCF-4373-9619-B968004271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54240" y="26028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8080" y="1158840"/>
            <a:ext cx="51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.2 New BR reg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39680" y="1751040"/>
            <a:ext cx="762804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table: In forc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quarter of 2007 (repeals the existing on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: whole economy. Enterprises below ½ person employed and small all-resident groups can be ex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definitions: Definition when a unit is active, different types of enterprise groups, 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characteristics: mainly for enterprise groups, compulsory, optional or conditional (subject to avail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 transition period: Possible up to 5 years concerning new compulsory coverage and enterprise group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ology: Various practical issues must/may be decided by Statistical Programme Committee: transmission of data and quality reports (annual inquiry) to Eurostat and feedback to Member States, possible updating of characteristics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88BC-E78C-4BBA-B081-668A16C765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54240" y="26028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080" y="1158840"/>
            <a:ext cx="51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.2 New BR reg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39680" y="1751040"/>
            <a:ext cx="76280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BR Regulation implies creation of a database at European level: the EG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3: BRs shall include all-resident and multinational enterprise groups, data at truncated and global level (from EGR feedb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10: Exchange of confidential data between Member States voluntary, only for statistical purposes in accordance with national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11: Exchange of individual confidential data between Eurostat and Member States’ NSIs compulsory, only for statistical purp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12: Exchange of confidential data between Eurostat and central banks (ECB, NCBs) voluntary and need to be authorized by appropriate national authority, only for statistical purpo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13: Eurostat, ECB and the Member States shall treat confidential data confiden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5D4D-437C-4D30-9B69-0FE952F10E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760" y="260280"/>
            <a:ext cx="49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. Pilot project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9680" y="1751040"/>
            <a:ext cx="7628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anothe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ADFF-7DD3-4A8E-81CD-B85B523ADE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1440" y="2406600"/>
            <a:ext cx="0" cy="3562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349360" y="1860120"/>
            <a:ext cx="7920" cy="422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9360" y="5965920"/>
            <a:ext cx="6124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81840" y="58705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73520" y="587376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925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43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99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68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44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4624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737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8840" y="6143760"/>
            <a:ext cx="6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1680" y="6146640"/>
            <a:ext cx="5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13640" y="6148440"/>
            <a:ext cx="6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87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706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230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0244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579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944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61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984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642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914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18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90720" y="601992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3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5680" y="3138480"/>
            <a:ext cx="6904080" cy="307080"/>
            <a:chOff x="85680" y="3138480"/>
            <a:chExt cx="6904080" cy="307080"/>
          </a:xfrm>
        </p:grpSpPr>
        <p:sp>
          <p:nvSpPr>
            <p:cNvPr id="141" name=""/>
            <p:cNvSpPr/>
            <p:nvPr/>
          </p:nvSpPr>
          <p:spPr>
            <a:xfrm>
              <a:off x="85680" y="3138480"/>
              <a:ext cx="26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. IT Framework Contr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351160" y="3165480"/>
              <a:ext cx="4638600" cy="250920"/>
              <a:chOff x="2351160" y="3165480"/>
              <a:chExt cx="4638600" cy="250920"/>
            </a:xfrm>
          </p:grpSpPr>
          <p:sp>
            <p:nvSpPr>
              <p:cNvPr id="143" name=""/>
              <p:cNvSpPr/>
              <p:nvPr/>
            </p:nvSpPr>
            <p:spPr>
              <a:xfrm>
                <a:off x="2351160" y="3170160"/>
                <a:ext cx="2384280" cy="241560"/>
              </a:xfrm>
              <a:prstGeom prst="rect">
                <a:avLst/>
              </a:prstGeom>
              <a:solidFill>
                <a:srgbClr val="99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80000" y="3170160"/>
                <a:ext cx="2309760" cy="241560"/>
              </a:xfrm>
              <a:prstGeom prst="rect">
                <a:avLst/>
              </a:prstGeom>
              <a:solidFill>
                <a:srgbClr val="99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16400" y="3170160"/>
                <a:ext cx="26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65680" y="3165480"/>
                <a:ext cx="75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ahoma"/>
                  </a:rPr>
                  <a:t>I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73627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154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00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423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981840" y="2397240"/>
            <a:ext cx="6480" cy="3576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98480" y="4371840"/>
            <a:ext cx="3240" cy="159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15080" y="4371840"/>
            <a:ext cx="11160" cy="160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6019920"/>
            <a:ext cx="33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2560" y="6016680"/>
            <a:ext cx="3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95800" y="602280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3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64240" y="6022800"/>
            <a:ext cx="33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35560" y="6019920"/>
            <a:ext cx="3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89720" y="601488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3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58160" y="6014880"/>
            <a:ext cx="33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83440" y="1155600"/>
            <a:ext cx="57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1 Road Map for Eurost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34440" y="584028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22520" y="177156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a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0280" y="2260440"/>
            <a:ext cx="8209080" cy="357120"/>
            <a:chOff x="260280" y="2260440"/>
            <a:chExt cx="8209080" cy="357120"/>
          </a:xfrm>
        </p:grpSpPr>
        <p:sp>
          <p:nvSpPr>
            <p:cNvPr id="168" name=""/>
            <p:cNvSpPr/>
            <p:nvPr/>
          </p:nvSpPr>
          <p:spPr>
            <a:xfrm>
              <a:off x="2357280" y="2316240"/>
              <a:ext cx="4632480" cy="24120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8320" y="2316240"/>
              <a:ext cx="1395360" cy="24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0280" y="2260440"/>
              <a:ext cx="264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GR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9000" y="2303280"/>
              <a:ext cx="146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rawing 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0440" y="2262240"/>
              <a:ext cx="8892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88920" y="5022720"/>
            <a:ext cx="24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. Commission Reg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10680" y="4997520"/>
            <a:ext cx="8892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99280" y="4351320"/>
            <a:ext cx="11160" cy="160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7480" y="4076640"/>
            <a:ext cx="8015040" cy="307080"/>
            <a:chOff x="87480" y="4076640"/>
            <a:chExt cx="8015040" cy="307080"/>
          </a:xfrm>
        </p:grpSpPr>
        <p:sp>
          <p:nvSpPr>
            <p:cNvPr id="177" name=""/>
            <p:cNvSpPr/>
            <p:nvPr/>
          </p:nvSpPr>
          <p:spPr>
            <a:xfrm>
              <a:off x="87480" y="4076640"/>
              <a:ext cx="264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. Acquisition of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7280" y="4121280"/>
              <a:ext cx="1146240" cy="2397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6040" y="4121280"/>
              <a:ext cx="2129040" cy="2397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74880" y="4118040"/>
              <a:ext cx="26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18080" y="411480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9040" y="4119480"/>
              <a:ext cx="2103480" cy="2397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0080" y="4116240"/>
              <a:ext cx="4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988320" y="5060880"/>
            <a:ext cx="1498320" cy="24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63600" y="505296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II/I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687480" y="4361040"/>
            <a:ext cx="3240" cy="1591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57280" y="5060880"/>
            <a:ext cx="3454560" cy="24120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16160" y="5059440"/>
            <a:ext cx="314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: Data exchange with N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79000" y="5013360"/>
            <a:ext cx="23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000480" y="4359240"/>
            <a:ext cx="3240" cy="159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83600" y="590400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D5CD-B840-4841-B649-2E42ADEA6A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45360" y="1158840"/>
            <a:ext cx="58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2 Follow-up Measures (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33560" y="1747800"/>
            <a:ext cx="7142040" cy="32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framework contract for the technical enlargement of the EGR at Eurostat (part 1) including the following tas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is of the pilot products and its 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ision of EGR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 of a web application and end user interface for Eurostat (first steps: FATS, FDI, International tr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 of the administration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 of a structured data communication via 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support and training at Euro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ing and development of software delive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B0F8-E648-48CC-B950-18BEEFAB65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45360" y="1158840"/>
            <a:ext cx="58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2 Follow-up Measures (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33560" y="1747800"/>
            <a:ext cx="716112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st Call for Tender project on acquisition of private data from one single data provider (test acquis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idder should select MNEs operating in more than one country, but  at least in one EU country; the majority of the selected groups should have their global group head in the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election should comprise, for each EU country, the most important MNEs (in terms of total employment); this means  the most important groups whose heads are situated on their terr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election should cover approximately the top 1000  groups obeying the above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rostat intends to provide NSIs (BR) with consolidated private data coming from E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376C-8130-4AFB-95E9-C0E54A95D5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5:15:18Z</dcterms:created>
  <dc:creator>Sonnberger- Viseur</dc:creator>
  <dc:description/>
  <cp:keywords/>
  <dc:language>en-US</dc:language>
  <cp:lastModifiedBy>luthiao</cp:lastModifiedBy>
  <cp:lastPrinted>2001-06-01T09:23:19Z</cp:lastPrinted>
  <dcterms:modified xsi:type="dcterms:W3CDTF">2007-05-30T12:53:13Z</dcterms:modified>
  <cp:revision>589</cp:revision>
  <dc:subject>Quality</dc:subject>
  <dc:title>Stockholm May 2001  H. Sonnberger- J. Viseur </dc:title>
</cp:coreProperties>
</file>