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8923-02ED-4A5F-8ECE-D288CCFD8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E682-ADF7-4510-8956-6E587D5B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4E1B-D7E7-4D3B-ABC7-9ABADC018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34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62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6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34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62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381D-3F2A-48FB-8388-4B2BF4D31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06A0-849A-419C-8BDC-8951EEF0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E23E-ED69-4FEC-8E69-E2CCD79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12491-29B4-4F7E-ABFF-1AAA4369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0FDEC-484B-4E71-BBFB-115D8B08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6BE99-E951-4A2E-92D0-90D020B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8A121-2C05-48C9-8C35-056E2D3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D266F-E8A4-4565-86F5-B386652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700F-070E-4C1B-8DB2-8082E0D81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2458-DA99-497E-833D-AFD0CC7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35DF-B42C-4D00-AA32-B69BB1B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A5AA9-4CE6-40C7-BCC4-41795A2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DAE5-5E83-4FED-8A19-60AB1F1B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34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46280" y="85536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06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34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46280" y="3930120"/>
            <a:ext cx="28213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4910D-E6E6-453C-A65A-EFCC0535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BEE7-1BB4-4DD6-949C-26D82A179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9707-D715-47E1-96C4-EA5334226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BBCA-49F2-497F-A469-874D9DC3A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2D77-104C-418E-BB16-BE4A0C568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0D4E-32BA-4755-8D7F-BF3145EAA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0960" y="393012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5E98-D878-4905-8B27-B3C63EE4D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68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855360"/>
            <a:ext cx="427608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680" y="3930120"/>
            <a:ext cx="8763120" cy="28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72F5-BFD8-4D9B-8BF1-424B3C764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3920" y="1650960"/>
            <a:ext cx="75405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680" y="855360"/>
            <a:ext cx="87631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6240" y="635796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urostat, Unit G-1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375400" y="6367320"/>
            <a:ext cx="69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01F-10B1-4EDE-AF65-81F25F6D57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05600" y="219240"/>
            <a:ext cx="1047960" cy="722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42920" y="216000"/>
            <a:ext cx="116820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6F05-BD29-4816-9BA0-2C28C1D61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87520" y="176040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uroGroups Regis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7360" y="4305240"/>
            <a:ext cx="9026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UNECE/Eurostat/OE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8 - 19 Jun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92428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ad Map for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2FE2-D775-4873-9E8F-793D14C2C4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39680" y="1754280"/>
            <a:ext cx="716148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ing a result-oriented Steering Group with representatives of Eurostat, ECB and NSIs, starting as EGR Task Force (Oct 200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ing national and European expertise in order to ensure and improve quality of the EGR for the needs of Eurostat and NSIs by provision of advic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ing responsibilities/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ing difficulties and solving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 and data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ng quality and time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sation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olidation of contacts to external partners (e. g. NC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p by step involvement of stakeholders (Eurostat and/or NSIs), e. g. FATS, FDI, Int.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BAEF-9923-4131-9136-DDA1F3B7A5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39680" y="1671480"/>
            <a:ext cx="71614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isks concerning the EG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lexity of integration of data from different sources: a flexible solution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fferent opinions on the contents of the Commission Regulation defining the details of the data exchange; Restrictions to use confidential data may involve double work (to survey the same unit tw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sufficient availability of 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ances concerning the EG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rmonisation of data at European level for statistics related to globalisation (foreign affiliates, direct investment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GR: a source regarding the role of MNEs at national, EU and glob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richment of the BR quality at N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600" y="1158840"/>
            <a:ext cx="71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3 Chances and Risks for the E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A71D-D3DC-4349-8BCC-0B0B7304170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9240" y="26028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26828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4840" y="1755720"/>
            <a:ext cx="67928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1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Need for Data on Globalis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New BR regu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Pilot project in 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Road Map and Follow-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1 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Road Map for Eurost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3.2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333399"/>
                </a:solidFill>
                <a:latin typeface="Tahoma"/>
              </a:rPr>
              <a:t>Follow-up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1DF9-77B2-4835-953D-B0FBD013A7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7600" y="115884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1 Need for Data on Glob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9680" y="1754280"/>
            <a:ext cx="716148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ing importance of multinational enterprise groups (MNE) in increasing globalisation of worldwid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munity Statistical Programme 2008 – 2012: Need for a Community register, the EuroGroups Register (EGR);  Full implementation of the EGR (2009 and onwar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EGR as necessary infrastructure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rmonisation and development of the measurement of globalisation in various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ing as basis for possible coordinated European surveys at group level on globalisation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spcBef>
                <a:spcPts val="451"/>
              </a:spcBef>
              <a:buClr>
                <a:srgbClr val="52e8f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iding a source of information for demographical changes of MNEs in and outside of EU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A774-86B6-4334-BC8A-B9BE10855F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080" y="1158840"/>
            <a:ext cx="51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2 New BR reg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9680" y="1751040"/>
            <a:ext cx="76280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table: In forc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quarter of 2007 (repeals the existing on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: whole economy. Enterprises below ½ person employed and small all-resident groups can be ex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definitions: Definition when a unit is active, different types of enterprise groups,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characteristics: mainly for enterprise groups, compulsory, optional or conditional (subject to avai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transition period: Possible up to 5 years concerning new compulsory coverage and enterprise group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ology: Various practical issues must/may be decided by Statistical Programme Committee: transmission of data and quality reports (annual inquiry) to Eurostat and feedback to Member States, possible updating of characteristic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F007-3C67-4A3A-B42B-11CD1C2670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54240" y="26028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080" y="1158840"/>
            <a:ext cx="51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2 New BR reg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39680" y="1751040"/>
            <a:ext cx="76280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BR Regulation implies creation of a database at European level: the EG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3: BRs shall include all-resident and multinational enterprise groups, data at truncated and global level (from EGR feed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0: Exchange of confidential data between Member States voluntary, only for statistical purposes in accordance with national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1: Exchange of individual confidential data between Eurostat and Member States’ NSIs compulsory, only for statistical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2: Exchange of confidential data between Eurostat and central banks (ECB, NCBs) voluntary and need to be authorized by appropriate national authority, only for statistical purp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cle 13: Eurostat, ECB and the Member States shall treat confidential data confid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4F01-388E-4F93-A882-76718EC61F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760" y="26028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. Pilot project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9680" y="1751040"/>
            <a:ext cx="7628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nothe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5C6E-7972-451B-8F47-91C54B74AB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1440" y="2406600"/>
            <a:ext cx="0" cy="3562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49360" y="1860120"/>
            <a:ext cx="7920" cy="422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9360" y="5965920"/>
            <a:ext cx="6124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81840" y="58705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73520" y="58737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925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43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99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68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4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462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37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614376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1680" y="6146640"/>
            <a:ext cx="5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3640" y="6148440"/>
            <a:ext cx="6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87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06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30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024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579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44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61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984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642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914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18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90720" y="601992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5680" y="3138480"/>
            <a:ext cx="6904080" cy="307080"/>
            <a:chOff x="85680" y="3138480"/>
            <a:chExt cx="6904080" cy="307080"/>
          </a:xfrm>
        </p:grpSpPr>
        <p:sp>
          <p:nvSpPr>
            <p:cNvPr id="141" name=""/>
            <p:cNvSpPr/>
            <p:nvPr/>
          </p:nvSpPr>
          <p:spPr>
            <a:xfrm>
              <a:off x="85680" y="3138480"/>
              <a:ext cx="26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. IT Framework Contr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351160" y="3165480"/>
              <a:ext cx="4638600" cy="250920"/>
              <a:chOff x="2351160" y="3165480"/>
              <a:chExt cx="4638600" cy="250920"/>
            </a:xfrm>
          </p:grpSpPr>
          <p:sp>
            <p:nvSpPr>
              <p:cNvPr id="143" name=""/>
              <p:cNvSpPr/>
              <p:nvPr/>
            </p:nvSpPr>
            <p:spPr>
              <a:xfrm>
                <a:off x="2351160" y="3170160"/>
                <a:ext cx="2384280" cy="241560"/>
              </a:xfrm>
              <a:prstGeom prst="rect">
                <a:avLst/>
              </a:prstGeom>
              <a:solidFill>
                <a:srgbClr val="99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80000" y="3170160"/>
                <a:ext cx="2309760" cy="241560"/>
              </a:xfrm>
              <a:prstGeom prst="rect">
                <a:avLst/>
              </a:prstGeom>
              <a:solidFill>
                <a:srgbClr val="99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16400" y="3170160"/>
                <a:ext cx="26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65680" y="3165480"/>
                <a:ext cx="7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ahoma"/>
                  </a:rPr>
                  <a:t>I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73627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154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008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4232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59054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81840" y="2397240"/>
            <a:ext cx="6480" cy="3576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98480" y="4371840"/>
            <a:ext cx="3240" cy="159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15080" y="4371840"/>
            <a:ext cx="11160" cy="160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601992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6016680"/>
            <a:ext cx="3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95800" y="602280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64240" y="602280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5560" y="6019920"/>
            <a:ext cx="3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89720" y="601488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8160" y="6014880"/>
            <a:ext cx="33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3440" y="115560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1 Road Map for Eurost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34440" y="58402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2520" y="17715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0280" y="2260440"/>
            <a:ext cx="8209080" cy="357120"/>
            <a:chOff x="260280" y="2260440"/>
            <a:chExt cx="8209080" cy="357120"/>
          </a:xfrm>
        </p:grpSpPr>
        <p:sp>
          <p:nvSpPr>
            <p:cNvPr id="168" name=""/>
            <p:cNvSpPr/>
            <p:nvPr/>
          </p:nvSpPr>
          <p:spPr>
            <a:xfrm>
              <a:off x="2357280" y="2316240"/>
              <a:ext cx="4632480" cy="24120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8320" y="2316240"/>
              <a:ext cx="1395360" cy="24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280" y="2260440"/>
              <a:ext cx="264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GR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9000" y="2303280"/>
              <a:ext cx="146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rawing 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440" y="2262240"/>
              <a:ext cx="8892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8920" y="5022720"/>
            <a:ext cx="24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Commission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10680" y="4997520"/>
            <a:ext cx="88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99280" y="4351320"/>
            <a:ext cx="11160" cy="160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7480" y="4076640"/>
            <a:ext cx="8015040" cy="307080"/>
            <a:chOff x="87480" y="4076640"/>
            <a:chExt cx="8015040" cy="307080"/>
          </a:xfrm>
        </p:grpSpPr>
        <p:sp>
          <p:nvSpPr>
            <p:cNvPr id="177" name=""/>
            <p:cNvSpPr/>
            <p:nvPr/>
          </p:nvSpPr>
          <p:spPr>
            <a:xfrm>
              <a:off x="87480" y="4076640"/>
              <a:ext cx="264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. Acquisition of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7280" y="4121280"/>
              <a:ext cx="114624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6040" y="4121280"/>
              <a:ext cx="212904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74880" y="4118040"/>
              <a:ext cx="26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18080" y="411480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9040" y="4119480"/>
              <a:ext cx="2103480" cy="2397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0080" y="411624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988320" y="5060880"/>
            <a:ext cx="1498320" cy="24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63600" y="50529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II/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687480" y="4361040"/>
            <a:ext cx="3240" cy="159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57280" y="5060880"/>
            <a:ext cx="3454560" cy="2412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6160" y="5059440"/>
            <a:ext cx="314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: Data exchange with N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79000" y="5013360"/>
            <a:ext cx="23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00480" y="4359240"/>
            <a:ext cx="3240" cy="159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83600" y="590400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7B17-D1E2-4894-AA06-A40149F242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33560" y="1747800"/>
            <a:ext cx="7142040" cy="32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framework contract for the technical enlargement of the EGR at Eurostat (part 1) including the following tas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of the pilot products and its 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sion of EG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a web application and end user interface for Eurostat (first steps: FATS, FDI, International tr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the administration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 of a structured data communication via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support and training at Euro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and development of software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9A69-1AAB-44CB-914A-7E16612629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45360" y="1158840"/>
            <a:ext cx="58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2 Follow-up Measures (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3560" y="1747800"/>
            <a:ext cx="716112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Call for Tender project on acquisition of private data from one single data provider (test acquis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idder should select MNEs operating in more than one country, but  at least in one EU country; the majority of the selected groups should have their global group head in the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lection should comprise, for each EU country, the most important MNEs (in terms of total employment); this means  the most important groups whose heads are situated on their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buClr>
                <a:srgbClr val="5781f7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lection should cover approximately the top 1000  groups obeying the above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rostat intends to provide NSIs (BR) with consolidated private data coming from E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5200" y="26028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. Road Map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97F1-7C1C-4A12-8ABE-BB589939A1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15:18Z</dcterms:created>
  <dc:creator>Sonnberger- Viseur</dc:creator>
  <dc:description/>
  <cp:keywords/>
  <dc:language>en-US</dc:language>
  <cp:lastModifiedBy>luthiao</cp:lastModifiedBy>
  <cp:lastPrinted>2001-06-01T09:23:19Z</cp:lastPrinted>
  <dcterms:modified xsi:type="dcterms:W3CDTF">2007-05-30T12:53:13Z</dcterms:modified>
  <cp:revision>589</cp:revision>
  <dc:subject>Quality</dc:subject>
  <dc:title>Stockholm May 2001  H. Sonnberger- J. Viseur </dc:title>
</cp:coreProperties>
</file>