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094-2489-4C38-A4D8-752C46C5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D8D-3CA5-4763-9FCD-E04781A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BE0-83EF-45A7-BB3A-76B306E7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108-86A1-4C04-A5FE-50D94835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3CB-2F0D-45C2-9CB4-8952B672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9E2-9874-47E1-B1E7-776DA8A5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53D-A3B8-46FB-A4EB-8A7D12AD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2A7-02CB-4B24-8BF0-4C57F129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ACB-F84C-4619-AC28-A575E19C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937-FA3B-48BA-8401-5C8EAED2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426-BD6D-41A3-BEA9-69672D53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958-2CCB-44D3-99AD-E385CEDB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410EFA-147D-4B68-953A-5EEBFA11216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schultenordholt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pums.org/international/index.html" TargetMode="External"/><Relationship Id="rId2" Type="http://schemas.openxmlformats.org/officeDocument/2006/relationships/hyperlink" Target="http://www.dans.knaw.nl/en/" TargetMode="External"/><Relationship Id="rId3" Type="http://schemas.openxmlformats.org/officeDocument/2006/relationships/hyperlink" Target="http://www.dans.knaw.nl/en/" TargetMode="External"/><Relationship Id="rId4" Type="http://schemas.openxmlformats.org/officeDocument/2006/relationships/hyperlink" Target="http://www.dans.knaw.nl/en/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5920"/>
            <a:ext cx="748836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иртуальная перепись в Нидерландах на основе регистров и ранее проведенных обследованиях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276640"/>
            <a:ext cx="7559640" cy="38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рик Шульте Нордхолт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татистическое бюро Нидерланд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тдел социальной и пространственной статистик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Департамент поддержки и развит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екция исследований и развит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.schultenordholt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Семинар по переписи с использованием регистр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Женева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21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мая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2012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г.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5280" y="225000"/>
            <a:ext cx="74883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авнение с другими годами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1880" y="1306440"/>
          <a:ext cx="702288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1880" y="1306440"/>
                    <a:ext cx="702288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377-1F0D-4529-8C75-CDECC47A00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5280" y="4568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личие микроданных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1376280"/>
            <a:ext cx="752472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днопроцентная выборка за три года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(1960, 1971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2001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г.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IPUMS (Integrated Public Use Microdata Series)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ipums.org/international/index.htm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звешивание к общей численности населен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Защита в соответствии с правилами, применимыми к файлам общественного пользован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меются наборы микроданных за три года для исследований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!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ANS (Data Archiving and Networked Services)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www.dans.knaw.nl</a:t>
            </a: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/en/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E6E-5CC3-4DA4-ABDF-697A68F5BE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14680" y="476280"/>
            <a:ext cx="7429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дготовка к переписи </a:t>
            </a: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2011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27280" y="1160640"/>
            <a:ext cx="7416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Источники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Н в качестве основы переписи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изменения в содержании и качестве регистров, оставшаяся информация по результатам обследований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Метод оценки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вторное взвешивание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новая версия программного обеспечения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апасной вариант по взвешиванию к РН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меньше вменений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роблема нулевых ячеек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Контроль за соблюдением конфиденциальности статистической информации гиперкубов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еминар по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DC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анных переписи в апреле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2012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г.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абличные данные в формате </a:t>
            </a: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DMX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и центр перепи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319-F99A-413C-970F-6AB1B43564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воды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55280" y="1196640"/>
            <a:ext cx="748836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Виртуальная перепись в Нидерландах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а, мы можем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!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Сохраняется важность микроинтеграции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Повторное взвешивание оказалось успешным методом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имущества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Относительно недорого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езначительные затраты в расчете на одного жителя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Быстро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емного времени на подготовку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атки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Зависит от держателей регистров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статистика не является их приоритетом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),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своевременность регистров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концепции и совокупность регистров могут отличаться от того, что необходимо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поддержка хороших отношений с держателями регистров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!)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Публикация данных по небольшим субпопуляциям иногда затруднено или невозможно вследствие ограниченности информации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BBE-5C7C-4F87-B686-31DDE071A8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воды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7524720" cy="50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гие аспект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Меньше внимания на результаты виртуальной переписи по сравнению с традиционной переписью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ложно обеспечивать актуальность данных и программного обеспечения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ерепись проводится каждые 10 лет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Огромный международный интерес к виртуальной переписи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Огромный объем интересной работы по переписи в предстоящие годы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9A3-15CB-4541-A394-944BEF5EED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1280" y="5624280"/>
            <a:ext cx="8028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ремя на вопросы и обсуждения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6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43280" y="1160640"/>
            <a:ext cx="6589440" cy="432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908000" y="476280"/>
            <a:ext cx="56102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ccffcc">
                    <a:alpha val="95000"/>
                  </a:srgbClr>
                </a:solidFill>
                <a:latin typeface="Arial Black"/>
              </a:rPr>
              <a:t>Спасибо за внимание!</a:t>
            </a:r>
            <a:endParaRPr b="0" lang="en-US" sz="2800" spc="1" strike="noStrike">
              <a:ln w="15840">
                <a:solidFill>
                  <a:srgbClr val="008000"/>
                </a:solidFill>
                <a:miter/>
              </a:ln>
              <a:solidFill>
                <a:srgbClr val="ccffcc">
                  <a:alpha val="95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C5C-0406-4E5B-848C-ED0595755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015920"/>
            <a:ext cx="75247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стория переписи в Нидерландах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ведение виртуальной перепис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сточники данных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четание источников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увязка на микроуровне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четание источников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икроинтеграц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Условия, способствующие использованию административных источник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равнение с другими странам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равнение с другими годам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Наличие микроданных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дготовка к переписи 2011 г.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ыводы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80C-A6BE-4C85-9019-F95E8CB68C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рия переписи в Нидерландах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218960"/>
            <a:ext cx="7524720" cy="50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АДИЦИОННАЯ ПЕРЕПИСЬ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Министерство внутренних дел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29, 1839, 1849, 1859, 1869, 1879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и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89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гг.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Статистическое управление Нидерландов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99, 1909, 1920, 1930, 1947, 1960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и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971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 г.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Нежелание 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непредставление ответов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 и сокращение расходов </a:t>
            </a:r>
            <a:r>
              <a:rPr b="1" lang="en-GB" sz="22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традиционная перепись не будет проводиться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ЬТЕРНАТИВА: ВИРТУАЛЬНАЯ ПЕРЕПИСЬ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981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и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991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 гг.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Регистр населения и обследования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Развитие в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90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-х гг.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больше регистров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  <a:ea typeface="Arial"/>
              </a:rPr>
              <a:t>→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2001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 г.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комплексный набор регистров и обследований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, SSD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EE8-C631-4DD8-8D4E-021156AE8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441000"/>
            <a:ext cx="752472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ведение виртуальной переписи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557000"/>
            <a:ext cx="75247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чего проводить перепись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татистическая информация в целях исследований и разработки политик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го рода информаци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азмер (суб)популяций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Демографические и социально-экономические характеристики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,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на национальном и региональном уровне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ентльменское соглашени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ерепис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Евростат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оординатор ЕС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рисоединение и участие в европейских раундах переписи ЕАСТ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рограмма переписи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ждые 10 лет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853-4BB6-486C-A48E-C4C3D49DF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Источники данных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0560" y="764640"/>
            <a:ext cx="79930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истр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Регистр населения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РН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)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  <a:ea typeface="Arial"/>
              </a:rPr>
              <a:t>→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  <a:ea typeface="Arial"/>
              </a:rPr>
              <a:t>исключены нелегальные лица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  <a:ea typeface="Arial"/>
              </a:rPr>
              <a:t>,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  <a:ea typeface="Arial"/>
              </a:rPr>
              <a:t>учет бездомных по последнему известному адресу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Файл занятости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содержащий данные по всем занятым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Файл по самозанятым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содержащий данные по всем самозанятым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Фискальное администрирование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Администрирование социального обеспечения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Пенсионные и страховые пособия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Регистры жилья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следования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Прекращено проведение обследование по занятости и заработку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Данные обследования рабочей силы близкие к дате переписи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Обследования жилья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765-2944-4E40-AB58-A455513DA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84360" y="476280"/>
            <a:ext cx="755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четание источников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язка на микроуров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305000"/>
            <a:ext cx="759636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юч увязк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егистры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Номер государственного обслуживания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уникальный</a:t>
            </a:r>
            <a:br>
              <a:rPr sz="2000"/>
            </a:b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бследования </a:t>
            </a:r>
            <a:br>
              <a:rPr sz="22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Пол, дата рождения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, 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адрес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почтовый индекс и номер дома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)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юч увязки заменен на РИН 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5000"/>
              </a:lnSpc>
              <a:spcBef>
                <a:spcPts val="15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атегия увязки </a:t>
            </a:r>
            <a:br>
              <a:rPr sz="2400"/>
            </a:b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Оптимизация количества совпадений </a:t>
            </a:r>
            <a:br>
              <a:rPr sz="2200"/>
            </a:b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Минимизация количества несовпадений и упущенных совпадени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699-8744-4F47-B792-682D3D336A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188640"/>
            <a:ext cx="7812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четание источников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кроинтеграция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19280" y="105228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>
              <a:lnSpc>
                <a:spcPct val="85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ор данных из нескольких источников </a:t>
            </a:r>
            <a:r>
              <a:rPr b="1" lang="en-GB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более комплексная и последовательная информация касательно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аспектов жизни человека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3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внение источников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охват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 -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противоречивая информация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надежность источников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а интеграции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проверки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-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корректировки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-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вменения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1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птимальное использование информации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повышается качество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2200" spc="-1" strike="noStrike">
                <a:solidFill>
                  <a:srgbClr val="33cc33"/>
                </a:solidFill>
                <a:latin typeface="Arial"/>
              </a:rPr>
              <a:t>период работы в сравнении с периодом получения пособия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958-3715-400F-A59C-BA484DEEA6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36792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словия, способствующие использованию административных источников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55280" y="1916280"/>
            <a:ext cx="7488360" cy="36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равовая база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Закон о статистике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гласие общественности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Старший брат следит за тобой»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трудничество между властями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 основном государственными организациями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сеобъемлющая и надежная система регистров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чество административных данных в сравнении со статистическими данными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Единая система идентификации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редпочтительно уникальные идентификационные номера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AC5-038B-4A99-8BDC-39B0F34DDD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15192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авнение с другими странами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55280" y="1412640"/>
            <a:ext cx="748836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адиционная перепись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лный учет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):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Большинство стран в мире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ключая Соединенное Королевство и США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адиционная перепись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частичный учет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и регистры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Некоторые страны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например, Германия, Польша и Швейцария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кользящая перепись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ff9900"/>
                </a:solidFill>
                <a:latin typeface="Arial"/>
              </a:rPr>
              <a:t>Франция</a:t>
            </a:r>
            <a:endParaRPr b="1" lang="en-US" sz="19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ерепись полностью или в основном основанная на регистрах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виртуальная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Четыре Скандинавские страны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Норвегия, Швеция, Финляндия и Дания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Нидерланды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Австрия и Словен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5EE-E849-41A4-914E-5F364E0508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katenb</cp:lastModifiedBy>
  <cp:lastPrinted>2002-02-11T11:11:40Z</cp:lastPrinted>
  <dcterms:modified xsi:type="dcterms:W3CDTF">2012-04-16T12:05:29Z</dcterms:modified>
  <cp:revision>327</cp:revision>
  <dc:subject/>
  <dc:title>Combined use of data</dc:title>
</cp:coreProperties>
</file>