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085760" y="870120"/>
            <a:ext cx="46418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07920" y="4727160"/>
            <a:ext cx="4996080" cy="41814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8400" y="9537480"/>
            <a:ext cx="9320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sp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3BECAAF-3D6A-4203-9363-59DA9A4E3AA5}" type="slidenum">
              <a:rPr b="0" lang="nb-NO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85760" y="87012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07920" y="4727160"/>
            <a:ext cx="4996080" cy="41814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ecific census cost low: Tertiary u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085760" y="87012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07920" y="4727160"/>
            <a:ext cx="4996080" cy="41814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 of emerging needs, 2001: Accessibility to dwelling for disabled pers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TIME: Discussion about dogs in 200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085760" y="87012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07920" y="4727160"/>
            <a:ext cx="4996080" cy="41814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085760" y="87012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07920" y="4727160"/>
            <a:ext cx="4996080" cy="41814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rst census 1769, first census with information on all persons: 18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85760" y="87012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07920" y="4727160"/>
            <a:ext cx="4996080" cy="41814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990. Labour market register: Quality not good enough as a main data source, but was used as an additional sources (estim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85760" y="87012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07920" y="4727160"/>
            <a:ext cx="4996080" cy="41814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ltiple legal base: The 2001 Census was not only a statistical operation, but legally also an administrative data collection. Information was given in the questionnair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085760" y="87012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07920" y="4727160"/>
            <a:ext cx="4996080" cy="41814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 establish these statistical registers, more than 30 administrative registers are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085760" y="87012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07920" y="4727160"/>
            <a:ext cx="4996080" cy="41814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just an example. Number of registers is in reality much lar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88FD-2468-4A6A-96E2-6FDDB6FCB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285B-1539-4F2F-BFA2-AB286DAC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0BC9-B826-47F5-ACA7-914C0E74D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708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100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708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100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E7F0-E679-49C5-A740-A8322D48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EBE0-52B2-42EA-A384-882FF6C3D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82A5-34AC-46DB-BE87-B39B36C8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04DD-CBB5-490C-8FB8-4D33F27F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5D9B-0AB6-4506-A584-C42B4A11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2888-D650-480A-A45C-A008C4DC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3160" y="76212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5FB3-9641-4D43-9FF4-A43FCE30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2876-1921-4858-BB41-735C7F83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13B1-F176-43A8-8864-599222B7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9844-DE44-4E4E-9EA9-1D987978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FC0A-4CF8-4C65-BE10-06F2283B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ED03-08DF-4395-A811-6C2ABD9C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1BDB-D6AE-4AEF-BB14-6954DCEB4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708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0100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16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708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0100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C9F0-7762-4BD4-961F-69E67CD9E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FC0E-1E8D-4F33-82A1-C8B5E41F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9AE9-4B7E-409C-94CD-537E6DDA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4B1B-308F-4931-86C4-65BF81DA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160" y="76212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5DDA-3B7F-4FA0-9B48-01150294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19A7-3FE9-4428-84B5-514EA97D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573C-E6B7-407C-8CB5-5AE79BA3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AA7D-0829-47CD-ACC8-F7504DE7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9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9400" indent="-195480">
              <a:spcBef>
                <a:spcPts val="901"/>
              </a:spcBef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6040" indent="-282600">
              <a:spcBef>
                <a:spcPts val="9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2840" indent="-228600"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2840" indent="-228600"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2840" indent="-228600"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315200" y="651636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DC24-628E-4543-90FD-70E70CD47906}" type="datetime">
              <a:rPr b="0" lang="nb-NO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028840" y="65163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57840" y="6505560"/>
            <a:ext cx="46980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b-N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4DF3-DE16-4F3C-B053-CED23FA5363C}" type="slidenum">
              <a:rPr b="1" lang="nb-N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723852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67E1-A095-48C3-99C0-B928EC843D97}" type="datetime">
              <a:rPr b="0" lang="nb-NO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4267080" y="6477120"/>
            <a:ext cx="28195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05920" y="763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D7F7-8F50-43ED-8FB6-8415FF2F13E7}" type="slidenum">
              <a:rPr b="1" lang="nb-N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534160" y="6477120"/>
            <a:ext cx="39348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b-N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B4AA-CA1D-43FD-87A4-BDC403A710AD}" type="slidenum">
              <a:rPr b="1" lang="nb-N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66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algn="ctr"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3440" algn="ctr">
              <a:buClr>
                <a:srgbClr val="003399"/>
              </a:buClr>
              <a:buSzPct val="9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544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 indent="55440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 indent="55440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920" y="1472760"/>
            <a:ext cx="71625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99"/>
                </a:solidFill>
                <a:latin typeface="Arial"/>
              </a:rPr>
              <a:t>Создание статистической системы, основанной на регистрах </a:t>
            </a:r>
            <a:br>
              <a:rPr sz="3400"/>
            </a:br>
            <a:br>
              <a:rPr sz="3400"/>
            </a:b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имер</a:t>
            </a: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: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ерепись населения и жилого фонда в Норвегии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76000" y="4221000"/>
            <a:ext cx="7162920" cy="24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ающий семинар по проведению переписи с применением регистров в Женеве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лд Утне, Статистическое бюро Норве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harald.utne@ssb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6BF5-2B14-43A1-8F9F-13687DCB419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Многоквартирные дома до переписи </a:t>
            </a: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2001</a:t>
            </a: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 г.</a:t>
            </a:r>
            <a:br>
              <a:rPr sz="3200"/>
            </a:b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1981080"/>
            <a:ext cx="3657600" cy="1752840"/>
          </a:xfrm>
          <a:prstGeom prst="rect">
            <a:avLst/>
          </a:prstGeom>
          <a:solidFill>
            <a:srgbClr val="008080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86200" y="2895480"/>
            <a:ext cx="1371600" cy="762120"/>
          </a:xfrm>
          <a:prstGeom prst="rect">
            <a:avLst/>
          </a:prstGeom>
          <a:solidFill>
            <a:srgbClr val="008080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743200" y="2743200"/>
            <a:ext cx="1143000" cy="144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2743200"/>
            <a:ext cx="1440" cy="30492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2743200"/>
            <a:ext cx="1143000" cy="144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2743200"/>
            <a:ext cx="1440" cy="30492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1905120"/>
            <a:ext cx="1440" cy="99036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886200" y="3200040"/>
            <a:ext cx="152280" cy="22860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14800" y="2895480"/>
            <a:ext cx="228600" cy="22860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4723920" y="2895480"/>
            <a:ext cx="304920" cy="15264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5105160" y="3200040"/>
            <a:ext cx="152280" cy="22860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67080" y="3657600"/>
            <a:ext cx="457200" cy="30492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29000" y="41911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Times New Roman"/>
              </a:rPr>
              <a:t>Мэйн-стрит </a:t>
            </a:r>
            <a:r>
              <a:rPr b="0" lang="nb-NO" sz="2800" spc="-1" strike="noStrike">
                <a:solidFill>
                  <a:srgbClr val="003399"/>
                </a:solidFill>
                <a:latin typeface="Times New Roman"/>
              </a:rPr>
              <a:t>8 A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086600" y="4495680"/>
            <a:ext cx="1447920" cy="1440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041480" y="4724280"/>
            <a:ext cx="711000" cy="1219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034080" y="293364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H010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51320" y="2354400"/>
            <a:ext cx="8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H010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26080" y="23623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H010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35920" y="29718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H010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1905120"/>
            <a:ext cx="1981080" cy="2743200"/>
          </a:xfrm>
          <a:custGeom>
            <a:avLst/>
            <a:gdLst/>
            <a:ahLst/>
            <a:rect l="l" t="t" r="r" b="b"/>
            <a:pathLst>
              <a:path w="1152" h="1680">
                <a:moveTo>
                  <a:pt x="0" y="1680"/>
                </a:moveTo>
                <a:cubicBezTo>
                  <a:pt x="72" y="1080"/>
                  <a:pt x="144" y="480"/>
                  <a:pt x="336" y="240"/>
                </a:cubicBezTo>
                <a:cubicBezTo>
                  <a:pt x="528" y="0"/>
                  <a:pt x="1016" y="240"/>
                  <a:pt x="1152" y="240"/>
                </a:cubicBezTo>
              </a:path>
            </a:pathLst>
          </a:custGeom>
          <a:noFill/>
          <a:ln w="63360">
            <a:solidFill>
              <a:srgbClr val="0033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3880" y="2743200"/>
            <a:ext cx="1447920" cy="1828800"/>
          </a:xfrm>
          <a:custGeom>
            <a:avLst/>
            <a:gdLst/>
            <a:ahLst/>
            <a:rect l="l" t="t" r="r" b="b"/>
            <a:pathLst>
              <a:path w="864" h="1104">
                <a:moveTo>
                  <a:pt x="0" y="1104"/>
                </a:moveTo>
                <a:cubicBezTo>
                  <a:pt x="48" y="696"/>
                  <a:pt x="96" y="288"/>
                  <a:pt x="240" y="144"/>
                </a:cubicBezTo>
                <a:cubicBezTo>
                  <a:pt x="384" y="0"/>
                  <a:pt x="760" y="224"/>
                  <a:pt x="864" y="240"/>
                </a:cubicBezTo>
              </a:path>
            </a:pathLst>
          </a:custGeom>
          <a:noFill/>
          <a:ln w="63360">
            <a:solidFill>
              <a:srgbClr val="0033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34800" y="2286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2895480" y="4896000"/>
            <a:ext cx="1346400" cy="10476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5086440" y="4800600"/>
            <a:ext cx="1009440" cy="13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89EF-5A9B-4AA1-AC36-E155628A86CB}" type="slidenum">
              <a:t>10</a:t>
            </a:fld>
          </a:p>
        </p:txBody>
      </p:sp>
    </p:spTree>
  </p:cSld>
  <p:transition advTm="47000">
    <p:pull dir="l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Многоквартирные дома после переписи 2001 г.</a:t>
            </a: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цель </a:t>
            </a:r>
            <a:br>
              <a:rPr sz="2800"/>
            </a:b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1905120"/>
            <a:ext cx="3657600" cy="1752480"/>
          </a:xfrm>
          <a:prstGeom prst="rect">
            <a:avLst/>
          </a:prstGeom>
          <a:solidFill>
            <a:srgbClr val="008080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2895480"/>
            <a:ext cx="1371600" cy="762120"/>
          </a:xfrm>
          <a:prstGeom prst="rect">
            <a:avLst/>
          </a:prstGeom>
          <a:solidFill>
            <a:srgbClr val="008080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743200" y="2743200"/>
            <a:ext cx="1143000" cy="144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86200" y="2743200"/>
            <a:ext cx="1440" cy="30492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2743200"/>
            <a:ext cx="1143000" cy="144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2743200"/>
            <a:ext cx="1440" cy="30492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1905120"/>
            <a:ext cx="1440" cy="99036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886200" y="3200040"/>
            <a:ext cx="152280" cy="22860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14800" y="2895480"/>
            <a:ext cx="228600" cy="22860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723920" y="2895480"/>
            <a:ext cx="304920" cy="15264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5105160" y="3200040"/>
            <a:ext cx="152280" cy="22860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67080" y="3657600"/>
            <a:ext cx="457200" cy="30492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28800" y="6064200"/>
            <a:ext cx="36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Мэйн-стрит </a:t>
            </a:r>
            <a:r>
              <a:rPr b="0" lang="nb-NO" sz="1600" spc="-1" strike="noStrike">
                <a:solidFill>
                  <a:srgbClr val="003399"/>
                </a:solidFill>
                <a:latin typeface="Times New Roman"/>
              </a:rPr>
              <a:t>8 A H010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133720" y="4572000"/>
            <a:ext cx="1009440" cy="13716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7086600" y="4495680"/>
            <a:ext cx="1447920" cy="1440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5791320" y="4495680"/>
            <a:ext cx="888840" cy="15242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4"/>
          <a:stretch/>
        </p:blipFill>
        <p:spPr>
          <a:xfrm>
            <a:off x="762120" y="4419720"/>
            <a:ext cx="941400" cy="15318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034080" y="293364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H010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51320" y="2354400"/>
            <a:ext cx="8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H010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26080" y="23623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H010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5920" y="29718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H010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2514600"/>
            <a:ext cx="2209680" cy="2133720"/>
          </a:xfrm>
          <a:custGeom>
            <a:avLst/>
            <a:gdLst/>
            <a:ahLst/>
            <a:rect l="l" t="t" r="r" b="b"/>
            <a:pathLst>
              <a:path w="1104" h="1536">
                <a:moveTo>
                  <a:pt x="0" y="1536"/>
                </a:moveTo>
                <a:cubicBezTo>
                  <a:pt x="4" y="1040"/>
                  <a:pt x="8" y="544"/>
                  <a:pt x="192" y="288"/>
                </a:cubicBezTo>
                <a:cubicBezTo>
                  <a:pt x="376" y="32"/>
                  <a:pt x="952" y="48"/>
                  <a:pt x="1104" y="0"/>
                </a:cubicBezTo>
              </a:path>
            </a:pathLst>
          </a:custGeom>
          <a:noFill/>
          <a:ln w="63360">
            <a:solidFill>
              <a:srgbClr val="0033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84480" y="312408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112" y="864"/>
                </a:moveTo>
                <a:cubicBezTo>
                  <a:pt x="56" y="624"/>
                  <a:pt x="0" y="384"/>
                  <a:pt x="64" y="240"/>
                </a:cubicBezTo>
                <a:cubicBezTo>
                  <a:pt x="128" y="96"/>
                  <a:pt x="312" y="48"/>
                  <a:pt x="496" y="0"/>
                </a:cubicBezTo>
              </a:path>
            </a:pathLst>
          </a:custGeom>
          <a:noFill/>
          <a:ln w="63360">
            <a:solidFill>
              <a:srgbClr val="0033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43600" y="3048120"/>
            <a:ext cx="660240" cy="1447560"/>
          </a:xfrm>
          <a:custGeom>
            <a:avLst/>
            <a:gdLst/>
            <a:ahLst/>
            <a:rect l="l" t="t" r="r" b="b"/>
            <a:pathLst>
              <a:path w="360" h="864">
                <a:moveTo>
                  <a:pt x="232" y="864"/>
                </a:moveTo>
                <a:cubicBezTo>
                  <a:pt x="296" y="668"/>
                  <a:pt x="360" y="472"/>
                  <a:pt x="328" y="336"/>
                </a:cubicBezTo>
                <a:cubicBezTo>
                  <a:pt x="296" y="200"/>
                  <a:pt x="80" y="96"/>
                  <a:pt x="40" y="48"/>
                </a:cubicBezTo>
                <a:cubicBezTo>
                  <a:pt x="0" y="0"/>
                  <a:pt x="44" y="24"/>
                  <a:pt x="88" y="48"/>
                </a:cubicBezTo>
              </a:path>
            </a:pathLst>
          </a:custGeom>
          <a:noFill/>
          <a:ln w="63360">
            <a:solidFill>
              <a:srgbClr val="0033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2720" y="2514600"/>
            <a:ext cx="2209680" cy="1905120"/>
          </a:xfrm>
          <a:custGeom>
            <a:avLst/>
            <a:gdLst/>
            <a:ahLst/>
            <a:rect l="l" t="t" r="r" b="b"/>
            <a:pathLst>
              <a:path w="1488" h="1256">
                <a:moveTo>
                  <a:pt x="1440" y="1256"/>
                </a:moveTo>
                <a:cubicBezTo>
                  <a:pt x="1464" y="828"/>
                  <a:pt x="1488" y="400"/>
                  <a:pt x="1248" y="200"/>
                </a:cubicBezTo>
                <a:cubicBezTo>
                  <a:pt x="1008" y="0"/>
                  <a:pt x="208" y="80"/>
                  <a:pt x="0" y="56"/>
                </a:cubicBezTo>
              </a:path>
            </a:pathLst>
          </a:custGeom>
          <a:noFill/>
          <a:ln w="63360">
            <a:solidFill>
              <a:srgbClr val="0033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060680" y="6172200"/>
            <a:ext cx="17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НО</a:t>
            </a:r>
            <a:r>
              <a:rPr b="0" lang="nb-NO" sz="2400" spc="-1" strike="noStrike">
                <a:solidFill>
                  <a:srgbClr val="003399"/>
                </a:solidFill>
                <a:latin typeface="Times New Roman"/>
              </a:rPr>
              <a:t>-----------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7227-C4ED-4EFC-BC0D-67A398F6DD7C}" type="slidenum">
              <a:t>11</a:t>
            </a:fld>
          </a:p>
        </p:txBody>
      </p:sp>
    </p:spTree>
  </p:cSld>
  <p:transition advTm="47000">
    <p:pull dir="l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Многоквартирные дома после переписи 2001 г.</a:t>
            </a: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результат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1905120"/>
            <a:ext cx="3657600" cy="1752480"/>
          </a:xfrm>
          <a:prstGeom prst="rect">
            <a:avLst/>
          </a:prstGeom>
          <a:solidFill>
            <a:srgbClr val="008080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2895480"/>
            <a:ext cx="1371600" cy="762120"/>
          </a:xfrm>
          <a:prstGeom prst="rect">
            <a:avLst/>
          </a:prstGeom>
          <a:solidFill>
            <a:srgbClr val="008080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743200" y="2743200"/>
            <a:ext cx="1143000" cy="144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86200" y="2743200"/>
            <a:ext cx="1440" cy="30492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57800" y="2743200"/>
            <a:ext cx="1143000" cy="144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257800" y="2743200"/>
            <a:ext cx="1440" cy="30492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0" y="1905120"/>
            <a:ext cx="1440" cy="99036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3886200" y="3200040"/>
            <a:ext cx="152280" cy="22860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14800" y="2895480"/>
            <a:ext cx="228600" cy="22860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4723920" y="2895480"/>
            <a:ext cx="304920" cy="15264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5105160" y="3200040"/>
            <a:ext cx="152280" cy="22860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267080" y="3657600"/>
            <a:ext cx="457200" cy="30492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00400" y="48769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Мэйн-стрит </a:t>
            </a:r>
            <a:r>
              <a:rPr b="0" lang="nb-NO" sz="1600" spc="-1" strike="noStrike">
                <a:solidFill>
                  <a:srgbClr val="003399"/>
                </a:solidFill>
                <a:latin typeface="Times New Roman"/>
              </a:rPr>
              <a:t>8 A H010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133720" y="4572000"/>
            <a:ext cx="1009440" cy="13716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7086600" y="4495680"/>
            <a:ext cx="1447920" cy="14400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5791320" y="4495680"/>
            <a:ext cx="888840" cy="15242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762120" y="4419720"/>
            <a:ext cx="941400" cy="1531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034080" y="293364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H010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451320" y="2354400"/>
            <a:ext cx="8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H010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726080" y="23623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H010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35920" y="29718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H010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19320" y="2514600"/>
            <a:ext cx="2209680" cy="2133720"/>
          </a:xfrm>
          <a:custGeom>
            <a:avLst/>
            <a:gdLst/>
            <a:ahLst/>
            <a:rect l="l" t="t" r="r" b="b"/>
            <a:pathLst>
              <a:path w="1104" h="1536">
                <a:moveTo>
                  <a:pt x="0" y="1536"/>
                </a:moveTo>
                <a:cubicBezTo>
                  <a:pt x="4" y="1040"/>
                  <a:pt x="8" y="544"/>
                  <a:pt x="192" y="288"/>
                </a:cubicBezTo>
                <a:cubicBezTo>
                  <a:pt x="376" y="32"/>
                  <a:pt x="952" y="48"/>
                  <a:pt x="1104" y="0"/>
                </a:cubicBezTo>
              </a:path>
            </a:pathLst>
          </a:custGeom>
          <a:noFill/>
          <a:ln w="63360">
            <a:solidFill>
              <a:srgbClr val="0033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84480" y="312408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112" y="864"/>
                </a:moveTo>
                <a:cubicBezTo>
                  <a:pt x="56" y="624"/>
                  <a:pt x="0" y="384"/>
                  <a:pt x="64" y="240"/>
                </a:cubicBezTo>
                <a:cubicBezTo>
                  <a:pt x="128" y="96"/>
                  <a:pt x="312" y="48"/>
                  <a:pt x="496" y="0"/>
                </a:cubicBezTo>
              </a:path>
            </a:pathLst>
          </a:custGeom>
          <a:noFill/>
          <a:ln w="63360">
            <a:solidFill>
              <a:srgbClr val="0033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48400" y="5867280"/>
            <a:ext cx="809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Только </a:t>
            </a:r>
            <a:r>
              <a:rPr b="0" lang="en-NZ" sz="2400" spc="-1" strike="noStrike">
                <a:solidFill>
                  <a:srgbClr val="003399"/>
                </a:solidFill>
                <a:latin typeface="Times New Roman"/>
              </a:rPr>
              <a:t>55 % 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лиц в многоквартирных домах было привязано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к уникальному адресу проживания</a:t>
            </a:r>
            <a:r>
              <a:rPr b="0" lang="en-NZ" sz="2400" spc="-1" strike="noStrike">
                <a:solidFill>
                  <a:srgbClr val="003399"/>
                </a:solidFill>
                <a:latin typeface="Times New Roman"/>
              </a:rPr>
              <a:t>. 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Необходима доработка</a:t>
            </a:r>
            <a:r>
              <a:rPr b="0" lang="en-NZ" sz="2400" spc="-1" strike="noStrike">
                <a:solidFill>
                  <a:srgbClr val="003399"/>
                </a:solidFill>
                <a:latin typeface="Times New Roman"/>
              </a:rPr>
              <a:t>!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05360" y="3773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644440" y="400680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Мэйн-стрит </a:t>
            </a:r>
            <a:r>
              <a:rPr b="0" lang="en-GB" sz="1600" spc="-1" strike="noStrike">
                <a:solidFill>
                  <a:srgbClr val="003399"/>
                </a:solidFill>
                <a:latin typeface="Times New Roman"/>
              </a:rPr>
              <a:t>8 A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BEB5-CD6E-41C8-AA15-171B7C0FAE76}" type="slidenum">
              <a:t>12</a:t>
            </a:fld>
          </a:p>
        </p:txBody>
      </p:sp>
    </p:spTree>
  </p:cSld>
  <p:transition advTm="47000">
    <p:pull dir="l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Доработка после проекта адресов проживания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тистическое бюро Норвегии играет активную роль - продв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иторинг 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туация по состоянию на конец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95 %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еления привязано к месту про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2639-80EC-4757-A0AE-E70002FA29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99"/>
                </a:solidFill>
                <a:latin typeface="Arial"/>
              </a:rPr>
              <a:t>Сравнение переписи на основе регистров и традиционной переписи</a:t>
            </a:r>
            <a:endParaRPr b="1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38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окращение нагрузки на респондент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38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окращение затра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524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атраты на саму перепись относительно низк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38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тсутствие необходимости найма и обучения персонала по проведению переписи каждые 10 ле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тистические данные переписи и предметные статистические данные основываются на одном источн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и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жегодные «статистические данные перепис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F39F-E8BD-4416-BAB3-5A56249F35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99"/>
                </a:solidFill>
                <a:latin typeface="Arial"/>
              </a:rPr>
              <a:t>Сравнение переписи на основе регистров и традиционной переписи</a:t>
            </a:r>
            <a:endParaRPr b="1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доста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ючаются только переменные, имеющиеся в регистрах или производные из 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оторые ограничения по определ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живающие домохозяйств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не единицы ведения хозя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ридический адрес проживания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не фактическое место прож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утствие инструментов сбора для возникающих потреб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гут использоваться выборочные обследования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не в целях получения статистических данных небольших территор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1860-D11A-4D58-B618-D0141B9A50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47920" y="54936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ерепись на основе регистров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роцесс 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76720" y="1052640"/>
            <a:ext cx="914400" cy="43164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77440" y="1146240"/>
            <a:ext cx="121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диционная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08360" y="1484280"/>
            <a:ext cx="0" cy="360360"/>
          </a:xfrm>
          <a:prstGeom prst="line">
            <a:avLst/>
          </a:prstGeom>
          <a:ln w="1260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76720" y="1844640"/>
            <a:ext cx="914400" cy="43200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32000" y="1930320"/>
            <a:ext cx="13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ледование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0000" y="1341360"/>
            <a:ext cx="80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Расходы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45120" y="1341360"/>
            <a:ext cx="206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Нагрузка на респондентов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82760" y="1425600"/>
            <a:ext cx="269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Ежегодные статистические данные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708360" y="2276640"/>
            <a:ext cx="0" cy="288720"/>
          </a:xfrm>
          <a:prstGeom prst="line">
            <a:avLst/>
          </a:prstGeom>
          <a:ln w="1260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58760" y="1793880"/>
            <a:ext cx="138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Имеющие отношение регистры</a:t>
            </a: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19280" y="189072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Привязка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909680" y="1865160"/>
            <a:ext cx="133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Правовая база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564600" y="1865160"/>
            <a:ext cx="228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Поддержка общественност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276720" y="2565360"/>
            <a:ext cx="914400" cy="50328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09920" y="270828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0360" y="272268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Значимость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41280" y="272880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Охват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494400" y="2728800"/>
            <a:ext cx="14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Своевременность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43840" y="272268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Точность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755280" y="3068640"/>
            <a:ext cx="3024360" cy="1728720"/>
          </a:xfrm>
          <a:prstGeom prst="line">
            <a:avLst/>
          </a:prstGeom>
          <a:ln w="12600">
            <a:solidFill>
              <a:srgbClr val="00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97240" y="3645000"/>
            <a:ext cx="914400" cy="72072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780000" y="3068640"/>
            <a:ext cx="0" cy="576360"/>
          </a:xfrm>
          <a:prstGeom prst="line">
            <a:avLst/>
          </a:prstGeom>
          <a:ln w="1260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48000" y="3645000"/>
            <a:ext cx="934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ично на основе регистров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4000" y="4797360"/>
            <a:ext cx="914400" cy="50328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9280" y="479736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стью традиционная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908000" y="3068640"/>
            <a:ext cx="1872000" cy="1728720"/>
          </a:xfrm>
          <a:prstGeom prst="line">
            <a:avLst/>
          </a:prstGeom>
          <a:ln w="1260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7640" y="4797360"/>
            <a:ext cx="914400" cy="122400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76360" y="4797360"/>
            <a:ext cx="10080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Традиционна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endParaRPr b="0" lang="en-US" sz="11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ыборочные обследовани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или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ежегодные обновления</a:t>
            </a:r>
            <a:endParaRPr b="0" lang="en-US" sz="11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76720" y="4819680"/>
            <a:ext cx="914400" cy="84132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78520" y="4941720"/>
            <a:ext cx="945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стры 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радици-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ная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5589720"/>
            <a:ext cx="149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Новые технологии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08360" y="4365720"/>
            <a:ext cx="0" cy="431640"/>
          </a:xfrm>
          <a:prstGeom prst="line">
            <a:avLst/>
          </a:prstGeom>
          <a:ln w="1260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43280" y="4797360"/>
            <a:ext cx="914400" cy="93672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43280" y="4797360"/>
            <a:ext cx="10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стры и выборочное обследование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29440" y="4869000"/>
            <a:ext cx="93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стью на основе регистров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56360" y="4797360"/>
            <a:ext cx="914400" cy="91440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708360" y="4365720"/>
            <a:ext cx="1440000" cy="431640"/>
          </a:xfrm>
          <a:prstGeom prst="line">
            <a:avLst/>
          </a:prstGeom>
          <a:ln w="1260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08360" y="4365720"/>
            <a:ext cx="2879640" cy="431640"/>
          </a:xfrm>
          <a:prstGeom prst="line">
            <a:avLst/>
          </a:prstGeom>
          <a:ln w="1260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636360" y="1498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95640" y="5805360"/>
            <a:ext cx="914400" cy="79236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148360" y="5805360"/>
            <a:ext cx="1152360" cy="79236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995640" y="5805360"/>
            <a:ext cx="10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. и спец. выборочное обслед-е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500720" y="5734080"/>
            <a:ext cx="576000" cy="71280"/>
          </a:xfrm>
          <a:prstGeom prst="line">
            <a:avLst/>
          </a:prstGeom>
          <a:ln w="1260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76720" y="5734080"/>
            <a:ext cx="432000" cy="71280"/>
          </a:xfrm>
          <a:prstGeom prst="line">
            <a:avLst/>
          </a:prstGeom>
          <a:ln w="1260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211640" y="5084640"/>
            <a:ext cx="431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80000" y="5084640"/>
            <a:ext cx="576360" cy="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580000" y="5445000"/>
            <a:ext cx="576360" cy="0"/>
          </a:xfrm>
          <a:prstGeom prst="line">
            <a:avLst/>
          </a:prstGeom>
          <a:ln w="1260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48360" y="5805360"/>
            <a:ext cx="115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. и имеющееся выборочное обслед-е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5BE0-A422-4A76-9544-EDA5CA94B6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160" y="280620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Спасибо за внимание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!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5B38-9BC6-42C3-BC9F-9FE5DC926D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Переписи в Норвегии в </a:t>
            </a: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1960 – 2011</a:t>
            </a: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 гг.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пись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6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няя полностью традиционная переп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е переписи использовались для формирования ЦРН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6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пись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7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имущественно тради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пись использовалась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5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ки и обновления ЦР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5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я Регистра образования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татистическом бюро Норвегии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пись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8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писные листы сокращены и отправлены по поч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5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ы использовались для рационализации сбора данных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правка по почте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врат по поч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9400" indent="-195480"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счетч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5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мографические переменные взяты из ЦР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3966-FE82-454A-AC08-A53BBA9AEA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Переписи в Норвегии в </a:t>
            </a: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1960 – 2011</a:t>
            </a: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 гг.</a:t>
            </a: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 (2)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пись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99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е регистров по демографии, образованию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ходам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ографическим характеристик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писные листы для получения данных о рынке труд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мохозяйствах и жилом фон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9400" indent="-195480">
              <a:lnSpc>
                <a:spcPct val="90000"/>
              </a:lnSpc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орочное об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9400" indent="-195480">
              <a:lnSpc>
                <a:spcPct val="90000"/>
              </a:lnSpc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 рынка труда применялся для оце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пись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0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данные по физическим лицам из регис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е по семьям и домохозяйствам на основании регистров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ереписных ли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е по жилому фонду на основании переписных ли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следование сплошного охвата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домохозяйств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пись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1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ностью на основе регис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123E-90E3-487B-A7CE-FB1EFD4BE1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Историческое развитие, основные тенденции</a:t>
            </a: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ширное использование данных переписи при создании регис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80880">
              <a:spcBef>
                <a:spcPts val="45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«данных переписи» в административных целях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80880">
              <a:spcBef>
                <a:spcPts val="45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ообразная правовая база для перепи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343080"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01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. в Норвегии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кон о статистике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РН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G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епенн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8088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азвитие переписи на основе регистров может потребоваться много времени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DD1D-ED31-4596-BBF5-839AD47744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52480" y="990720"/>
            <a:ext cx="762120" cy="7617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12193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3399"/>
                </a:solidFill>
                <a:latin typeface="Arial"/>
              </a:rPr>
              <a:t>Образование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990720"/>
            <a:ext cx="761760" cy="7617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61320" y="125748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3399"/>
                </a:solidFill>
                <a:latin typeface="Arial"/>
              </a:rPr>
              <a:t>Доходы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990720"/>
            <a:ext cx="762120" cy="7617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42000" y="1047600"/>
            <a:ext cx="6872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3399"/>
                </a:solidFill>
                <a:latin typeface="Arial"/>
              </a:rPr>
              <a:t>Социальное обеспечение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24480" y="990720"/>
            <a:ext cx="762120" cy="7617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64000" y="118908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3399"/>
                </a:solidFill>
                <a:latin typeface="Arial"/>
              </a:rPr>
              <a:t>Безработные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2286000"/>
            <a:ext cx="762120" cy="762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289240"/>
            <a:ext cx="9144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c0000"/>
                </a:solidFill>
                <a:latin typeface="Arial"/>
              </a:rPr>
              <a:t>Регистр населения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2286000"/>
            <a:ext cx="761760" cy="7621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04440" y="24210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3399"/>
                </a:solidFill>
                <a:latin typeface="Arial"/>
              </a:rPr>
              <a:t>Регистры 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3399"/>
                </a:solidFill>
                <a:latin typeface="Arial"/>
              </a:rPr>
              <a:t>рабочих 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3399"/>
                </a:solidFill>
                <a:latin typeface="Arial"/>
              </a:rPr>
              <a:t>мест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00600" y="2286000"/>
            <a:ext cx="762120" cy="762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19600" y="2470320"/>
            <a:ext cx="929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c0000"/>
                </a:solidFill>
                <a:latin typeface="Arial"/>
              </a:rPr>
              <a:t>Регистр 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c0000"/>
                </a:solidFill>
                <a:latin typeface="Arial"/>
              </a:rPr>
              <a:t>предприятий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14600" y="2666880"/>
            <a:ext cx="7621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38480" y="2666880"/>
            <a:ext cx="7621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3276720"/>
            <a:ext cx="761760" cy="761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3352680"/>
            <a:ext cx="99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c0000"/>
                </a:solidFill>
                <a:latin typeface="Arial"/>
              </a:rPr>
              <a:t>Адреса Здания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c0000"/>
                </a:solidFill>
                <a:latin typeface="Arial"/>
              </a:rPr>
              <a:t>Жилье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1752480"/>
            <a:ext cx="0" cy="53352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362320" y="1676160"/>
            <a:ext cx="1066680" cy="68580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362320" y="1752480"/>
            <a:ext cx="2743200" cy="60984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362320" y="1752480"/>
            <a:ext cx="4267080" cy="60984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62320" y="2971800"/>
            <a:ext cx="914400" cy="68580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038480" y="2971800"/>
            <a:ext cx="914400" cy="68580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5120" y="246708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P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68880" y="246708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59120" y="175248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P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6560" y="182880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P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89480" y="167652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P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40480" y="167652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P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44640" y="307656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54560" y="307656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93240" y="3295800"/>
            <a:ext cx="1649520" cy="58068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3399"/>
                </a:solidFill>
                <a:latin typeface="Arial"/>
              </a:rPr>
              <a:t>P = </a:t>
            </a:r>
            <a:r>
              <a:rPr b="0" lang="ru-RU" sz="800" spc="-1" strike="noStrike">
                <a:solidFill>
                  <a:srgbClr val="003399"/>
                </a:solidFill>
                <a:latin typeface="Arial"/>
              </a:rPr>
              <a:t>Личный идент.номер</a:t>
            </a:r>
            <a:endParaRPr b="0" lang="en-US" sz="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3399"/>
                </a:solidFill>
                <a:latin typeface="Arial"/>
              </a:rPr>
              <a:t>B = </a:t>
            </a:r>
            <a:r>
              <a:rPr b="0" lang="ru-RU" sz="800" spc="-1" strike="noStrike">
                <a:solidFill>
                  <a:srgbClr val="003399"/>
                </a:solidFill>
                <a:latin typeface="Arial"/>
              </a:rPr>
              <a:t>Идент. номер предприятия</a:t>
            </a:r>
            <a:endParaRPr b="0" lang="en-US" sz="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3399"/>
                </a:solidFill>
                <a:latin typeface="Arial"/>
              </a:rPr>
              <a:t>A = </a:t>
            </a:r>
            <a:r>
              <a:rPr b="0" lang="ru-RU" sz="800" spc="-1" strike="noStrike">
                <a:solidFill>
                  <a:srgbClr val="003399"/>
                </a:solidFill>
                <a:latin typeface="Arial"/>
              </a:rPr>
              <a:t>Числовой адрес</a:t>
            </a:r>
            <a:endParaRPr b="0" lang="en-US" sz="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990720"/>
            <a:ext cx="762120" cy="7617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900" spc="-1" strike="noStrike">
                <a:solidFill>
                  <a:srgbClr val="003399"/>
                </a:solidFill>
                <a:latin typeface="바탕"/>
              </a:rPr>
              <a:t> 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3399"/>
                </a:solidFill>
                <a:latin typeface="Arial"/>
              </a:rPr>
              <a:t>Другие 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3399"/>
                </a:solidFill>
                <a:latin typeface="Arial"/>
              </a:rPr>
              <a:t>регистры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1752480"/>
            <a:ext cx="685800" cy="68580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20760" y="205740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P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57200"/>
            <a:ext cx="9325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3399"/>
                </a:solidFill>
                <a:latin typeface="Arial"/>
              </a:rPr>
              <a:t>Система переписи населения и жилого фонда на основе регистров</a:t>
            </a:r>
            <a:endParaRPr b="0" lang="en-US" sz="21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4005360"/>
            <a:ext cx="8381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46240" indent="-246240">
              <a:lnSpc>
                <a:spcPct val="100000"/>
              </a:lnSpc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диницы, охваченные в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базовых регистрах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зические лиц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стожительства/здания и предприятия/учреждения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246240" indent="-246240">
              <a:lnSpc>
                <a:spcPct val="100000"/>
              </a:lnSpc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ные единицы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ьи и домохозяйства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246240" indent="-246240">
              <a:lnSpc>
                <a:spcPct val="100000"/>
              </a:lnSpc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зические лица привязаны к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663480" indent="-226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стожительствам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663480" indent="-226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стам работы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реждениям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редством регистров рабочих мест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246240" indent="-246240">
              <a:lnSpc>
                <a:spcPct val="100000"/>
              </a:lnSpc>
              <a:spcBef>
                <a:spcPts val="675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4E68-8BFA-4C68-BAFA-ED4B6792AC74}" type="slidenum">
              <a:t>5</a:t>
            </a:fld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Данные переписи из регистров </a:t>
            </a: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«третичное использование»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76520" y="1447920"/>
            <a:ext cx="914400" cy="91440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87640" y="1413000"/>
            <a:ext cx="914400" cy="91440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рплата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08720" y="1447920"/>
            <a:ext cx="914400" cy="91440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46196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Адм. регистры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06400" y="1628640"/>
            <a:ext cx="885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ботающие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51640" y="1755720"/>
            <a:ext cx="88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Times New Roman"/>
              </a:rPr>
              <a:t>ЦРН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6280" y="3457440"/>
            <a:ext cx="215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Статистические регистры в Статистическом бюро Норвегии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68360" y="3429000"/>
            <a:ext cx="1025640" cy="9144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нятость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92720" y="3451320"/>
            <a:ext cx="914400" cy="9144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21440" y="370044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селение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14800" y="4876920"/>
            <a:ext cx="914400" cy="91440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48920" y="5045040"/>
            <a:ext cx="120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АЙЛ 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ЕРЕПИСИ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7800" y="468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5640" y="521964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Перепись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1413000"/>
            <a:ext cx="914400" cy="91440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оход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24360" y="3429000"/>
            <a:ext cx="1025640" cy="9144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оходы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24000" y="2349360"/>
            <a:ext cx="719280" cy="1079640"/>
          </a:xfrm>
          <a:prstGeom prst="line">
            <a:avLst/>
          </a:prstGeom>
          <a:ln w="1260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842920" y="2349360"/>
            <a:ext cx="576360" cy="1079640"/>
          </a:xfrm>
          <a:prstGeom prst="line">
            <a:avLst/>
          </a:prstGeom>
          <a:ln w="1260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500720" y="2349360"/>
            <a:ext cx="71280" cy="1079640"/>
          </a:xfrm>
          <a:prstGeom prst="line">
            <a:avLst/>
          </a:prstGeom>
          <a:ln w="1260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276360" y="3860640"/>
            <a:ext cx="647640" cy="0"/>
          </a:xfrm>
          <a:prstGeom prst="line">
            <a:avLst/>
          </a:prstGeom>
          <a:ln w="1260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71640" y="4365720"/>
            <a:ext cx="1368720" cy="792000"/>
          </a:xfrm>
          <a:prstGeom prst="line">
            <a:avLst/>
          </a:prstGeom>
          <a:ln w="1260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27640" y="4292640"/>
            <a:ext cx="144360" cy="576360"/>
          </a:xfrm>
          <a:prstGeom prst="line">
            <a:avLst/>
          </a:prstGeom>
          <a:ln w="1260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724360" y="2349360"/>
            <a:ext cx="216000" cy="1150920"/>
          </a:xfrm>
          <a:prstGeom prst="line">
            <a:avLst/>
          </a:prstGeom>
          <a:ln w="1260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86680" y="3429000"/>
            <a:ext cx="914400" cy="9144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932360" y="4365720"/>
            <a:ext cx="719280" cy="647640"/>
          </a:xfrm>
          <a:prstGeom prst="line">
            <a:avLst/>
          </a:prstGeom>
          <a:ln w="1260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003640" y="4365720"/>
            <a:ext cx="2592720" cy="863640"/>
          </a:xfrm>
          <a:prstGeom prst="line">
            <a:avLst/>
          </a:prstGeom>
          <a:ln w="1260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2708280"/>
            <a:ext cx="7993080" cy="0"/>
          </a:xfrm>
          <a:prstGeom prst="line">
            <a:avLst/>
          </a:prstGeom>
          <a:ln cap="rnd" w="38160">
            <a:solidFill>
              <a:srgbClr val="00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A2ED-BAE8-4EBF-8022-47F7415E3F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752480" y="990720"/>
            <a:ext cx="762120" cy="7617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52480" y="12193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3399"/>
                </a:solidFill>
                <a:latin typeface="Arial"/>
              </a:rPr>
              <a:t>Образование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990720"/>
            <a:ext cx="761760" cy="7617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61320" y="125748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3399"/>
                </a:solidFill>
                <a:latin typeface="Arial"/>
              </a:rPr>
              <a:t>Доходы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00600" y="990720"/>
            <a:ext cx="762120" cy="7617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59280" y="1022400"/>
            <a:ext cx="649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3399"/>
                </a:solidFill>
                <a:latin typeface="Arial"/>
              </a:rPr>
              <a:t>Социальное обеспе-чение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24480" y="990720"/>
            <a:ext cx="762120" cy="7617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64000" y="118908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3399"/>
                </a:solidFill>
                <a:latin typeface="Arial"/>
              </a:rPr>
              <a:t>Безработные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52480" y="2286000"/>
            <a:ext cx="762120" cy="762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19280" y="2289240"/>
            <a:ext cx="9716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3399"/>
                </a:solidFill>
                <a:latin typeface="Arial"/>
              </a:rPr>
              <a:t>Центральный регистр населения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76720" y="2286000"/>
            <a:ext cx="761760" cy="7621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02640" y="2438280"/>
            <a:ext cx="71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3399"/>
                </a:solidFill>
                <a:latin typeface="Arial"/>
              </a:rPr>
              <a:t>Регистры 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3399"/>
                </a:solidFill>
                <a:latin typeface="Arial"/>
              </a:rPr>
              <a:t>рабочих 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3399"/>
                </a:solidFill>
                <a:latin typeface="Arial"/>
              </a:rPr>
              <a:t>мест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286000"/>
            <a:ext cx="762120" cy="762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19600" y="2470320"/>
            <a:ext cx="929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3399"/>
                </a:solidFill>
                <a:latin typeface="Arial"/>
              </a:rPr>
              <a:t>Регистр 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3399"/>
                </a:solidFill>
                <a:latin typeface="Arial"/>
              </a:rPr>
              <a:t>предприятий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14600" y="2666880"/>
            <a:ext cx="7621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38480" y="2666880"/>
            <a:ext cx="7621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3276720"/>
            <a:ext cx="761760" cy="761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00400" y="3352680"/>
            <a:ext cx="99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3399"/>
                </a:solidFill>
                <a:latin typeface="Arial"/>
              </a:rPr>
              <a:t>Адреса Здания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c0000"/>
                </a:solidFill>
                <a:latin typeface="Arial"/>
              </a:rPr>
              <a:t>Жилье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33720" y="1752480"/>
            <a:ext cx="0" cy="53352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362320" y="1676160"/>
            <a:ext cx="1066680" cy="68580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362320" y="1752480"/>
            <a:ext cx="2743200" cy="60984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362320" y="1752480"/>
            <a:ext cx="4267080" cy="60984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62320" y="2971800"/>
            <a:ext cx="914400" cy="685800"/>
          </a:xfrm>
          <a:prstGeom prst="line">
            <a:avLst/>
          </a:prstGeom>
          <a:ln w="381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4038480" y="2971800"/>
            <a:ext cx="914400" cy="68580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05120" y="246708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P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68880" y="246708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59120" y="175248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P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6560" y="182880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P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89480" y="167652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P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640480" y="167652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P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44640" y="307656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54560" y="307656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93240" y="3295800"/>
            <a:ext cx="1649520" cy="58068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3399"/>
                </a:solidFill>
                <a:latin typeface="Arial"/>
              </a:rPr>
              <a:t>P = </a:t>
            </a:r>
            <a:r>
              <a:rPr b="0" lang="ru-RU" sz="800" spc="-1" strike="noStrike">
                <a:solidFill>
                  <a:srgbClr val="003399"/>
                </a:solidFill>
                <a:latin typeface="Arial"/>
              </a:rPr>
              <a:t>Личный идент.номер</a:t>
            </a:r>
            <a:endParaRPr b="0" lang="en-US" sz="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3399"/>
                </a:solidFill>
                <a:latin typeface="Arial"/>
              </a:rPr>
              <a:t>B = </a:t>
            </a:r>
            <a:r>
              <a:rPr b="0" lang="ru-RU" sz="800" spc="-1" strike="noStrike">
                <a:solidFill>
                  <a:srgbClr val="003399"/>
                </a:solidFill>
                <a:latin typeface="Arial"/>
              </a:rPr>
              <a:t>Идент. номер предприятия</a:t>
            </a:r>
            <a:endParaRPr b="0" lang="en-US" sz="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3399"/>
                </a:solidFill>
                <a:latin typeface="Arial"/>
              </a:rPr>
              <a:t>A = </a:t>
            </a:r>
            <a:r>
              <a:rPr b="0" lang="ru-RU" sz="800" spc="-1" strike="noStrike">
                <a:solidFill>
                  <a:srgbClr val="003399"/>
                </a:solidFill>
                <a:latin typeface="Arial"/>
              </a:rPr>
              <a:t>Числовой адрес</a:t>
            </a:r>
            <a:endParaRPr b="0" lang="en-US" sz="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990720"/>
            <a:ext cx="762120" cy="7617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900" spc="-1" strike="noStrike">
                <a:solidFill>
                  <a:srgbClr val="003399"/>
                </a:solidFill>
                <a:latin typeface="바탕"/>
              </a:rPr>
              <a:t> 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3399"/>
                </a:solidFill>
                <a:latin typeface="Arial"/>
              </a:rPr>
              <a:t>Другие 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3399"/>
                </a:solidFill>
                <a:latin typeface="Arial"/>
              </a:rPr>
              <a:t>регистры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43000" y="1752480"/>
            <a:ext cx="685800" cy="68580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0760" y="205740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P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Данные переписи до 2001 г. 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98200" y="4659480"/>
            <a:ext cx="739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утствие регистра жилого фонда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 привязки между человеком и жильем, т.е. отсутствие регистра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мохозяйств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1DEF-62A5-4C69-89F2-FE04193F15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Перепись в Норвегии </a:t>
            </a: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2001 </a:t>
            </a: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г.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 статистические данные переписи за 2001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основы для переписи на основе регистров 2011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ект адресов прож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94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896C-4969-4ABE-9533-D6BAC8FE98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Проект адресов проживания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ц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5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ширение кадастра для включения жилищ, а не только з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9400" indent="-195480"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бавление к улице номера жилищ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9400" indent="-195480"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эйн-стрит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8A, H01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9400" indent="-195480"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здание связи между жилищами и проживающими лицами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ЦРН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9400" indent="-195480"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ование данных из переписных фор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ая проблем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квартирные зд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5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тистическое бюро Норвегии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пись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5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оговая инспектура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РН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5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я картирования Норвегии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дастр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е «данных переписи» в административных цел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5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ообразная правовая база для переписи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AC11-6FCE-43C6-8B72-B4348CD472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07:39:09Z</dcterms:created>
  <dc:creator>Harald Utne</dc:creator>
  <dc:description/>
  <cp:keywords/>
  <dc:language>en-US</dc:language>
  <cp:lastModifiedBy>katenb</cp:lastModifiedBy>
  <cp:lastPrinted>1999-08-31T12:20:00Z</cp:lastPrinted>
  <dcterms:modified xsi:type="dcterms:W3CDTF">2012-04-26T12:34:10Z</dcterms:modified>
  <cp:revision>41</cp:revision>
  <dc:subject/>
  <dc:title>Folketellingsstatistikk 200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