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8400" y="9537480"/>
            <a:ext cx="932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896333-0782-49C5-8341-85962BA09F95}" type="slidenum">
              <a:rPr b="0" lang="nb-NO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cific census cost low: Tertiary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emerging needs, 2001: Accessibility to dwelling for disabled pers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TIME: Discussion about dogs in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rst census 1769, first census with information on all persons: 18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90. Labour market register: Quality not good enough as a main data source, but was used as an additional sources (estim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ltiple legal base: The 2001 Census was not only a statistical operation, but legally also an administrative data collection. Information was given in the questionnair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establish these statistical registers, more than 30 administrative registers ar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85760" y="87012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27160"/>
            <a:ext cx="4996080" cy="418140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just an example. Number of registers is in reality much lar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C1F-41C4-4DE0-BADF-24B7F6C3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C62-9A50-4464-89F7-F149BAE3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46D-4195-4638-8723-C3371599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94F-C9B5-4450-8C91-B5959CA2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ADD3-0B0F-4C87-BC6A-D227919C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2CEA-35B0-44B0-86DC-E9020731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FF2C-830B-41C0-941A-791526CD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0A86-A8C5-4ACE-BC6B-D35CB3BF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01C8-32C0-42C0-978D-83FD0509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8F23-EDD7-4E13-B783-FA2C5432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3768-6093-41B6-A7B9-0C2453CD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7D1-4444-4EC7-A5B4-DA50AD44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4B64-4CAF-4CCF-8E0C-770FBA65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7566-E468-49B8-BAC3-59A30251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19BD-3495-4CA6-98EA-9BB8C6BB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12A5-A575-4047-90A9-0D3F49E3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F6A5-68CF-4B97-A92A-676647FF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229-ABA2-4A79-A532-EB523096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C66-787D-4E78-B8A1-306EA793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C18-D49C-4AEF-BB68-F47B15C1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671-E534-4CBB-82C8-38650C6D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C96-6152-4B14-9E89-574D5C8A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45A-A3D3-4BDB-A895-0CF3F5EE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74B-3943-477C-9242-5983CE0A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0" y="65163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8E71-253D-47A5-A5E0-F9B02E2D11F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8840" y="6516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57840" y="6505560"/>
            <a:ext cx="469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5F35-064D-4F94-ACB2-98A964EDB2A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23852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B7D2-E22C-4C97-B6A9-FB5D99548AF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267080" y="64771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9005-1DC0-45CA-B42A-FC2C48B7316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53416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5307-97D8-41C6-8769-C306301F540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33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3399"/>
                </a:solidFill>
                <a:latin typeface="Arial"/>
              </a:rPr>
              <a:t>Establishing a register-based statistical system</a:t>
            </a:r>
            <a:br>
              <a:rPr sz="3400"/>
            </a:br>
            <a:br>
              <a:rPr sz="3400"/>
            </a:b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Example: Population and housing censuses in Norway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76000" y="4221000"/>
            <a:ext cx="7162920" cy="24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workshop on censuses using administrative registers in Geneva 21 Ma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ald Utne, Statistics 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harald.utne@ssb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DC67-20CF-4034-AAD4-D2B42C9B9F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Multi-dwelling buildings before Census 2001</a:t>
            </a:r>
            <a:br>
              <a:rPr sz="3200"/>
            </a:b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1981080"/>
            <a:ext cx="3657600" cy="1752840"/>
          </a:xfrm>
          <a:prstGeom prst="rect">
            <a:avLst/>
          </a:prstGeom>
          <a:solidFill>
            <a:srgbClr val="00808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2895480"/>
            <a:ext cx="1371600" cy="762120"/>
          </a:xfrm>
          <a:prstGeom prst="rect">
            <a:avLst/>
          </a:prstGeom>
          <a:solidFill>
            <a:srgbClr val="00808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743200" y="2743200"/>
            <a:ext cx="114300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2743200"/>
            <a:ext cx="144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2743200"/>
            <a:ext cx="114300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57800" y="2743200"/>
            <a:ext cx="144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1905120"/>
            <a:ext cx="1440" cy="990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886200" y="3200040"/>
            <a:ext cx="15228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2895480"/>
            <a:ext cx="22860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723920" y="2895480"/>
            <a:ext cx="304920" cy="1526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105160" y="3200040"/>
            <a:ext cx="15228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3657600"/>
            <a:ext cx="45720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29000" y="4191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ain street 8 A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086600" y="4495680"/>
            <a:ext cx="1447920" cy="144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041480" y="4724280"/>
            <a:ext cx="711000" cy="1219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34080" y="29336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51320" y="235440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6080" y="23623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920" y="2971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1905120"/>
            <a:ext cx="1981080" cy="2743200"/>
          </a:xfrm>
          <a:custGeom>
            <a:avLst/>
            <a:gdLst/>
            <a:ahLst/>
            <a:rect l="l" t="t" r="r" b="b"/>
            <a:pathLst>
              <a:path w="1152" h="1680">
                <a:moveTo>
                  <a:pt x="0" y="1680"/>
                </a:moveTo>
                <a:cubicBezTo>
                  <a:pt x="72" y="1080"/>
                  <a:pt x="144" y="480"/>
                  <a:pt x="336" y="240"/>
                </a:cubicBezTo>
                <a:cubicBezTo>
                  <a:pt x="528" y="0"/>
                  <a:pt x="1016" y="240"/>
                  <a:pt x="1152" y="240"/>
                </a:cubicBezTo>
              </a:path>
            </a:pathLst>
          </a:custGeom>
          <a:noFill/>
          <a:ln w="63360">
            <a:solidFill>
              <a:srgbClr val="00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743200"/>
            <a:ext cx="1447920" cy="182880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104"/>
                </a:moveTo>
                <a:cubicBezTo>
                  <a:pt x="48" y="696"/>
                  <a:pt x="96" y="288"/>
                  <a:pt x="240" y="144"/>
                </a:cubicBezTo>
                <a:cubicBezTo>
                  <a:pt x="384" y="0"/>
                  <a:pt x="760" y="224"/>
                  <a:pt x="864" y="240"/>
                </a:cubicBezTo>
              </a:path>
            </a:pathLst>
          </a:custGeom>
          <a:noFill/>
          <a:ln w="63360">
            <a:solidFill>
              <a:srgbClr val="00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4800" y="2286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895480" y="4896000"/>
            <a:ext cx="1346400" cy="1047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5086440" y="4800600"/>
            <a:ext cx="100944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493-EB25-4A1C-8CFB-48F28527D722}" type="slidenum">
              <a:t>10</a:t>
            </a:fld>
          </a:p>
        </p:txBody>
      </p:sp>
    </p:spTree>
  </p:cSld>
  <p:transition advTm="47000">
    <p:pull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Multi-dwelling buildings after Census 2001, goal</a:t>
            </a:r>
            <a:br>
              <a:rPr sz="2800"/>
            </a:b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43200" y="1905120"/>
            <a:ext cx="3657600" cy="17524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2895480"/>
            <a:ext cx="1371600" cy="762120"/>
          </a:xfrm>
          <a:prstGeom prst="rect">
            <a:avLst/>
          </a:prstGeom>
          <a:solidFill>
            <a:srgbClr val="00808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743200" y="2743200"/>
            <a:ext cx="114300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144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2743200"/>
            <a:ext cx="114300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2743200"/>
            <a:ext cx="144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1905120"/>
            <a:ext cx="1440" cy="990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886200" y="3200040"/>
            <a:ext cx="15228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2895480"/>
            <a:ext cx="22860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723920" y="2895480"/>
            <a:ext cx="304920" cy="1526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105160" y="3200040"/>
            <a:ext cx="15228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67080" y="3657600"/>
            <a:ext cx="45720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6064200"/>
            <a:ext cx="36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ain street 8 A H010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1009440" cy="1371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086600" y="4495680"/>
            <a:ext cx="1447920" cy="1440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888840" cy="15242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762120" y="4419720"/>
            <a:ext cx="941400" cy="1531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034080" y="29336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51320" y="235440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6080" y="23623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920" y="2971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514600"/>
            <a:ext cx="2209680" cy="2133720"/>
          </a:xfrm>
          <a:custGeom>
            <a:avLst/>
            <a:gdLst/>
            <a:ahLst/>
            <a:rect l="l" t="t" r="r" b="b"/>
            <a:pathLst>
              <a:path w="1104" h="1536">
                <a:moveTo>
                  <a:pt x="0" y="1536"/>
                </a:moveTo>
                <a:cubicBezTo>
                  <a:pt x="4" y="1040"/>
                  <a:pt x="8" y="544"/>
                  <a:pt x="192" y="288"/>
                </a:cubicBezTo>
                <a:cubicBezTo>
                  <a:pt x="376" y="32"/>
                  <a:pt x="952" y="48"/>
                  <a:pt x="1104" y="0"/>
                </a:cubicBezTo>
              </a:path>
            </a:pathLst>
          </a:custGeom>
          <a:noFill/>
          <a:ln w="63360">
            <a:solidFill>
              <a:srgbClr val="00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84480" y="312408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112" y="864"/>
                </a:moveTo>
                <a:cubicBezTo>
                  <a:pt x="56" y="624"/>
                  <a:pt x="0" y="384"/>
                  <a:pt x="64" y="240"/>
                </a:cubicBezTo>
                <a:cubicBezTo>
                  <a:pt x="128" y="96"/>
                  <a:pt x="312" y="48"/>
                  <a:pt x="496" y="0"/>
                </a:cubicBezTo>
              </a:path>
            </a:pathLst>
          </a:custGeom>
          <a:noFill/>
          <a:ln w="63360">
            <a:solidFill>
              <a:srgbClr val="00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43600" y="3048120"/>
            <a:ext cx="660240" cy="1447560"/>
          </a:xfrm>
          <a:custGeom>
            <a:avLst/>
            <a:gdLst/>
            <a:ahLst/>
            <a:rect l="l" t="t" r="r" b="b"/>
            <a:pathLst>
              <a:path w="360" h="864">
                <a:moveTo>
                  <a:pt x="232" y="864"/>
                </a:moveTo>
                <a:cubicBezTo>
                  <a:pt x="296" y="668"/>
                  <a:pt x="360" y="472"/>
                  <a:pt x="328" y="336"/>
                </a:cubicBezTo>
                <a:cubicBezTo>
                  <a:pt x="296" y="200"/>
                  <a:pt x="80" y="96"/>
                  <a:pt x="40" y="48"/>
                </a:cubicBezTo>
                <a:cubicBezTo>
                  <a:pt x="0" y="0"/>
                  <a:pt x="44" y="24"/>
                  <a:pt x="88" y="48"/>
                </a:cubicBezTo>
              </a:path>
            </a:pathLst>
          </a:custGeom>
          <a:noFill/>
          <a:ln w="63360">
            <a:solidFill>
              <a:srgbClr val="00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2514600"/>
            <a:ext cx="2209680" cy="1905120"/>
          </a:xfrm>
          <a:custGeom>
            <a:avLst/>
            <a:gdLst/>
            <a:ahLst/>
            <a:rect l="l" t="t" r="r" b="b"/>
            <a:pathLst>
              <a:path w="1488" h="1256">
                <a:moveTo>
                  <a:pt x="1440" y="1256"/>
                </a:moveTo>
                <a:cubicBezTo>
                  <a:pt x="1464" y="828"/>
                  <a:pt x="1488" y="400"/>
                  <a:pt x="1248" y="200"/>
                </a:cubicBezTo>
                <a:cubicBezTo>
                  <a:pt x="1008" y="0"/>
                  <a:pt x="208" y="80"/>
                  <a:pt x="0" y="56"/>
                </a:cubicBezTo>
              </a:path>
            </a:pathLst>
          </a:custGeom>
          <a:noFill/>
          <a:ln w="63360">
            <a:solidFill>
              <a:srgbClr val="00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62840" y="61722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-----------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B2F-417C-4AAD-8C10-406AFF0097C0}" type="slidenum">
              <a:t>11</a:t>
            </a:fld>
          </a:p>
        </p:txBody>
      </p:sp>
    </p:spTree>
  </p:cSld>
  <p:transition advTm="47000">
    <p:pull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Multi-dwelling buildings after Census 2001, result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1905120"/>
            <a:ext cx="3657600" cy="17524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2895480"/>
            <a:ext cx="1371600" cy="762120"/>
          </a:xfrm>
          <a:prstGeom prst="rect">
            <a:avLst/>
          </a:prstGeom>
          <a:solidFill>
            <a:srgbClr val="00808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743200" y="2743200"/>
            <a:ext cx="114300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2743200"/>
            <a:ext cx="144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2743200"/>
            <a:ext cx="114300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57800" y="2743200"/>
            <a:ext cx="144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905120"/>
            <a:ext cx="1440" cy="990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886200" y="3200040"/>
            <a:ext cx="15228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2895480"/>
            <a:ext cx="22860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723920" y="2895480"/>
            <a:ext cx="304920" cy="1526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5105160" y="3200040"/>
            <a:ext cx="152280" cy="2286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67080" y="3657600"/>
            <a:ext cx="457200" cy="304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48769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ain street 8 A H010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100944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086600" y="4495680"/>
            <a:ext cx="1447920" cy="1440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888840" cy="15242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762120" y="4419720"/>
            <a:ext cx="941400" cy="1531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034080" y="29336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51320" y="235440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6080" y="23623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920" y="2971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010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2514600"/>
            <a:ext cx="2209680" cy="2133720"/>
          </a:xfrm>
          <a:custGeom>
            <a:avLst/>
            <a:gdLst/>
            <a:ahLst/>
            <a:rect l="l" t="t" r="r" b="b"/>
            <a:pathLst>
              <a:path w="1104" h="1536">
                <a:moveTo>
                  <a:pt x="0" y="1536"/>
                </a:moveTo>
                <a:cubicBezTo>
                  <a:pt x="4" y="1040"/>
                  <a:pt x="8" y="544"/>
                  <a:pt x="192" y="288"/>
                </a:cubicBezTo>
                <a:cubicBezTo>
                  <a:pt x="376" y="32"/>
                  <a:pt x="952" y="48"/>
                  <a:pt x="1104" y="0"/>
                </a:cubicBezTo>
              </a:path>
            </a:pathLst>
          </a:custGeom>
          <a:noFill/>
          <a:ln w="63360">
            <a:solidFill>
              <a:srgbClr val="00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84480" y="312408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112" y="864"/>
                </a:moveTo>
                <a:cubicBezTo>
                  <a:pt x="56" y="624"/>
                  <a:pt x="0" y="384"/>
                  <a:pt x="64" y="240"/>
                </a:cubicBezTo>
                <a:cubicBezTo>
                  <a:pt x="128" y="96"/>
                  <a:pt x="312" y="48"/>
                  <a:pt x="496" y="0"/>
                </a:cubicBezTo>
              </a:path>
            </a:pathLst>
          </a:custGeom>
          <a:noFill/>
          <a:ln w="63360">
            <a:solidFill>
              <a:srgbClr val="00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36520" y="5867280"/>
            <a:ext cx="739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99"/>
                </a:solidFill>
                <a:latin typeface="Times New Roman"/>
              </a:rPr>
              <a:t>Only 55 % of persons in multi-dwelling houses linked to a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99"/>
                </a:solidFill>
                <a:latin typeface="Times New Roman"/>
              </a:rPr>
              <a:t>unique dwelling address. Following up necessary!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05360" y="377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43720" y="400680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Times New Roman"/>
              </a:rPr>
              <a:t>Main street 8 A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6B5-CE6B-4C30-8902-157A3C3C651D}" type="slidenum">
              <a:t>12</a:t>
            </a:fld>
          </a:p>
        </p:txBody>
      </p:sp>
    </p:spTree>
  </p:cSld>
  <p:transition advTm="47000">
    <p:pull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Following up on the Dwelling Address Projec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Norway playing an active role – pushing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by end of 2010: 95 % of population linked to a dw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E45-C59E-4590-A2E1-8255C3313A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399"/>
                </a:solidFill>
                <a:latin typeface="Arial"/>
              </a:rPr>
              <a:t>Comparing register-based and traditional censuses </a:t>
            </a:r>
            <a:endParaRPr b="1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38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Reduced response burd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38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524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pecific census costs rather lo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38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o need to hire and train a census staff every tenth ye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sus statistics and subject matter statistics based on sam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“census statistic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272-E1A2-40A0-95D8-5FDC8A427A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399"/>
                </a:solidFill>
                <a:latin typeface="Arial"/>
              </a:rPr>
              <a:t>Comparing register-based and traditional censuses </a:t>
            </a:r>
            <a:endParaRPr b="1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variables available in or derived from registers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restrictions on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welling households, not housekeeping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gal place of residence, not usual place of res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collection tool for emerging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surveys may be used, but not for small area stati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604-109D-4693-8462-41CCEC848E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7920" y="54936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gister-based censuses – the proces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1052640"/>
            <a:ext cx="914400" cy="4316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76000" y="114624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08360" y="1484280"/>
            <a:ext cx="0" cy="36036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1844640"/>
            <a:ext cx="914400" cy="432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32080" y="1930320"/>
            <a:ext cx="126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on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0720" y="134136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osts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43680" y="134136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Response burden</a:t>
            </a: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83480" y="142560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Annual statistics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08360" y="2276640"/>
            <a:ext cx="0" cy="28872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8760" y="1793880"/>
            <a:ext cx="138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Relevant registers?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17840" y="189072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inking?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08600" y="186516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egal base?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64240" y="1865160"/>
            <a:ext cx="13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blic appro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2565360"/>
            <a:ext cx="914400" cy="5032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10280" y="270828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7840" y="2722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Relevance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9120" y="272880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overage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96200" y="2728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imeliness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43480" y="272268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55280" y="3068640"/>
            <a:ext cx="3024360" cy="17287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97240" y="3645000"/>
            <a:ext cx="914400" cy="7207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80000" y="3068640"/>
            <a:ext cx="0" cy="57636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48000" y="3645000"/>
            <a:ext cx="93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ly register-based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4797360"/>
            <a:ext cx="914400" cy="5032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4000" y="4797360"/>
            <a:ext cx="107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y traditional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908000" y="3068640"/>
            <a:ext cx="1872000" cy="172872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4797360"/>
            <a:ext cx="914400" cy="1224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76360" y="4797360"/>
            <a:ext cx="10080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11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mple surveys</a:t>
            </a:r>
            <a:endParaRPr b="0" lang="en-US" sz="11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11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early updates</a:t>
            </a:r>
            <a:endParaRPr b="0" lang="en-US" sz="11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4819680"/>
            <a:ext cx="914400" cy="8413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76000" y="4941720"/>
            <a:ext cx="89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4040" y="5464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ew techn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08360" y="4365720"/>
            <a:ext cx="0" cy="43164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3280" y="4797360"/>
            <a:ext cx="914400" cy="9367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3280" y="479736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ers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survey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9440" y="4869000"/>
            <a:ext cx="934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y    register-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4797360"/>
            <a:ext cx="914400" cy="9144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4365720"/>
            <a:ext cx="1440000" cy="43164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08360" y="4365720"/>
            <a:ext cx="2879640" cy="43164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36360" y="149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95640" y="5805360"/>
            <a:ext cx="914400" cy="792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48360" y="5805360"/>
            <a:ext cx="914400" cy="792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580536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. and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survey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48360" y="5805360"/>
            <a:ext cx="93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. and 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500720" y="5734080"/>
            <a:ext cx="576000" cy="7128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5734080"/>
            <a:ext cx="432000" cy="7128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11640" y="5084640"/>
            <a:ext cx="431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80000" y="5084640"/>
            <a:ext cx="57636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80000" y="5445000"/>
            <a:ext cx="576360" cy="0"/>
          </a:xfrm>
          <a:prstGeom prst="line">
            <a:avLst/>
          </a:prstGeom>
          <a:ln w="1260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C5CF-438E-4C94-AD9E-64780B7F6D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80620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ank you for your attention !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2480" y="17524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4E2-6040-486F-AA7C-66F54938D4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orwegian Censuses 1960 - 2011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60: Last fully traditional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nsus data used to establish CPR (in 196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70 Census: Mainly tradi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nsus us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 and update C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Register of Education (in S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80 Census: Questionnaires shortened and sent by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isters used to rationalise data collection: Mail out – mail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enum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graphic variables taken from C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75D-EADD-4884-98A2-E090CEFFCD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orwegian Censuses 1960 – 2011 (2)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90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ister data on demography, education, income, geographical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stionnaires for data on labour marked, households and ho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lnSpc>
                <a:spcPct val="9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ple surve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lnSpc>
                <a:spcPct val="9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our market register used in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1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data on persons from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on families and households based on registe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ques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ing data based on ques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verage survey (all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11 Census: Totally regist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0A2-2497-4D81-8688-741BE55FC2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Historical development, main trends: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sive use of census data in establishing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of “census data” for administrative purpo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ple legal base for Cens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3430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01 in Norway: Statistics Act, CPR, G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-by-step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8088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a register-based census may tak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AE4-3B3C-402B-9646-140C1E62F9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52480" y="990720"/>
            <a:ext cx="76212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219320"/>
            <a:ext cx="76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990720"/>
            <a:ext cx="76176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78960" y="125748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Income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990720"/>
            <a:ext cx="76212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92760" y="117468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Social 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security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990720"/>
            <a:ext cx="76212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92800" y="11890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Unemployed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ersons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286000"/>
            <a:ext cx="762120" cy="76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289240"/>
            <a:ext cx="914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cc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cc0000"/>
                </a:solidFill>
                <a:latin typeface="Arial"/>
              </a:rPr>
              <a:t>Reg.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286000"/>
            <a:ext cx="761760" cy="762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2421000"/>
            <a:ext cx="622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Job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registers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2286000"/>
            <a:ext cx="762120" cy="76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20040" y="2470320"/>
            <a:ext cx="723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cc0000"/>
                </a:solidFill>
                <a:latin typeface="Arial"/>
              </a:rPr>
              <a:t>Business 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cc0000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2666880"/>
            <a:ext cx="7621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2666880"/>
            <a:ext cx="7621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3276720"/>
            <a:ext cx="761760" cy="761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35268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cc0000"/>
                </a:solidFill>
                <a:latin typeface="Arial"/>
              </a:rPr>
              <a:t>Addresses Buildings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cc0000"/>
                </a:solidFill>
                <a:latin typeface="Arial"/>
              </a:rPr>
              <a:t>Dwellings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752480"/>
            <a:ext cx="0" cy="53352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1676160"/>
            <a:ext cx="1066680" cy="68580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362320" y="1752480"/>
            <a:ext cx="2743200" cy="60984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362320" y="1752480"/>
            <a:ext cx="4267080" cy="60984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2971800"/>
            <a:ext cx="914400" cy="68580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038480" y="2971800"/>
            <a:ext cx="914400" cy="68580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5120" y="24670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8880" y="24670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59120" y="17524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6560" y="182880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89480" y="167652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40480" y="167652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4640" y="30765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54560" y="30765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1440" y="3295800"/>
            <a:ext cx="1264320" cy="5806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3399"/>
                </a:solidFill>
                <a:latin typeface="Arial"/>
              </a:rPr>
              <a:t>P = Personal id number</a:t>
            </a: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3399"/>
                </a:solidFill>
                <a:latin typeface="Arial"/>
              </a:rPr>
              <a:t>B = Business id number</a:t>
            </a: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3399"/>
                </a:solidFill>
                <a:latin typeface="Arial"/>
              </a:rPr>
              <a:t>A = Numerical address</a:t>
            </a: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990720"/>
            <a:ext cx="76212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900" spc="-1" strike="noStrike">
                <a:solidFill>
                  <a:srgbClr val="003399"/>
                </a:solidFill>
                <a:latin typeface="바탕"/>
              </a:rPr>
              <a:t> 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Other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registers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752480"/>
            <a:ext cx="685800" cy="68580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20760" y="205740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Register-based population and housing census system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00536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46240" indent="-24624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s covered in 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base regist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ersons, dwellings/buildings and enterprises/establishmen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 units: Families and households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s linked to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663480" indent="-226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wellings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663480" indent="-226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places (establishments) through job registe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46240" indent="-246240">
              <a:lnSpc>
                <a:spcPct val="100000"/>
              </a:lnSpc>
              <a:spcBef>
                <a:spcPts val="675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D13-BF3A-4917-8BE5-ADCB1376D0E4}" type="slidenum">
              <a:t>5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Census data from registers – “tertiary use”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1447920"/>
            <a:ext cx="914400" cy="9144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1413000"/>
            <a:ext cx="914400" cy="9144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1447920"/>
            <a:ext cx="914400" cy="9144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6196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Adm. registe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1628640"/>
            <a:ext cx="88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Emp-loyee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1755720"/>
            <a:ext cx="8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CPR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6280" y="3457440"/>
            <a:ext cx="215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99"/>
                </a:solidFill>
                <a:latin typeface="Times New Roman"/>
              </a:rPr>
              <a:t>Statistical registers in Statistics Norway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3429000"/>
            <a:ext cx="1025640" cy="9144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92720" y="3451320"/>
            <a:ext cx="914400" cy="9144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17480" y="370044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876920"/>
            <a:ext cx="914400" cy="91440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2920" y="5045040"/>
            <a:ext cx="8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ENSU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7800" y="46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640" y="52196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ensu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40360" y="1413000"/>
            <a:ext cx="914400" cy="9144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3429000"/>
            <a:ext cx="1025640" cy="9144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2349360"/>
            <a:ext cx="719280" cy="107964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842920" y="2349360"/>
            <a:ext cx="576360" cy="107964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500720" y="2349360"/>
            <a:ext cx="71280" cy="107964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276360" y="3860640"/>
            <a:ext cx="647640" cy="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4365720"/>
            <a:ext cx="1368720" cy="79200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27640" y="4292640"/>
            <a:ext cx="144360" cy="57636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724360" y="2349360"/>
            <a:ext cx="216000" cy="115092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86680" y="3429000"/>
            <a:ext cx="914400" cy="9144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932360" y="4365720"/>
            <a:ext cx="719280" cy="64764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003640" y="4365720"/>
            <a:ext cx="2592720" cy="86364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2708280"/>
            <a:ext cx="7993080" cy="0"/>
          </a:xfrm>
          <a:prstGeom prst="line">
            <a:avLst/>
          </a:prstGeom>
          <a:ln cap="rnd" w="3816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52A-144F-4FF6-AFD1-DF16E7AFDF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52480" y="990720"/>
            <a:ext cx="76212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1219320"/>
            <a:ext cx="76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990720"/>
            <a:ext cx="76176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78960" y="125748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Income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990720"/>
            <a:ext cx="76212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92760" y="117468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Social 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security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990720"/>
            <a:ext cx="76212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92800" y="11890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Unemployed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ersons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2286000"/>
            <a:ext cx="762120" cy="76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2289240"/>
            <a:ext cx="914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3399"/>
                </a:solidFill>
                <a:latin typeface="Arial"/>
              </a:rPr>
              <a:t>Central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3399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3399"/>
                </a:solidFill>
                <a:latin typeface="Arial"/>
              </a:rPr>
              <a:t>Reg.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2286000"/>
            <a:ext cx="761760" cy="762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6200" y="2438280"/>
            <a:ext cx="622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Job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registers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2286000"/>
            <a:ext cx="762120" cy="76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20040" y="2470320"/>
            <a:ext cx="723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3399"/>
                </a:solidFill>
                <a:latin typeface="Arial"/>
              </a:rPr>
              <a:t>Business 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3399"/>
                </a:solidFill>
                <a:latin typeface="Arial"/>
              </a:rPr>
              <a:t>register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2666880"/>
            <a:ext cx="7621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2666880"/>
            <a:ext cx="7621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3276720"/>
            <a:ext cx="761760" cy="761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335268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3399"/>
                </a:solidFill>
                <a:latin typeface="Arial"/>
              </a:rPr>
              <a:t>Addresses Buildings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cc0000"/>
                </a:solidFill>
                <a:latin typeface="Arial"/>
              </a:rPr>
              <a:t>Dwellings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1752480"/>
            <a:ext cx="0" cy="53352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362320" y="1676160"/>
            <a:ext cx="1066680" cy="68580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362320" y="1752480"/>
            <a:ext cx="2743200" cy="60984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362320" y="1752480"/>
            <a:ext cx="4267080" cy="60984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2971800"/>
            <a:ext cx="914400" cy="68580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038480" y="2971800"/>
            <a:ext cx="914400" cy="68580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05120" y="24670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8880" y="24670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59120" y="17524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6560" y="182880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89480" y="167652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40480" y="167652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4640" y="30765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54560" y="307656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91440" y="3295800"/>
            <a:ext cx="1264320" cy="5806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3399"/>
                </a:solidFill>
                <a:latin typeface="Arial"/>
              </a:rPr>
              <a:t>P = Personal id number</a:t>
            </a: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3399"/>
                </a:solidFill>
                <a:latin typeface="Arial"/>
              </a:rPr>
              <a:t>B = Business id number</a:t>
            </a: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3399"/>
                </a:solidFill>
                <a:latin typeface="Arial"/>
              </a:rPr>
              <a:t>A = Numerical address</a:t>
            </a: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990720"/>
            <a:ext cx="762120" cy="7617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900" spc="-1" strike="noStrike">
                <a:solidFill>
                  <a:srgbClr val="003399"/>
                </a:solidFill>
                <a:latin typeface="바탕"/>
              </a:rPr>
              <a:t> 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Other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registers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1752480"/>
            <a:ext cx="685800" cy="68580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205740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99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Census data system before 2001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7200" y="4659480"/>
            <a:ext cx="55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gister on dwelling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nk person- dwelling, that is no household regist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1843-782E-4FEE-AD57-5CAAED6C6B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orwegian 2001 Censu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e Census statistics for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basis for the 2011 register-based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welling Addres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CB8-E2B8-4A3B-AAAE-45EABD6AE7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The Dwelling Address Projec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jor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d the Cadastre to comprise dwellings, not only buil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lnSpc>
                <a:spcPct val="9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 dwelling number to street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lnSpc>
                <a:spcPct val="9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 Street 8A, H0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lnSpc>
                <a:spcPct val="9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ablish a link between dwellings and resident persons (in C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lnSpc>
                <a:spcPct val="90000"/>
              </a:lnSpc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data from census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problem: Multi-dwelling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istics Norway (Census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x Inspectorate (C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rwegian Mapping Authorities (Cadast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“census data” for administrative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ple legal base for Census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C3E-A01D-4A4C-AF24-5927FC563C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7:39:09Z</dcterms:created>
  <dc:creator>Harald Utne</dc:creator>
  <dc:description/>
  <cp:keywords/>
  <dc:language>en-US</dc:language>
  <cp:lastModifiedBy>Harald Utne</cp:lastModifiedBy>
  <cp:lastPrinted>1999-08-31T12:20:00Z</cp:lastPrinted>
  <dcterms:modified xsi:type="dcterms:W3CDTF">2012-04-19T09:09:29Z</dcterms:modified>
  <cp:revision>36</cp:revision>
  <dc:subject/>
  <dc:title>Folketellingsstatistikk 200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40770548</vt:r8>
  </property>
  <property fmtid="{D5CDD505-2E9C-101B-9397-08002B2CF9AE}" pid="3" name="_AuthorEmail">
    <vt:lpwstr>Harald.Utne@ssb.no</vt:lpwstr>
  </property>
  <property fmtid="{D5CDD505-2E9C-101B-9397-08002B2CF9AE}" pid="4" name="_AuthorEmailDisplayName">
    <vt:lpwstr>Utne, Harald</vt:lpwstr>
  </property>
  <property fmtid="{D5CDD505-2E9C-101B-9397-08002B2CF9AE}" pid="5" name="_EmailSubject">
    <vt:lpwstr>Presentations for Census Workshop</vt:lpwstr>
  </property>
  <property fmtid="{D5CDD505-2E9C-101B-9397-08002B2CF9AE}" pid="6" name="_NewReviewCycle">
    <vt:lpwstr/>
  </property>
</Properties>
</file>