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EDE0-ED85-4816-81B4-3FD003AAD4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3DDB-8ECD-424B-AE8C-4BD7C8C90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20B9-33D3-4771-A0EA-0FC0F5C846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6ED1-2F96-4E61-867E-C5101F4FB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CCBC-0EB2-4E8E-B090-6E9574853B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813B-650F-4685-A16B-A6010C1157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55E6-4122-41A1-810A-6289E1AECA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BADF-D2A5-4212-A314-34053922E0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C9B3-08B1-41A6-A05C-D3D460757D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5515-7935-4988-9924-AB0AD494A7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EF76-4C62-4D51-990F-4746E35B2E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89B8-DF43-422E-8A39-83B3F75A1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DDFF-490D-4D32-B510-7C14281D5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1510-1C91-41E5-97E7-DC226C2391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5AA3-7E22-45CF-B89D-8A6A028F54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3736-86A6-4025-B6E0-B752D1357F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1351-29D6-47C8-92DD-784DA38F5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31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4791-5DA4-4C95-AF45-E777D3CE8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7560" cy="2571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F078-E3AD-4468-8B1C-C2D3C2DB5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46BB-FEB1-4538-B382-35E2F6DB2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6093-317B-4C52-9BEF-2ED705945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A4C9-193D-4EE0-9D01-F56F2463B3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331C-ADA3-446B-8ABE-7DA28D7603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A33C-19B0-4A52-B253-1CB84FDFA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9E81-08F4-40D2-89DE-A8B96B40B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369A-4837-4E8C-A5DA-B7ED15174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0571-1B27-4941-AA36-CA62BBB7E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4F59-D230-437B-ABBE-10964AC55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DDC0-5B9D-4816-AB62-E61EE9217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0E3C-F779-424D-9E09-AA0017FC6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PPOIN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732720" y="6381720"/>
            <a:ext cx="2133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Picture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29"/>
          <p:cNvSpPr/>
          <p:nvPr/>
        </p:nvSpPr>
        <p:spPr>
          <a:xfrm>
            <a:off x="1785960" y="1928880"/>
            <a:ext cx="714384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24"/>
          <p:cNvSpPr/>
          <p:nvPr/>
        </p:nvSpPr>
        <p:spPr>
          <a:xfrm>
            <a:off x="1643040" y="206244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da"/>
                </a:solidFill>
                <a:latin typeface="Arial"/>
              </a:rPr>
              <a:t>Возможность использования регистров при переписи населения и жилья 2014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428920" y="4929120"/>
            <a:ext cx="65008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CE-UNFPA Training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Censuses Using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Geneva, 21 Ma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214800" y="50004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спублика Мол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29"/>
          <p:cNvSpPr/>
          <p:nvPr/>
        </p:nvSpPr>
        <p:spPr>
          <a:xfrm>
            <a:off x="468360" y="1844640"/>
            <a:ext cx="8281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24"/>
          <p:cNvSpPr/>
          <p:nvPr/>
        </p:nvSpPr>
        <p:spPr>
          <a:xfrm>
            <a:off x="2571840" y="4453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da"/>
                </a:solidFill>
                <a:latin typeface="Arial"/>
              </a:rPr>
              <a:t>Основные причины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428920" y="1428840"/>
            <a:ext cx="650088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 обновлены данные по внутренней мигр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сто обычного проживания не соответствует месту регистр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которые лица, по различным причинам, не получили идентификационные ном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29"/>
          <p:cNvSpPr/>
          <p:nvPr/>
        </p:nvSpPr>
        <p:spPr>
          <a:xfrm>
            <a:off x="468360" y="1844640"/>
            <a:ext cx="8281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24"/>
          <p:cNvSpPr/>
          <p:nvPr/>
        </p:nvSpPr>
        <p:spPr>
          <a:xfrm>
            <a:off x="2571840" y="4453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da"/>
                </a:solidFill>
                <a:latin typeface="Arial"/>
              </a:rPr>
              <a:t>Основные причины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428920" y="1428840"/>
            <a:ext cx="650088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сутствие записей по несовершеннолетним, родившимся до 2005 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сутствие дублированных запис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разных категорий в учете (население обычно проживающее и обычно присутствующе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29"/>
          <p:cNvSpPr/>
          <p:nvPr/>
        </p:nvSpPr>
        <p:spPr>
          <a:xfrm>
            <a:off x="468360" y="1844640"/>
            <a:ext cx="8281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24"/>
          <p:cNvSpPr/>
          <p:nvPr/>
        </p:nvSpPr>
        <p:spPr>
          <a:xfrm>
            <a:off x="2571840" y="4453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da"/>
                </a:solidFill>
                <a:latin typeface="Arial"/>
              </a:rPr>
              <a:t>Основные причины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428920" y="1428840"/>
            <a:ext cx="65008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личный методологический подход к некоторым перем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шибки механического харак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пр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29"/>
          <p:cNvSpPr/>
          <p:nvPr/>
        </p:nvSpPr>
        <p:spPr>
          <a:xfrm>
            <a:off x="468360" y="1844640"/>
            <a:ext cx="8281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24"/>
          <p:cNvSpPr/>
          <p:nvPr/>
        </p:nvSpPr>
        <p:spPr>
          <a:xfrm>
            <a:off x="2571840" y="232200"/>
            <a:ext cx="635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a"/>
                </a:solidFill>
                <a:latin typeface="Arial"/>
              </a:rPr>
              <a:t>Качество данных регистров        </a:t>
            </a:r>
            <a:r>
              <a:rPr b="1" lang="ru-RU" sz="3200" spc="-1" strike="noStrike">
                <a:solidFill>
                  <a:srgbClr val="0000da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da"/>
                </a:solidFill>
                <a:latin typeface="Arial"/>
              </a:rPr>
              <a:t>Регистр недвиж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357280" y="1785960"/>
            <a:ext cx="650088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сутствуют переменные о количестве комнат в жил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 информации о использовании жи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ют пробелы в заполнении некоторых п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29"/>
          <p:cNvSpPr/>
          <p:nvPr/>
        </p:nvSpPr>
        <p:spPr>
          <a:xfrm>
            <a:off x="468360" y="1844640"/>
            <a:ext cx="8281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24"/>
          <p:cNvSpPr/>
          <p:nvPr/>
        </p:nvSpPr>
        <p:spPr>
          <a:xfrm>
            <a:off x="2571840" y="460800"/>
            <a:ext cx="6357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da"/>
                </a:solidFill>
                <a:latin typeface="Arial"/>
              </a:rPr>
              <a:t>Использование регистр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428920" y="1428840"/>
            <a:ext cx="650088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организации и подготовке к пере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результатов пере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дополнения отсутствующих данных по неохваченным л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составления списков домов и переписного район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29"/>
          <p:cNvSpPr/>
          <p:nvPr/>
        </p:nvSpPr>
        <p:spPr>
          <a:xfrm>
            <a:off x="468360" y="1844640"/>
            <a:ext cx="8281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24"/>
          <p:cNvSpPr/>
          <p:nvPr/>
        </p:nvSpPr>
        <p:spPr>
          <a:xfrm>
            <a:off x="2571840" y="415080"/>
            <a:ext cx="63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da"/>
                </a:solidFill>
                <a:latin typeface="Arial"/>
              </a:rPr>
              <a:t>Планы на будущее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500200" y="1643040"/>
            <a:ext cx="650088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ализ регистров (охват, качество данных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влечение квалифицированных экспе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29"/>
          <p:cNvSpPr/>
          <p:nvPr/>
        </p:nvSpPr>
        <p:spPr>
          <a:xfrm>
            <a:off x="468360" y="1844640"/>
            <a:ext cx="8281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24"/>
          <p:cNvSpPr/>
          <p:nvPr/>
        </p:nvSpPr>
        <p:spPr>
          <a:xfrm>
            <a:off x="2571840" y="415080"/>
            <a:ext cx="63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da"/>
                </a:solidFill>
                <a:latin typeface="Arial"/>
              </a:rPr>
              <a:t>Планы на будущее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428920" y="1571760"/>
            <a:ext cx="650088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готовка нормативно-правовой ба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вопросов межведомственного взаимо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29"/>
          <p:cNvSpPr/>
          <p:nvPr/>
        </p:nvSpPr>
        <p:spPr>
          <a:xfrm>
            <a:off x="468360" y="1844640"/>
            <a:ext cx="8281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24"/>
          <p:cNvSpPr/>
          <p:nvPr/>
        </p:nvSpPr>
        <p:spPr>
          <a:xfrm>
            <a:off x="2500200" y="2077560"/>
            <a:ext cx="63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da"/>
                </a:solidFill>
                <a:latin typeface="Arial"/>
              </a:rPr>
              <a:t>Спаси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da"/>
                </a:solidFill>
                <a:latin typeface="Arial"/>
              </a:rPr>
              <a:t>за внимание</a:t>
            </a:r>
            <a:r>
              <a:rPr b="1" lang="ro-RO" sz="4400" spc="-1" strike="noStrike">
                <a:solidFill>
                  <a:srgbClr val="0000da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29"/>
          <p:cNvSpPr/>
          <p:nvPr/>
        </p:nvSpPr>
        <p:spPr>
          <a:xfrm>
            <a:off x="468360" y="1844640"/>
            <a:ext cx="8281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24"/>
          <p:cNvSpPr/>
          <p:nvPr/>
        </p:nvSpPr>
        <p:spPr>
          <a:xfrm>
            <a:off x="2571840" y="38448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da"/>
                </a:solidFill>
                <a:latin typeface="Arial"/>
              </a:rPr>
              <a:t>Введение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357280" y="1785960"/>
            <a:ext cx="650088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пись раунда 2010 – в апреле 2014 г. (предыдущая в 2004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ят Закон о переписи населения и жи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готовка  к пробной переписи (апрель 2013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29"/>
          <p:cNvSpPr/>
          <p:nvPr/>
        </p:nvSpPr>
        <p:spPr>
          <a:xfrm>
            <a:off x="468360" y="1844640"/>
            <a:ext cx="8281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24"/>
          <p:cNvSpPr/>
          <p:nvPr/>
        </p:nvSpPr>
        <p:spPr>
          <a:xfrm>
            <a:off x="2571840" y="38448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da"/>
                </a:solidFill>
                <a:latin typeface="Arial"/>
              </a:rPr>
              <a:t>Введение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428920" y="1571760"/>
            <a:ext cx="650088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пись будет проведена традиционным метод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первые - и перепись жи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пись на основе регистров – задача будущ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029"/>
          <p:cNvSpPr/>
          <p:nvPr/>
        </p:nvSpPr>
        <p:spPr>
          <a:xfrm>
            <a:off x="468360" y="1844640"/>
            <a:ext cx="8281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4"/>
          <p:cNvSpPr/>
          <p:nvPr/>
        </p:nvSpPr>
        <p:spPr>
          <a:xfrm>
            <a:off x="2286000" y="18720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da"/>
                </a:solidFill>
                <a:latin typeface="Arial"/>
              </a:rPr>
              <a:t>Почему преждевремен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428920" y="1285920"/>
            <a:ext cx="65008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и один регистр не имеет стопроцентной полн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обходимо создание законодательной  базы для межведомственного взаимодейст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еспечение защиты персональ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достаточность ресур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29"/>
          <p:cNvSpPr/>
          <p:nvPr/>
        </p:nvSpPr>
        <p:spPr>
          <a:xfrm>
            <a:off x="468360" y="1844640"/>
            <a:ext cx="8281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24"/>
          <p:cNvSpPr/>
          <p:nvPr/>
        </p:nvSpPr>
        <p:spPr>
          <a:xfrm>
            <a:off x="2571840" y="110160"/>
            <a:ext cx="635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da"/>
                </a:solidFill>
                <a:latin typeface="Arial"/>
              </a:rPr>
              <a:t>Государственные </a:t>
            </a:r>
            <a:r>
              <a:rPr b="1" lang="ru-RU" sz="4000" spc="-1" strike="noStrike">
                <a:solidFill>
                  <a:srgbClr val="0000da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da"/>
                </a:solidFill>
                <a:latin typeface="Arial"/>
              </a:rPr>
              <a:t>регистры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428920" y="1714680"/>
            <a:ext cx="6500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осударственный Регистр Нас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гистр образ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гистр пересечения государственной грани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гистр социального страх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гистр налогоплательщик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029"/>
          <p:cNvSpPr/>
          <p:nvPr/>
        </p:nvSpPr>
        <p:spPr>
          <a:xfrm>
            <a:off x="468360" y="1844640"/>
            <a:ext cx="8281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24"/>
          <p:cNvSpPr/>
          <p:nvPr/>
        </p:nvSpPr>
        <p:spPr>
          <a:xfrm>
            <a:off x="2571840" y="110160"/>
            <a:ext cx="635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da"/>
                </a:solidFill>
                <a:latin typeface="Arial"/>
              </a:rPr>
              <a:t>Государственные </a:t>
            </a:r>
            <a:r>
              <a:rPr b="1" lang="ru-RU" sz="4000" spc="-1" strike="noStrike">
                <a:solidFill>
                  <a:srgbClr val="0000da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da"/>
                </a:solidFill>
                <a:latin typeface="Arial"/>
              </a:rPr>
              <a:t>регистры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428920" y="1714680"/>
            <a:ext cx="65008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гистр адресных план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гистр недвижим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гистр похозяйственного уч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ругие регистры (Министерства Юстиции, Министерства Иностранных Дел и др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029"/>
          <p:cNvSpPr/>
          <p:nvPr/>
        </p:nvSpPr>
        <p:spPr>
          <a:xfrm>
            <a:off x="468360" y="1844640"/>
            <a:ext cx="8281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24"/>
          <p:cNvSpPr/>
          <p:nvPr/>
        </p:nvSpPr>
        <p:spPr>
          <a:xfrm>
            <a:off x="2571840" y="232200"/>
            <a:ext cx="635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a"/>
                </a:solidFill>
                <a:latin typeface="Arial"/>
              </a:rPr>
              <a:t>Качество данных регистров        </a:t>
            </a:r>
            <a:r>
              <a:rPr b="1" lang="ru-RU" sz="3200" spc="-1" strike="noStrike">
                <a:solidFill>
                  <a:srgbClr val="0000da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da"/>
                </a:solidFill>
                <a:latin typeface="Arial"/>
              </a:rPr>
              <a:t>Регистр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428920" y="1643040"/>
            <a:ext cx="650088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ее полный охват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ко - различия по численности населения в некоторых районах, городах и селах одного и того же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ые серьезные несоответствия – по левобережью Дне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029"/>
          <p:cNvSpPr/>
          <p:nvPr/>
        </p:nvSpPr>
        <p:spPr>
          <a:xfrm>
            <a:off x="468360" y="1844640"/>
            <a:ext cx="8281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24"/>
          <p:cNvSpPr/>
          <p:nvPr/>
        </p:nvSpPr>
        <p:spPr>
          <a:xfrm>
            <a:off x="2214720" y="110160"/>
            <a:ext cx="671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азличие данных </a:t>
            </a:r>
            <a:r>
              <a:rPr b="1" lang="ro-RO" sz="40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Кагульский район</a:t>
            </a:r>
            <a:r>
              <a:rPr b="1" lang="ro-MD" sz="40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18"/>
          <p:cNvGraphicFramePr/>
          <p:nvPr/>
        </p:nvGraphicFramePr>
        <p:xfrm>
          <a:off x="357120" y="1500120"/>
          <a:ext cx="8556840" cy="471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500120"/>
                    <a:ext cx="855684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29"/>
          <p:cNvSpPr/>
          <p:nvPr/>
        </p:nvSpPr>
        <p:spPr>
          <a:xfrm>
            <a:off x="468360" y="1844640"/>
            <a:ext cx="8281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24"/>
          <p:cNvSpPr/>
          <p:nvPr/>
        </p:nvSpPr>
        <p:spPr>
          <a:xfrm>
            <a:off x="2214720" y="110160"/>
            <a:ext cx="671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азличие данных   </a:t>
            </a:r>
            <a:r>
              <a:rPr b="1" lang="ro-RO" sz="40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АТО Гагаузия</a:t>
            </a:r>
            <a:r>
              <a:rPr b="1" lang="ro-MD" sz="40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285840" y="1500120"/>
          <a:ext cx="8678880" cy="471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500120"/>
                    <a:ext cx="867888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3:34:43Z</dcterms:created>
  <dc:creator>Eugen Boico</dc:creator>
  <dc:description/>
  <dc:language>en-US</dc:language>
  <cp:lastModifiedBy>USER</cp:lastModifiedBy>
  <dcterms:modified xsi:type="dcterms:W3CDTF">2012-05-21T06:38:35Z</dcterms:modified>
  <cp:revision>411</cp:revision>
  <dc:subject/>
  <dc:title>DENUMIREA PREZENTĂRII</dc:title>
</cp:coreProperties>
</file>