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63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841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34840" y="763560"/>
            <a:ext cx="49878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93120"/>
            <a:ext cx="29163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1456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3CD-FBD1-4809-99F4-B383718D5F3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1C79-18D4-4BD2-AE2C-A69334FD1AE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0067-74B4-4F8C-97BD-BC232BAAB54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BDC7-C5CC-47C6-8CF4-5B09A30649A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F03-0859-486D-B1DD-F741B49300F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BD3F-01BE-41E1-BEFB-EF39227A0EF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0EF9-A1B7-4337-A591-1FFC9A3E1B0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8E3-0509-42FC-AB5F-C340D4CA461D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104-7A12-4325-A8AA-2E9B73825DF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AFA9-A901-4C92-A488-40B1DAB29C6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C4D3-7DED-4D6F-B26F-0FBA588E825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987-2C5E-4045-B4A3-A2B8448C0A0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C9D6-0D2E-4FFF-AACA-5EEFD1407B2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8CF0-D839-41D3-8984-84795110B33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14920" y="9393120"/>
            <a:ext cx="28414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AC2-3E5B-4047-BB78-15B4B80DE43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35200" y="763560"/>
            <a:ext cx="4987800" cy="374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6400" y="4735080"/>
            <a:ext cx="4862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E3E-C5EC-4D12-A158-47003F6E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6B0-5F5D-4985-B0C0-90C87A4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238-3F0D-46CE-A1B3-D14146C0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725-DB9C-4231-8F1C-3F133FA9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87A-09AF-45E1-B047-20A9C3E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7B2-CB32-4C59-9EE3-BFF17ED5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145-AB1E-4B2E-8A99-F2442AD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AF2-6B1E-429F-B619-0189CA4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23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DC8-B64E-42D1-8381-0A745AC1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26D-1A15-4E80-9342-EE6B2D0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EB0-32BE-4496-A139-C05504A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2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A6C-8FC8-4F77-868A-00B8BFD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UNECE statistic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a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8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3AD-050F-43C7-A491-AD12B23E4A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 Narrow"/>
              </a:rPr>
              <a:t>Обзор подходов к переписи </a:t>
            </a:r>
            <a:r>
              <a:rPr b="1" lang="ru-RU" sz="4400" spc="-1" strike="noStrike">
                <a:solidFill>
                  <a:srgbClr val="800000"/>
                </a:solidFill>
                <a:latin typeface="Arial Narrow"/>
              </a:rPr>
              <a:t>с </a:t>
            </a:r>
            <a:r>
              <a:rPr b="1" lang="en-GB" sz="4400" spc="-1" strike="noStrike">
                <a:solidFill>
                  <a:srgbClr val="800000"/>
                </a:solidFill>
                <a:latin typeface="Arial Narrow"/>
              </a:rPr>
              <a:t>использованием регистров</a:t>
            </a:r>
            <a:endParaRPr b="0" lang="en-US" sz="4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4495680"/>
            <a:ext cx="7619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8"/>
                </a:solidFill>
                <a:latin typeface="Arial Narrow"/>
              </a:rPr>
              <a:t>Паоло Валеньте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ЕВРОПЕЙСКАЯ ЭКОНОМИЧЕСКАЯ КОМИССИЯ ОРГАНИЗАЦИИ ОБЪЕДИНЕННЫХ НАЦИЙ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Отдел Статистики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63000" y="812160"/>
            <a:ext cx="54414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8"/>
                </a:solidFill>
                <a:latin typeface="Arial Narrow"/>
              </a:rPr>
              <a:t>Семинар ЕЕК ООН </a:t>
            </a:r>
            <a:r>
              <a:rPr b="1" i="1" lang="en-US" sz="2400" spc="-1" strike="noStrike">
                <a:solidFill>
                  <a:srgbClr val="0000a8"/>
                </a:solidFill>
                <a:latin typeface="Arial Narrow"/>
              </a:rPr>
              <a:t>–</a:t>
            </a:r>
            <a:r>
              <a:rPr b="1" i="1" lang="ru-RU" sz="2400" spc="-1" strike="noStrike">
                <a:solidFill>
                  <a:srgbClr val="0000a8"/>
                </a:solidFill>
                <a:latin typeface="Arial Narrow"/>
              </a:rPr>
              <a:t>ЮНФПА  по </a:t>
            </a:r>
            <a:r>
              <a:rPr b="1" i="1" lang="en-GB" sz="2400" spc="-1" strike="noStrike">
                <a:solidFill>
                  <a:srgbClr val="0000a8"/>
                </a:solidFill>
                <a:latin typeface="Arial Narrow"/>
              </a:rPr>
              <a:t>переписи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8"/>
                </a:solidFill>
                <a:latin typeface="Arial Narrow"/>
              </a:rPr>
              <a:t>с </a:t>
            </a:r>
            <a:r>
              <a:rPr b="1" i="1" lang="en-GB" sz="2400" spc="-1" strike="noStrike">
                <a:solidFill>
                  <a:srgbClr val="0000a8"/>
                </a:solidFill>
                <a:latin typeface="Arial Narrow"/>
              </a:rPr>
              <a:t>использованием регистров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Женева</a:t>
            </a:r>
            <a:r>
              <a:rPr b="1" lang="en-GB" sz="2400" spc="-1" strike="noStrike">
                <a:solidFill>
                  <a:srgbClr val="0000a8"/>
                </a:solidFill>
                <a:latin typeface="Arial Narrow"/>
              </a:rPr>
              <a:t>, 21 </a:t>
            </a: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мая</a:t>
            </a:r>
            <a:r>
              <a:rPr b="1" lang="en-GB" sz="2400" spc="-1" strike="noStrike">
                <a:solidFill>
                  <a:srgbClr val="0000a8"/>
                </a:solidFill>
                <a:latin typeface="Arial Narrow"/>
              </a:rPr>
              <a:t> 2012</a:t>
            </a: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г.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7162920" y="13500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4. Данные из регистров + сплошная регистрация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8"/>
                </a:solidFill>
                <a:latin typeface="Arial Narrow"/>
              </a:rPr>
              <a:t>Когда данные для некоторых переменных отсутствуют в регистрах, и подробные данные необходимы (выборка не достаточна)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8"/>
                </a:solidFill>
                <a:latin typeface="Arial Narrow"/>
              </a:rPr>
              <a:t>Данные по большинству переменных берутся из регистров</a:t>
            </a:r>
            <a:r>
              <a:rPr b="0" lang="en-US" sz="2000" spc="-1" strike="noStrike">
                <a:solidFill>
                  <a:srgbClr val="0000a8"/>
                </a:solidFill>
                <a:latin typeface="Arial Narrow"/>
              </a:rPr>
              <a:t>, </a:t>
            </a:r>
            <a:r>
              <a:rPr b="0" lang="ru-RU" sz="2000" spc="-1" strike="noStrike">
                <a:solidFill>
                  <a:srgbClr val="0000a8"/>
                </a:solidFill>
                <a:latin typeface="Arial Narrow"/>
              </a:rPr>
              <a:t>но все единицы опрашиваются на ограниченное количество переменных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8"/>
                </a:solidFill>
                <a:latin typeface="Arial Narrow"/>
              </a:rPr>
              <a:t>Сплошная регистрация может также провести оценку охвата и точности данных регистра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8"/>
                </a:solidFill>
                <a:latin typeface="Arial Narrow"/>
              </a:rPr>
              <a:t>Некоторые данные регистра могут быть заранее напечатаны в анкетах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88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990720" y="4114800"/>
            <a:ext cx="3276360" cy="246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UNECE\Collection Australian and Irish pics\collector7.JPG"/>
          <p:cNvPicPr/>
          <p:nvPr/>
        </p:nvPicPr>
        <p:blipFill>
          <a:blip r:embed="rId2"/>
          <a:srcRect l="10264" t="0" r="0" b="0"/>
          <a:stretch/>
        </p:blipFill>
        <p:spPr>
          <a:xfrm>
            <a:off x="4876920" y="41148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4. Данные из регистров + сплошная регистрация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Преимущества 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Сбор данных может быть использован для настройки, обновления или улучшения регистров с учетом будущей переписи, польностью основанной на регистрах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 Narrow"/>
              </a:rPr>
              <a:t>!!! </a:t>
            </a:r>
            <a:r>
              <a:rPr b="1" lang="fr-CH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CH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Различие между статистической работой (перепись) и админ. работой (обновление регистра) должно быть ясно респонденту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Более эффективно, чем традиционная перепись в местах, благодаря использованию данных регистров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Недостатки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Очень дорого</a:t>
            </a: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 (</a:t>
            </a: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сплошная регистрация</a:t>
            </a: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Нагрузка на общественность </a:t>
            </a: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(</a:t>
            </a: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сплошная регистрация</a:t>
            </a: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Метод может быть сложным</a:t>
            </a: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для применения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10: 6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</a:t>
            </a: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 Narrow"/>
              </a:rPr>
              <a:t>5. </a:t>
            </a: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Данные из регистров + сплошная регистрация + специальное обследование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8"/>
                </a:solidFill>
                <a:latin typeface="Arial Narrow"/>
              </a:rPr>
              <a:t>Сплошная регистрация для важных переменных или для обновления и улучшения регистра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8"/>
                </a:solidFill>
                <a:latin typeface="Arial Narrow"/>
              </a:rPr>
              <a:t>Специальное обследование</a:t>
            </a: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a8"/>
                </a:solidFill>
                <a:latin typeface="Arial Narrow"/>
              </a:rPr>
              <a:t>для переменных, которые не требуют высокой детализации информации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2010: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Германия</a:t>
            </a: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льша +</a:t>
            </a: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талия </a:t>
            </a: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линные / короткие формы</a:t>
            </a: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Narrow"/>
              </a:rPr>
              <a:t>Обзор методов, принятых в регионе ЕЭК ООН в 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Narrow"/>
              </a:rPr>
              <a:t>2000 and 2010 </a:t>
            </a:r>
            <a:r>
              <a:rPr b="0" lang="ru-RU" sz="3200" spc="-1" strike="noStrike">
                <a:solidFill>
                  <a:srgbClr val="800000"/>
                </a:solidFill>
                <a:latin typeface="Arial Narrow"/>
              </a:rPr>
              <a:t>раундах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722160" y="1905120"/>
            <a:ext cx="819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6705720" y="32432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a8"/>
                </a:solidFill>
                <a:latin typeface="Arial Narrow"/>
              </a:rPr>
              <a:t>Другие методы</a:t>
            </a:r>
            <a:endParaRPr b="0" lang="en-US" sz="1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477120" y="3852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a8"/>
                </a:solidFill>
                <a:latin typeface="Arial Narrow"/>
              </a:rPr>
              <a:t>Перепись на основе регистра</a:t>
            </a:r>
            <a:endParaRPr b="0" lang="en-US" sz="1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553080" y="44625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a8"/>
                </a:solidFill>
                <a:latin typeface="Arial Narrow"/>
              </a:rPr>
              <a:t>Комбинированная перепись</a:t>
            </a:r>
            <a:endParaRPr b="0" lang="en-US" sz="1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6553080" y="5072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a8"/>
                </a:solidFill>
                <a:latin typeface="Arial Narrow"/>
              </a:rPr>
              <a:t>Традиционная перепись</a:t>
            </a:r>
            <a:endParaRPr b="0" lang="en-US" sz="1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4114800" y="6248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a8"/>
                </a:solidFill>
                <a:latin typeface="Arial Narrow"/>
              </a:rPr>
              <a:t>(итого 55 стран)</a:t>
            </a:r>
            <a:endParaRPr b="0" lang="en-US" sz="1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2057400" y="6248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a8"/>
                </a:solidFill>
                <a:latin typeface="Arial Narrow"/>
              </a:rPr>
              <a:t>(итого 50 стран)</a:t>
            </a:r>
            <a:endParaRPr b="0" lang="en-US" sz="16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 Narrow"/>
              </a:rPr>
              <a:t>Источники по переписи на основе регистров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a8"/>
                </a:solidFill>
                <a:latin typeface="Arial Narrow"/>
              </a:rPr>
              <a:t>	</a:t>
            </a:r>
            <a:r>
              <a:rPr b="1" lang="ru-RU" sz="3200" spc="-1" strike="noStrike">
                <a:solidFill>
                  <a:srgbClr val="0000a8"/>
                </a:solidFill>
                <a:latin typeface="Arial Narrow"/>
              </a:rPr>
              <a:t>Перепись, полностью основанный на регистре, также охвачен в публикациях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8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a8"/>
                </a:solidFill>
                <a:latin typeface="Arial Narrow"/>
              </a:rPr>
              <a:t>ЕЕК ООН по статистике на основе регистров</a:t>
            </a:r>
            <a:r>
              <a:rPr b="1" lang="fr-CH" sz="32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38080" y="57913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a8"/>
                </a:solidFill>
                <a:latin typeface="Arial Narrow"/>
              </a:rPr>
              <a:t>	</a:t>
            </a:r>
            <a:r>
              <a:rPr b="1" lang="fr-CH" sz="4000" spc="-1" strike="noStrike">
                <a:solidFill>
                  <a:srgbClr val="0066ff"/>
                </a:solidFill>
                <a:latin typeface="Arial Narrow"/>
              </a:rPr>
              <a:t>http://www.unece.org/stats/census/</a:t>
            </a:r>
            <a:endParaRPr b="0" lang="en-US" sz="40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 Narrow"/>
              </a:rPr>
              <a:t>Содержание</a:t>
            </a: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Перепись, полностью основанная на регистре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Данные из регистров + существующие выборочные обследования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Данные из регистров + специальные выборочные обследования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Данные из регистров + сплошная регистрация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Данные из регистров + сплошная регистрация + специальное обследование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Обзор методов, принятых в регионе ЕЭК ООН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 Narrow"/>
              </a:rPr>
              <a:t>Содержание </a:t>
            </a:r>
            <a:r>
              <a:rPr b="1" lang="fr-CH" sz="4000" spc="-1" strike="noStrike">
                <a:solidFill>
                  <a:srgbClr val="800000"/>
                </a:solidFill>
                <a:latin typeface="Arial Narrow"/>
              </a:rPr>
              <a:t>: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Перепись, полностью основанная на регистре 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анные из регистров + существующие выборочные обследования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анные из регистров + специальные выборочные обследования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анные из регистров + сплошная регистрация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ff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Данные из регистров + сплошная регистрация + специальное обследование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444600" indent="-444600">
              <a:spcBef>
                <a:spcPts val="799"/>
              </a:spcBef>
              <a:buClr>
                <a:srgbClr val="0000a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8"/>
                </a:solidFill>
                <a:latin typeface="Arial Narrow"/>
              </a:rPr>
              <a:t>Обзор методов, принятых в регионе ЕЭК ООН</a:t>
            </a: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685800" y="2362320"/>
            <a:ext cx="8305920" cy="3657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838760" y="1290600"/>
            <a:ext cx="43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 Narrow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Комбинированная перепись</a:t>
            </a:r>
            <a:r>
              <a:rPr b="1" lang="fr-CH" sz="2400" spc="-1" strike="noStrike">
                <a:solidFill>
                  <a:srgbClr val="ff0000"/>
                </a:solidFill>
                <a:latin typeface="Arial Narrow"/>
              </a:rPr>
              <a:t>»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 flipH="1">
            <a:off x="6857640" y="1752480"/>
            <a:ext cx="534240" cy="534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" name="TextBox 6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5060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 Narrow"/>
              </a:rPr>
              <a:t>1. </a:t>
            </a:r>
            <a:r>
              <a:rPr b="1" lang="ru-RU" sz="3200" spc="-1" strike="noStrike">
                <a:solidFill>
                  <a:srgbClr val="800000"/>
                </a:solidFill>
                <a:latin typeface="Arial Narrow"/>
              </a:rPr>
              <a:t>Перепись, полностью основанная на регистре </a:t>
            </a:r>
            <a:endParaRPr b="0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Перепись проводится путем интеграции данных из различных регистров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Заключение долгого постепенного процесса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Перепись является частью системы информации на основе регистров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64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6172200" y="38862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09480" y="3581280"/>
            <a:ext cx="5562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8"/>
                </a:solidFill>
                <a:latin typeface="Arial Narrow"/>
              </a:rPr>
              <a:t>Основные требования</a:t>
            </a:r>
            <a:r>
              <a:rPr b="1" lang="fr-CH" sz="28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8"/>
                </a:solidFill>
                <a:latin typeface="Arial Narrow"/>
              </a:rPr>
              <a:t>Наличие регистра населения </a:t>
            </a:r>
            <a:r>
              <a:rPr b="0" i="1" lang="en-US" sz="2400" spc="-1" strike="noStrike">
                <a:solidFill>
                  <a:srgbClr val="0000a8"/>
                </a:solidFill>
                <a:latin typeface="Arial Narrow"/>
              </a:rPr>
              <a:t>и </a:t>
            </a:r>
            <a:r>
              <a:rPr b="0" i="1" lang="ru-RU" sz="2400" spc="-1" strike="noStrike">
                <a:solidFill>
                  <a:srgbClr val="0000a8"/>
                </a:solidFill>
                <a:latin typeface="Arial Narrow"/>
              </a:rPr>
              <a:t>регистра жилищного фонда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Возможность связывания лиц и жиля</a:t>
            </a:r>
            <a:r>
              <a:rPr b="0" lang="fr-CH" sz="2400" spc="-1" strike="noStrike">
                <a:solidFill>
                  <a:srgbClr val="0000a8"/>
                </a:solidFill>
                <a:latin typeface="Arial Narrow"/>
              </a:rPr>
              <a:t>, </a:t>
            </a: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определяя домохозяйства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Общественная и законодательная поддержка для использования регистра населения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 Narrow"/>
              </a:rPr>
              <a:t>1. </a:t>
            </a:r>
            <a:r>
              <a:rPr b="1" lang="ru-RU" sz="2800" spc="-1" strike="noStrike">
                <a:solidFill>
                  <a:srgbClr val="800000"/>
                </a:solidFill>
                <a:latin typeface="Arial Narrow"/>
              </a:rPr>
              <a:t>Перепись, полностью основанная на регистре 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Преимущества</a:t>
            </a:r>
            <a:r>
              <a:rPr b="1" lang="en-US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Нет нагрузки на людей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Данные обычно доступны каждый год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Как только высоко-качественные регистры созданы, это дешевле, чем сплошная регистрация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Недостатки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Настройка и обслуживание требуют значительных ресурсов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Параметры для сбора ограничены состоящими в учете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Качества переписи зависит от покрытия и качества регистров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Данные в регистрах обычно собираются не для статистических целей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Статистические организации также зависят от органов регистров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2000 (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траны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):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Андорра, Дания,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Финляндия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2010 (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траны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): +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Австрия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Бельгия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Словения</a:t>
            </a:r>
            <a:r>
              <a:rPr b="1" lang="fr-CH" sz="2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Швеция</a:t>
            </a: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4582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 Narrow"/>
              </a:rPr>
              <a:t>2. </a:t>
            </a: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Данные из регистров + существующие выборочные обследования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960" y="131436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8"/>
                </a:solidFill>
                <a:latin typeface="Arial Narrow"/>
              </a:rPr>
              <a:t>Когда некоторые переменные не доступны в регистрах, данные из существующих выборочных обследований (т.е. ОРС) могут быть использованы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8"/>
                </a:solidFill>
                <a:latin typeface="Arial Narrow"/>
              </a:rPr>
              <a:t>Данные связаны на индивидуальном уровне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8"/>
                </a:solidFill>
                <a:latin typeface="Arial Narrow"/>
              </a:rPr>
              <a:t>Нет сбора данных на местах</a:t>
            </a:r>
            <a:endParaRPr b="0" lang="en-US" sz="28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72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1676520" y="4038480"/>
            <a:ext cx="3276360" cy="246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Geoffrey Carliez\Bureaublad\labour%20force%20survey%20report%201.jpg"/>
          <p:cNvPicPr/>
          <p:nvPr/>
        </p:nvPicPr>
        <p:blipFill>
          <a:blip r:embed="rId2"/>
          <a:stretch/>
        </p:blipFill>
        <p:spPr>
          <a:xfrm>
            <a:off x="6172200" y="3886200"/>
            <a:ext cx="2614680" cy="2652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Преимущества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Нет нагрузки на респондента 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Сниженные затраты</a:t>
            </a:r>
            <a:r>
              <a:rPr b="0" lang="en-US" sz="2400" spc="-1" strike="noStrike">
                <a:solidFill>
                  <a:srgbClr val="0000a8"/>
                </a:solidFill>
                <a:latin typeface="Arial Narrow"/>
              </a:rPr>
              <a:t>: </a:t>
            </a: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нет специального сбора данных на местах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Последовательность между результатами переписи и обследования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Недостатки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Процесс успешной связки информации о лицах из различных обследований и регистров является сложным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Информация с ограниченной подробностью извлекается из выборочных обследований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2000: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идерланды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(«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иртуальная перепись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2010: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идерланды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сландия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914400" y="6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 Narrow"/>
              </a:rPr>
              <a:t>2. </a:t>
            </a: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Данные из регистров + существующие выборочные обследования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3. Данные из регистров + специальные выборочные обследования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a8"/>
                </a:solidFill>
                <a:latin typeface="Arial Narrow"/>
              </a:rPr>
              <a:t>Альтернатива: проведение специальных выборочных обследований, в место использования данных из существующих обследований</a:t>
            </a:r>
            <a:endParaRPr b="0" lang="en-US" sz="2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a8"/>
                </a:solidFill>
                <a:latin typeface="Arial Narrow"/>
              </a:rPr>
              <a:t>Специальные выборочные обследования могут быть использованы для сбора данных о выбранных переменных и/или оценки точности регистров</a:t>
            </a:r>
            <a:endParaRPr b="0" lang="en-US" sz="2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a8"/>
                </a:solidFill>
                <a:latin typeface="Arial Narrow"/>
              </a:rPr>
              <a:t>Требуется способность связывать индивидуальные данные из различных источников</a:t>
            </a:r>
            <a:endParaRPr b="0" lang="en-US" sz="2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a8"/>
              </a:solidFill>
              <a:latin typeface="Arial Narrow"/>
            </a:endParaRPr>
          </a:p>
        </p:txBody>
      </p:sp>
      <p:pic>
        <p:nvPicPr>
          <p:cNvPr id="80" name="Picture 3" descr="E:\UNECE\Collection Australian and Irish pics\eCensus2.JPG"/>
          <p:cNvPicPr/>
          <p:nvPr/>
        </p:nvPicPr>
        <p:blipFill>
          <a:blip r:embed="rId1"/>
          <a:stretch/>
        </p:blipFill>
        <p:spPr>
          <a:xfrm>
            <a:off x="1295280" y="4038480"/>
            <a:ext cx="3276720" cy="246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Geoffrey Carliez\Bureaublad\UNECE various\Snapshots French Census DVD\vlcsnap-88440.png"/>
          <p:cNvPicPr/>
          <p:nvPr/>
        </p:nvPicPr>
        <p:blipFill>
          <a:blip r:embed="rId2"/>
          <a:srcRect l="1969" t="656" r="492" b="656"/>
          <a:stretch/>
        </p:blipFill>
        <p:spPr>
          <a:xfrm>
            <a:off x="5181480" y="4038480"/>
            <a:ext cx="3505320" cy="2438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Narrow"/>
              </a:rPr>
              <a:t>3. Данные из регистров + специальные выборочные обследования</a:t>
            </a: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Преимущества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Точность регистра населения может быть проверена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Расчет населения может быть скорректирован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Ограниченная нагрузку на респондентов (выборочное обследование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Ограниченные расходы (выборочное обследование)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a8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8"/>
                </a:solidFill>
                <a:latin typeface="Arial Narrow"/>
              </a:rPr>
              <a:t>Недостатки</a:t>
            </a:r>
            <a:r>
              <a:rPr b="1" lang="fr-CH" sz="2400" spc="-1" strike="noStrike">
                <a:solidFill>
                  <a:srgbClr val="0000a8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Метод может быть сложным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a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8"/>
                </a:solidFill>
                <a:latin typeface="Arial Narrow"/>
              </a:rPr>
              <a:t>Информация с ограниченной подробностью извлекается из выборочных обследований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унд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2010: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зраиль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спания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Швейцария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урция</a:t>
            </a: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a8"/>
              </a:solidFill>
              <a:latin typeface="Arial Narrow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905520" y="1522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a8"/>
                </a:solidFill>
                <a:latin typeface="Arial Narrow"/>
              </a:rPr>
              <a:t>Неформальный перевод</a:t>
            </a:r>
            <a:endParaRPr b="0" lang="en-US" sz="1200" spc="-1" strike="noStrike">
              <a:solidFill>
                <a:srgbClr val="0000a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08:57Z</dcterms:created>
  <dc:creator>Paolo Valente</dc:creator>
  <dc:description/>
  <dc:language>en-US</dc:language>
  <cp:lastModifiedBy>Mijidgombo Oyunjargal</cp:lastModifiedBy>
  <cp:lastPrinted>2012-05-21T06:28:02Z</cp:lastPrinted>
  <dcterms:modified xsi:type="dcterms:W3CDTF">2012-05-21T06:28:50Z</dcterms:modified>
  <cp:revision>170</cp:revision>
  <dc:subject/>
  <dc:title>Title here</dc:title>
</cp:coreProperties>
</file>