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37260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BD39-D188-4ED5-917D-1CE913929D85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0DEC-ADFC-4EB9-ADD2-9906B70DA45B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94DE-BB8F-42EC-A7D2-911E8B59BB4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FCD0-3738-45A0-A779-437094A0777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DAE5-03E7-4BAD-B772-E374EF96869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43E6-C511-434E-80CF-005995C4DFA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50FC-7AE0-4661-9B3E-5027EDE48D5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1556-31D5-4A47-BDAF-A06A43915D4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8CE6-03E5-496F-9C52-7CC208FE1303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E2F7-604E-45C6-AB40-1BF4DF3E7C3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5F4A-3BE2-4623-AFB7-DEEA66AADD4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FE3E-494B-44F5-944F-870CECEB25C8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E9D5-D3E9-4A3F-896B-C12EB45F04B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2310-3985-4D12-A7BC-279C2BC7E25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9372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1FCF-20C6-41F7-90AC-FCF2A5380EE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FAFA-58CA-4459-BF39-2D998E80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97CB-5F0B-47A3-92C4-F8B8C61C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70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EA38-8881-4A2F-9C1F-7EFFA784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4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00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AC92-6FFE-4AB1-9F80-6500AB98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B51-228C-42C9-89B9-BB184715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B83-BBAE-48E9-BCBF-12E03394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100-F6BC-41D6-8B58-A67BE0F8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3F9-57D8-4C9B-9316-525565AF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623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C46-217A-46FF-A9B9-E1F8E07B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5B66-103B-4BFB-AFE2-568AE7C1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70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B6F2-33F6-4E92-9D4C-D433FBAD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F266-4CC9-4F06-99CB-95B5E767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UNECE statistic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a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a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a8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2A93-B64C-4267-9282-E2E7030D00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763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 Narrow"/>
              </a:rPr>
              <a:t>Overview of Approaches to </a:t>
            </a:r>
            <a:br>
              <a:rPr sz="4400"/>
            </a:br>
            <a:r>
              <a:rPr b="1" lang="en-GB" sz="4400" spc="-1" strike="noStrike">
                <a:solidFill>
                  <a:srgbClr val="800000"/>
                </a:solidFill>
                <a:latin typeface="Arial Narrow"/>
              </a:rPr>
              <a:t>Censuses Using Registers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4952880"/>
            <a:ext cx="76201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a8"/>
                </a:solidFill>
                <a:latin typeface="Arial Narrow"/>
              </a:rPr>
              <a:t>Paolo Valente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a8"/>
                </a:solidFill>
                <a:latin typeface="Arial Narrow"/>
              </a:rPr>
              <a:t>United Nations Economic Commission for Europe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a8"/>
                </a:solidFill>
                <a:latin typeface="Arial Narrow"/>
              </a:rPr>
              <a:t>Statistical Division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43720" y="1033200"/>
            <a:ext cx="6880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400" spc="-1" strike="noStrike">
                <a:solidFill>
                  <a:srgbClr val="0000a8"/>
                </a:solidFill>
                <a:latin typeface="Arial Narrow"/>
              </a:rPr>
              <a:t>UNECE-UNFPA Workshop on Censuses Using Registers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a8"/>
                </a:solidFill>
                <a:latin typeface="Arial Narrow"/>
              </a:rPr>
              <a:t>Geneva, 21 May 2012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0000"/>
                </a:solidFill>
                <a:latin typeface="Arial Narrow"/>
              </a:rPr>
              <a:t>4. Data from registers + full enumeration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a8"/>
                </a:solidFill>
                <a:latin typeface="Arial Narrow"/>
              </a:rPr>
              <a:t>When data for some variables are missing in registers, and detailed data are required (sample not sufficient)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Data on most variables are taken from registers, but all units are asked for data on limited number of </a:t>
            </a:r>
            <a:r>
              <a:rPr b="0" lang="fr-CH" sz="2400" spc="-1" strike="noStrike">
                <a:solidFill>
                  <a:srgbClr val="0000a8"/>
                </a:solidFill>
                <a:latin typeface="Arial Narrow"/>
              </a:rPr>
              <a:t>variables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Enumeration may also allow evaluation of coverage and accuracy of register data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Some register data can be pre-printed in questionnaires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  <p:pic>
        <p:nvPicPr>
          <p:cNvPr id="79" name="Picture 3" descr="E:\UNECE\Collection Australian and Irish pics\eCensus2.JPG"/>
          <p:cNvPicPr/>
          <p:nvPr/>
        </p:nvPicPr>
        <p:blipFill>
          <a:blip r:embed="rId1"/>
          <a:stretch/>
        </p:blipFill>
        <p:spPr>
          <a:xfrm>
            <a:off x="990720" y="4114800"/>
            <a:ext cx="3276360" cy="246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E:\UNECE\Collection Australian and Irish pics\collector7.JPG"/>
          <p:cNvPicPr/>
          <p:nvPr/>
        </p:nvPicPr>
        <p:blipFill>
          <a:blip r:embed="rId2"/>
          <a:srcRect l="10264" t="0" r="0" b="0"/>
          <a:stretch/>
        </p:blipFill>
        <p:spPr>
          <a:xfrm>
            <a:off x="4876920" y="4114800"/>
            <a:ext cx="3429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0000"/>
                </a:solidFill>
                <a:latin typeface="Arial Narrow"/>
              </a:rPr>
              <a:t>4. Data from registers + full enumeration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a8"/>
                </a:solidFill>
                <a:latin typeface="Arial Narrow"/>
              </a:rPr>
              <a:t>Advantages: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a8"/>
                </a:solidFill>
                <a:latin typeface="Arial Narrow"/>
              </a:rPr>
              <a:t>Data collection can be used to set-up, update or improve registers in view of future fully register-based census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 Narrow"/>
              </a:rPr>
              <a:t>!!! </a:t>
            </a:r>
            <a:r>
              <a:rPr b="1" lang="fr-CH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fr-CH" sz="2000" spc="-1" strike="noStrike">
                <a:solidFill>
                  <a:srgbClr val="ff0000"/>
                </a:solidFill>
                <a:latin typeface="Arial Narrow"/>
              </a:rPr>
              <a:t> Distinction between statistical operation (census) and admin. operation (register update) should be clear to the respondents</a:t>
            </a:r>
            <a:endParaRPr b="0" lang="en-US" sz="20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More efficient than traditional census in field operations thanks to use of registers data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a8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a8"/>
                </a:solidFill>
                <a:latin typeface="Arial Narrow"/>
              </a:rPr>
              <a:t>Disadvantages: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Very expensive (full field enumeration)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Burden on the public (full field enumeration)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Method can be complex to apply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 Narrow"/>
              </a:rPr>
              <a:t>2010 round: 6 countries </a:t>
            </a:r>
            <a:r>
              <a:rPr b="1" lang="fr-CH" sz="2800" spc="-1" strike="noStrike">
                <a:solidFill>
                  <a:srgbClr val="0000a8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800000"/>
                </a:solidFill>
                <a:latin typeface="Arial Narrow"/>
              </a:rPr>
              <a:t>5. Data from registers + full enumeration + ad-hoc sample survey</a:t>
            </a:r>
            <a:endParaRPr b="0" lang="en-US" sz="36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a8"/>
                </a:solidFill>
                <a:latin typeface="Arial Narrow"/>
              </a:rPr>
              <a:t>Full enumeration for important variables or to update and improve registers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a8"/>
                </a:solidFill>
                <a:latin typeface="Arial Narrow"/>
              </a:rPr>
              <a:t>Sample surveys for variables which do not require high information detail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a8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 Narrow"/>
              </a:rPr>
              <a:t>2010 round: Germany, Poland + Italy (long/short form)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Narrow"/>
              </a:rPr>
              <a:t>Census methods adopted in UNECE Region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 Narrow"/>
              </a:rPr>
              <a:t>in 2000 and 2010 round</a:t>
            </a:r>
            <a:endParaRPr b="0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722160" y="1905120"/>
            <a:ext cx="81932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0000"/>
                </a:solidFill>
                <a:latin typeface="Arial Narrow"/>
              </a:rPr>
              <a:t>Sources on Register based censuses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4960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a8"/>
                </a:solidFill>
                <a:latin typeface="Arial Narrow"/>
              </a:rPr>
              <a:t>	</a:t>
            </a:r>
            <a:r>
              <a:rPr b="1" lang="fr-CH" sz="3600" spc="-1" strike="noStrike">
                <a:solidFill>
                  <a:srgbClr val="0000a8"/>
                </a:solidFill>
                <a:latin typeface="Arial Narrow"/>
              </a:rPr>
              <a:t>Fully register-based censuses also covered in UNECE publication on register-based statistics:</a:t>
            </a:r>
            <a:endParaRPr b="0" lang="en-US" sz="36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838080" y="579132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a8"/>
                </a:solidFill>
                <a:latin typeface="Arial Narrow"/>
              </a:rPr>
              <a:t>	</a:t>
            </a:r>
            <a:r>
              <a:rPr b="1" lang="fr-CH" sz="4000" spc="-1" strike="noStrike">
                <a:solidFill>
                  <a:srgbClr val="0066ff"/>
                </a:solidFill>
                <a:latin typeface="Arial Narrow"/>
              </a:rPr>
              <a:t>http://www.unece.org/stats/census/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3581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800000"/>
                </a:solidFill>
                <a:latin typeface="Arial Narrow"/>
              </a:rPr>
              <a:t>Content: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Fully register based census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449280" indent="-449280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ata from registers + existing sample surveys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449280" indent="-449280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ata from registers + ad-hoc sample surveys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449280" indent="-449280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Data from registers + full enumeration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449280" indent="-449280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 Narrow"/>
              </a:rPr>
              <a:t>Data from registers + full enum. + ad-hoc survey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449280" indent="-449280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 Narrow"/>
              </a:rPr>
              <a:t>Overview of methods adopted in UNECE region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800000"/>
                </a:solidFill>
                <a:latin typeface="Arial Narrow"/>
              </a:rPr>
              <a:t>Content: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Fully register based census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449280" indent="-449280">
              <a:spcBef>
                <a:spcPts val="799"/>
              </a:spcBef>
              <a:buClr>
                <a:srgbClr val="ff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Data from registers + existing sample surveys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449280" indent="-449280">
              <a:spcBef>
                <a:spcPts val="799"/>
              </a:spcBef>
              <a:buClr>
                <a:srgbClr val="ff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Data from registers + ad-hoc sample surveys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449280" indent="-449280">
              <a:spcBef>
                <a:spcPts val="799"/>
              </a:spcBef>
              <a:buClr>
                <a:srgbClr val="ff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Narrow"/>
              </a:rPr>
              <a:t>Data from registers + full enumeration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449280" indent="-449280">
              <a:spcBef>
                <a:spcPts val="799"/>
              </a:spcBef>
              <a:buClr>
                <a:srgbClr val="ff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0000"/>
                </a:solidFill>
                <a:latin typeface="Arial Narrow"/>
              </a:rPr>
              <a:t>Data from registers + full enum. + ad-hoc survey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449280" indent="-449280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 Narrow"/>
              </a:rPr>
              <a:t>Overview of methods adopted in UNECE region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685800" y="2362320"/>
            <a:ext cx="8305920" cy="2361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715000" y="1066680"/>
            <a:ext cx="35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0000"/>
                </a:solidFill>
                <a:latin typeface="Arial Narrow"/>
              </a:rPr>
              <a:t>«Combined census»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cxnSp>
        <p:nvCxnSpPr>
          <p:cNvPr id="58" name="Straight Arrow Connector 4"/>
          <p:cNvCxnSpPr/>
          <p:nvPr/>
        </p:nvCxnSpPr>
        <p:spPr>
          <a:xfrm flipH="1">
            <a:off x="6857640" y="1599840"/>
            <a:ext cx="534240" cy="686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800000"/>
                </a:solidFill>
                <a:latin typeface="Arial Narrow"/>
              </a:rPr>
              <a:t>1. Fully register based censuses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a8"/>
                </a:solidFill>
                <a:latin typeface="Arial Narrow"/>
              </a:rPr>
              <a:t>Census conducted by integrating data from various registers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Conclusion of long step-by-step process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a8"/>
                </a:solidFill>
                <a:latin typeface="Arial Narrow"/>
              </a:rPr>
              <a:t>Census is part of a system of register-based information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</p:txBody>
      </p:sp>
      <p:pic>
        <p:nvPicPr>
          <p:cNvPr id="61" name="Picture 3" descr="E:\UNECE\Collection Australian and Irish pics\eCensus2.JPG"/>
          <p:cNvPicPr/>
          <p:nvPr/>
        </p:nvPicPr>
        <p:blipFill>
          <a:blip r:embed="rId1"/>
          <a:stretch/>
        </p:blipFill>
        <p:spPr>
          <a:xfrm>
            <a:off x="5562720" y="3886200"/>
            <a:ext cx="3276360" cy="2160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609480" y="320040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a8"/>
                </a:solidFill>
                <a:latin typeface="Arial Narrow"/>
              </a:rPr>
              <a:t>Main requirements: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a8"/>
                </a:solidFill>
                <a:latin typeface="Arial Narrow"/>
              </a:rPr>
              <a:t>Availability of population register and dwelling register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a8"/>
                </a:solidFill>
                <a:latin typeface="Arial Narrow"/>
              </a:rPr>
              <a:t>Capacity to link persons and dwellings, identifying households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Public and legislative support for the use of population registers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800000"/>
                </a:solidFill>
                <a:latin typeface="Arial Narrow"/>
              </a:rPr>
              <a:t>1. Fully register based censuses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a8"/>
                </a:solidFill>
                <a:latin typeface="Arial Narrow"/>
              </a:rPr>
              <a:t>Advantages:</a:t>
            </a:r>
            <a:endParaRPr b="0" lang="en-US" sz="26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a8"/>
                </a:solidFill>
                <a:latin typeface="Arial Narrow"/>
              </a:rPr>
              <a:t>No burden on individuals</a:t>
            </a:r>
            <a:endParaRPr b="0" lang="en-US" sz="26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a8"/>
                </a:solidFill>
                <a:latin typeface="Arial Narrow"/>
              </a:rPr>
              <a:t>Data usually available every year</a:t>
            </a:r>
            <a:endParaRPr b="0" lang="en-US" sz="26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a8"/>
                </a:solidFill>
                <a:latin typeface="Arial Narrow"/>
              </a:rPr>
              <a:t>Once high quality registers are established, it is cheaper than a full field enumeration</a:t>
            </a:r>
            <a:endParaRPr b="0" lang="en-US" sz="26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600" spc="-1" strike="noStrike">
                <a:solidFill>
                  <a:srgbClr val="0000a8"/>
                </a:solidFill>
                <a:latin typeface="Arial Narrow"/>
              </a:rPr>
              <a:t>Limitations:</a:t>
            </a:r>
            <a:endParaRPr b="0" lang="en-US" sz="26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a8"/>
                </a:solidFill>
                <a:latin typeface="Arial Narrow"/>
              </a:rPr>
              <a:t>Setting up and maintenance require significant resources </a:t>
            </a:r>
            <a:endParaRPr b="0" lang="en-US" sz="26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a8"/>
                </a:solidFill>
                <a:latin typeface="Arial Narrow"/>
              </a:rPr>
              <a:t>Characteristics to be collected are limited to those on the registers</a:t>
            </a:r>
            <a:endParaRPr b="0" lang="en-US" sz="26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a8"/>
                </a:solidFill>
                <a:latin typeface="Arial Narrow"/>
              </a:rPr>
              <a:t>Quality of census depends on coverage and quality of registers</a:t>
            </a:r>
            <a:endParaRPr b="0" lang="en-US" sz="26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a8"/>
                </a:solidFill>
                <a:latin typeface="Arial Narrow"/>
              </a:rPr>
              <a:t>Data in registers usually collected for non-statistical purposes</a:t>
            </a:r>
            <a:endParaRPr b="0" lang="en-US" sz="26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a8"/>
                </a:solidFill>
                <a:latin typeface="Arial Narrow"/>
              </a:rPr>
              <a:t>Statistical agencies are also dependent on register authorities</a:t>
            </a:r>
            <a:endParaRPr b="0" lang="en-US" sz="26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600" spc="-1" strike="noStrike">
                <a:solidFill>
                  <a:srgbClr val="000000"/>
                </a:solidFill>
                <a:latin typeface="Arial Narrow"/>
              </a:rPr>
              <a:t>2000 round (3 countries): Andorra, Denmark, Finland</a:t>
            </a:r>
            <a:endParaRPr b="0" lang="en-US" sz="26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600" spc="-1" strike="noStrike">
                <a:solidFill>
                  <a:srgbClr val="000000"/>
                </a:solidFill>
                <a:latin typeface="Arial Narrow"/>
              </a:rPr>
              <a:t>2010 round (8): + Austria, Belgium, Norway, Slovenia, Sweden</a:t>
            </a:r>
            <a:endParaRPr b="0" lang="en-US" sz="26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4582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800000"/>
                </a:solidFill>
                <a:latin typeface="Arial Narrow"/>
              </a:rPr>
              <a:t>2. Data from registers + existing sample surveys</a:t>
            </a:r>
            <a:endParaRPr b="0" lang="en-US" sz="3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a8"/>
                </a:solidFill>
                <a:latin typeface="Arial Narrow"/>
              </a:rPr>
              <a:t>When some variables are not available in registers, data from existing sample surveys (i.e. LFS) can be used</a:t>
            </a:r>
            <a:endParaRPr b="0" lang="en-US" sz="30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a8"/>
                </a:solidFill>
                <a:latin typeface="Arial Narrow"/>
              </a:rPr>
              <a:t>Data linked at individual level</a:t>
            </a:r>
            <a:endParaRPr b="0" lang="en-US" sz="30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a8"/>
                </a:solidFill>
                <a:latin typeface="Arial Narrow"/>
              </a:rPr>
              <a:t>No field data collection</a:t>
            </a:r>
            <a:endParaRPr b="0" lang="en-US" sz="30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pic>
        <p:nvPicPr>
          <p:cNvPr id="67" name="Picture 3" descr="E:\UNECE\Collection Australian and Irish pics\eCensus2.JPG"/>
          <p:cNvPicPr/>
          <p:nvPr/>
        </p:nvPicPr>
        <p:blipFill>
          <a:blip r:embed="rId1"/>
          <a:stretch/>
        </p:blipFill>
        <p:spPr>
          <a:xfrm>
            <a:off x="1676520" y="4038480"/>
            <a:ext cx="3276360" cy="2465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Geoffrey Carliez\Bureaublad\labour%20force%20survey%20report%201.jpg"/>
          <p:cNvPicPr/>
          <p:nvPr/>
        </p:nvPicPr>
        <p:blipFill>
          <a:blip r:embed="rId2"/>
          <a:stretch/>
        </p:blipFill>
        <p:spPr>
          <a:xfrm>
            <a:off x="6172200" y="2743200"/>
            <a:ext cx="261468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800000"/>
                </a:solidFill>
                <a:latin typeface="Arial Narrow"/>
              </a:rPr>
              <a:t>2. Data from registers + existing sample surveys</a:t>
            </a:r>
            <a:endParaRPr b="0" lang="en-US" sz="3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a8"/>
                </a:solidFill>
                <a:latin typeface="Arial Narrow"/>
              </a:rPr>
              <a:t>Advantages: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No burden on respondents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Reduced costs: no specific field data collection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Consistency between census results and survey results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a8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a8"/>
                </a:solidFill>
                <a:latin typeface="Arial Narrow"/>
              </a:rPr>
              <a:t>Disadvantages: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Process to successfully link information on individuals from different surveys and registers is complex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Limited detail for information taken from sample surveys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 Narrow"/>
              </a:rPr>
              <a:t>2000 round: Netherlands (« Virtual census »)</a:t>
            </a:r>
            <a:r>
              <a:rPr b="1" lang="fr-CH" sz="2800" spc="-1" strike="noStrike">
                <a:solidFill>
                  <a:srgbClr val="0000a8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 Narrow"/>
              </a:rPr>
              <a:t>2010 round: Netherlands, Iceland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800000"/>
                </a:solidFill>
                <a:latin typeface="Arial Narrow"/>
              </a:rPr>
              <a:t>3. Data from registers + ad-hoc sample surveys</a:t>
            </a:r>
            <a:endParaRPr b="0" lang="en-US" sz="3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a8"/>
                </a:solidFill>
                <a:latin typeface="Arial Narrow"/>
              </a:rPr>
              <a:t>Alternative:</a:t>
            </a: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 conduct ad-hoc sample surveys instead of using data from existing surveys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Ad-hoc sample surveys can be used to collect data on selected variables and/or evaluate accuracy of registers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a8"/>
                </a:solidFill>
                <a:latin typeface="Arial Narrow"/>
              </a:rPr>
              <a:t>Requires capacity to link individual data from different sources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</p:txBody>
      </p:sp>
      <p:pic>
        <p:nvPicPr>
          <p:cNvPr id="73" name="Picture 3" descr="E:\UNECE\Collection Australian and Irish pics\eCensus2.JPG"/>
          <p:cNvPicPr/>
          <p:nvPr/>
        </p:nvPicPr>
        <p:blipFill>
          <a:blip r:embed="rId1"/>
          <a:stretch/>
        </p:blipFill>
        <p:spPr>
          <a:xfrm>
            <a:off x="1295280" y="4038480"/>
            <a:ext cx="3276720" cy="246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Documents and Settings\Geoffrey Carliez\Bureaublad\UNECE various\Snapshots French Census DVD\vlcsnap-88440.png"/>
          <p:cNvPicPr/>
          <p:nvPr/>
        </p:nvPicPr>
        <p:blipFill>
          <a:blip r:embed="rId2"/>
          <a:srcRect l="1969" t="656" r="492" b="656"/>
          <a:stretch/>
        </p:blipFill>
        <p:spPr>
          <a:xfrm>
            <a:off x="5181480" y="4038480"/>
            <a:ext cx="3505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800000"/>
                </a:solidFill>
                <a:latin typeface="Arial Narrow"/>
              </a:rPr>
              <a:t>3. Data from registers + ad-hoc sample surveys</a:t>
            </a:r>
            <a:endParaRPr b="0" lang="en-US" sz="3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a8"/>
                </a:solidFill>
                <a:latin typeface="Arial Narrow"/>
              </a:rPr>
              <a:t>Advantages: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Accuracy of population register can be tested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Population counts could be adjusted 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Limited burden on respondents (sample survey)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Limited costs (sample survey)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a8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a8"/>
                </a:solidFill>
                <a:latin typeface="Arial Narrow"/>
              </a:rPr>
              <a:t>Disadvantages: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Method could be complex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8"/>
                </a:solidFill>
                <a:latin typeface="Arial Narrow"/>
              </a:rPr>
              <a:t>Limited detail for information taken from sample surveys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 Narrow"/>
              </a:rPr>
              <a:t>2010 round:  Israel, Spain, Switzerland, Turkey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14:08:57Z</dcterms:created>
  <dc:creator>Paolo Valente</dc:creator>
  <dc:description/>
  <dc:language>en-US</dc:language>
  <cp:lastModifiedBy>Paolo Valente</cp:lastModifiedBy>
  <cp:lastPrinted>2012-05-18T15:55:44Z</cp:lastPrinted>
  <dcterms:modified xsi:type="dcterms:W3CDTF">2012-05-18T15:56:33Z</dcterms:modified>
  <cp:revision>152</cp:revision>
  <dc:subject/>
  <dc:title>Title here</dc:title>
</cp:coreProperties>
</file>