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75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76040" y="86652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4840" y="950220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7E065-E2A6-4E39-81D5-063FE9CCA5AB}" type="slidenum">
              <a:rPr b="0" lang="nb-NO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other type of statistical system. Individual data from administrative registers or from other sour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entralized: Persons report to regional (or local) register. Regional register report to central register, them to SO. If no central register, regional register may report directly to statistical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ized: Information for persons entered directly into central register, example central population register. May still be local registrars (offices).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two similar to registers on pers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rd: SO collects data from internal registers in the enterprises. May or may not be regarded as register-based data coll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Norway we have a centralized register system with a few exception (edu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49A-8D4D-417C-88C5-CF5ED585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A2C-E8D4-4944-ABC9-935C5EE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994-6103-416B-A7DB-F1F2CDB5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692-FC46-4F88-8F45-B72B5F9E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CF0C-3BBF-402C-A478-E909AD88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23BE-E2F6-470C-A647-EDDDD51D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C7C7-D544-4BF2-B025-C114BD97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D089-8809-4403-B63D-8693EA2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1C39-1BF4-4D18-9E02-AC6E2A4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F54E-8AF7-442E-A8AE-AF7E866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CA56-47FC-481B-920A-A1CEF0E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82B-5438-487C-91DA-09F21EA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6047-D5AC-4DD8-A4AA-DBA3F95E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F0E0-39BE-4A7C-AB11-0729B4A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9D9F-50B9-4DE4-B5A3-1ECB63C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557A-B53F-4067-A3CF-FCF97A61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A4CA-2154-4727-B055-7BE9A1E6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49B-89E9-424C-B524-FEA50B6E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FC9-5D76-4041-AC44-B936347A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D81-C57D-4C1C-9549-B50EAD1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B6F-402F-40B4-B6CB-3C6650A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75E-D135-469C-A2BE-BE91484D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22B-81DA-410B-8A6F-4B29EEB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73D-4AEA-4950-8F7C-E107828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FBA-E241-4482-BED2-94D587150E10}" type="datetime">
              <a:rPr b="0" lang="nb-NO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D656-D1A5-4570-8DD5-6BD55EFFBC20}" type="slidenum">
              <a:rPr b="1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85EC-4D9F-4932-9866-10D7EBDF9B44}" type="datetime">
              <a:rPr b="0" lang="nb-NO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5C58-383A-4A0B-B3C9-46EC7F012996}" type="slidenum">
              <a:rPr b="1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A38E-3C85-4BEF-978E-7565D5F006AC}" type="slidenum">
              <a:rPr b="1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ald.utne@ssb.no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Индивидуальные статистические данные и развитие регистров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8920" y="371592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 семинар по проведению переписи с применением регистров в Женеве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лд У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ческое бюро Норв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00"/>
                </a:solidFill>
                <a:uFillTx/>
                <a:latin typeface="Arial"/>
                <a:hlinkClick r:id="rId1"/>
              </a:rPr>
              <a:t>harald.utne@ssb.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C23-6768-45C7-82D6-21AB784ABF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татистические системы, основывающиеся на агрегированных данных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траны имеют децентрализованную систему для подготовки статистических данных с разными географическими уров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статистических данных на каждом уровне и передача результатов на следующ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значения и количество наблюден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рег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заработная плата и количество наемных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статистиков в национальном статистическом органе работает по агрегированным 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EDA-8C90-49C2-9EF8-E5D8DF559B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татистические данные, основывающиеся на индивидуальных данных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данные для всего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административных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статистиков в национальном статистическом органе работают непосредственно с индивидуальными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3DF-113F-427B-A1AC-680A23E3EF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истематический сбор данных на уровне единиц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7489800" cy="526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5640" y="3462480"/>
            <a:ext cx="3097080" cy="687240"/>
          </a:xfrm>
          <a:prstGeom prst="wedgeRoundRectCallout">
            <a:avLst>
              <a:gd name="adj1" fmla="val -74652"/>
              <a:gd name="adj2" fmla="val -302657"/>
              <a:gd name="adj3" fmla="val 16667"/>
            </a:avLst>
          </a:prstGeom>
          <a:solidFill>
            <a:srgbClr val="e4e4e4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кальный идентификатор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1F7-A656-499F-9B3E-6DA89B4FC8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Централизованные или децентрализованные регистры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физические лица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773360"/>
            <a:ext cx="40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Л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2421000"/>
            <a:ext cx="4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42100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98900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85264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28464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73264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30064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486900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43700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2200" y="239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242100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040" y="285264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040" y="328464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80" y="443556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80" y="485316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80" y="528480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80" y="571644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206064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-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ьный 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85264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97600" y="479736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81600" y="481968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9960" y="249228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ый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97600" y="249228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852640"/>
            <a:ext cx="105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-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ьный 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4520" y="14842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м. регистры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6680" y="14842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ист.регистры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5280" y="49244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131920"/>
            <a:ext cx="1584360" cy="1447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00000" y="2349360"/>
            <a:ext cx="1584360" cy="216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997360"/>
            <a:ext cx="1584360" cy="71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00000" y="3068280"/>
            <a:ext cx="158436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349360"/>
            <a:ext cx="1368360" cy="358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2707920"/>
            <a:ext cx="136836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2781360"/>
            <a:ext cx="115272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581360"/>
            <a:ext cx="3959280" cy="503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5013360"/>
            <a:ext cx="3888000" cy="71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00000" y="5084280"/>
            <a:ext cx="395928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00000" y="5084280"/>
            <a:ext cx="3814920" cy="792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5084640"/>
            <a:ext cx="108108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4560" y="263520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. орган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3400" y="49244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. орган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32E-C161-4AE3-9A9F-537BD8AB7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6043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трализованные или децентрализованные регистры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едприятия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191628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34936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64644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07844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80716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237360"/>
            <a:ext cx="35856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9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5680" y="2421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7004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537516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451008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78136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1497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579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368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29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8611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3086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206064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5240" y="270828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86680" y="587700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86680" y="393228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86680" y="242100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393228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42100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0" y="2133720"/>
            <a:ext cx="10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-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ьный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0960" y="2708280"/>
            <a:ext cx="10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-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ьный 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66320" y="24764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ый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0720" y="39337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ый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47800" y="24922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. орган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92640" y="14572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м. регистры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960" y="148428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. регистры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47800" y="400536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. орган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48520" y="593244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.орган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2133720"/>
            <a:ext cx="1441440" cy="142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042920" y="2276640"/>
            <a:ext cx="1441440" cy="2887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042920" y="2923920"/>
            <a:ext cx="1441440" cy="730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2349360"/>
            <a:ext cx="1368360" cy="2890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19640" y="2636640"/>
            <a:ext cx="1368360" cy="215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2637000"/>
            <a:ext cx="144000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44720" y="3860640"/>
            <a:ext cx="3743280" cy="216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042920" y="4076640"/>
            <a:ext cx="3745080" cy="216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042920" y="4076280"/>
            <a:ext cx="3600360" cy="576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5516640"/>
            <a:ext cx="6121440" cy="5047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6021360"/>
            <a:ext cx="61214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42920" y="6021000"/>
            <a:ext cx="612144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24360" y="4076640"/>
            <a:ext cx="144000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688-C093-4439-8702-01DB3AB88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истема централизованных регистров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еимущества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ая система для идентификационных но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двойного уче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е идентификационные но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единообразная регис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эффективный сбор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че привязывать данные из нескольких регис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C76-F44B-4D04-92CD-362B83A4D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280620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пасибо за внимание!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F49-76D8-4774-AEC2-10D3B7A0F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8:06:24Z</dcterms:created>
  <dc:creator>Coen Hendriks</dc:creator>
  <dc:description/>
  <cp:keywords/>
  <dc:language>en-US</dc:language>
  <cp:lastModifiedBy>katenb</cp:lastModifiedBy>
  <cp:lastPrinted>1999-08-31T12:20:00Z</cp:lastPrinted>
  <dcterms:modified xsi:type="dcterms:W3CDTF">2012-04-26T03:51:00Z</dcterms:modified>
  <cp:revision>60</cp:revision>
  <dc:subject/>
  <dc:title>Base registers and Statistical popula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