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75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76040" y="86652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64920" y="950292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5B734-59EC-4BD9-A8E7-C3B91DDDCAF3}" type="slidenum">
              <a:rPr b="0" lang="nb-NO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other type of statistical system. Individual data from administrative registers or from other sour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entralized: Persons report to regional (or local) register. Regional register report to central register, them to SO. If no central register, regional register may report directly to statistical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ized: Information for persons entered directly into central register, example central population register. May still be local registrars (offices).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two similar to registers on pers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rd: SO collects data from internal registers in the enterprises. May or may not be regarded as register-based data coll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76400" y="8668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2880" y="4708440"/>
            <a:ext cx="4969080" cy="4167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Norway we have a centralized register system with a few exception (edu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492-193C-4C14-A31E-72F8C993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855-A3B3-4795-A70D-0956C133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616-3518-4B5C-87B7-F8214851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ABE-B711-43C9-B391-01EBAC6B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12F-A527-447C-B518-2F07C9D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453F-0F7C-482E-B404-C6097FB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B6C-FA37-4653-871E-0E0D1A68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28F5-E80B-4CCC-B189-E0ACDDD2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4A24-4DE4-4300-AF55-574B105D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CAFE-0FD2-43EC-AABD-C9CCA43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A52D-AE65-4966-B0F9-DFB2D77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D45-E51A-4974-B37F-8A18AE3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9E9B-F929-4B40-9169-1C0D132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841F-D16A-462D-A682-04B253A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496-4A55-487E-837D-089F09E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690E-8855-4F33-A310-290DE4B8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77E-479A-4B49-8DE2-1BF8203C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75D-6A64-4B5A-8829-7C2479A2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957-EB56-4A7B-9786-2F6747F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FCC-66E6-4BBE-BD09-E735D1C1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CDF-8023-4913-BF1A-20119775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90D-888F-4A7F-AFA9-2B76E07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A6C-8132-4787-A414-9E9B58C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A4C-9736-433C-B9E5-CE7EF4B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311-1316-4551-9A7B-F1430D3A196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835-301D-47A5-B1F6-A610A79DCC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0F59-ADE5-4EAD-99F0-F79B4FFA8F3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D0B8-495F-4E70-8FE7-0193D269F76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2BE3-5959-4419-8E5C-650B9DE6FC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dividual based statistics and register developmen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8920" y="371592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workshop on Censuses using administrative registers in Geneva 21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ald Utne, 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arald.utne@ssb.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53A-AC68-4136-A770-627C0973CE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tatistical system based on aggregated data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untries have a decentralized system for the production of statistics with several geographic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, County, Regional, 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: produce statistics at each level and pass the results on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s and number of observations (weights) from the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ges and the number of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tatisticians in the national office work on aggrega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2A9-3DE0-48AB-97BE-8175E3A32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atistical system based on individual dat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data for the whole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dministrative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tatisticians in the national statistical office work directly  with individu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AC8-658C-438F-8BEE-3C94C1FA4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 systematic collection of unit level dat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7489800" cy="526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95640" y="3500280"/>
            <a:ext cx="3097080" cy="576360"/>
          </a:xfrm>
          <a:prstGeom prst="wedgeRoundRectCallout">
            <a:avLst>
              <a:gd name="adj1" fmla="val -74652"/>
              <a:gd name="adj2" fmla="val -351379"/>
              <a:gd name="adj3" fmla="val 16667"/>
            </a:avLst>
          </a:prstGeom>
          <a:solidFill>
            <a:srgbClr val="e4e4e4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F49-9DCD-41AE-A5DC-AE728D449D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entralized or decentralized registers – person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773360"/>
            <a:ext cx="40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421000"/>
            <a:ext cx="4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42100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98900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85264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28464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73264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30064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869000"/>
            <a:ext cx="360360" cy="288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437000"/>
            <a:ext cx="360360" cy="289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92200" y="239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040" y="2421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040" y="28526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040" y="32846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80" y="44355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80" y="4853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80" y="52848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80" y="5716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06064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1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285264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97600" y="479736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1600" y="48196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9960" y="24922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600" y="2492280"/>
            <a:ext cx="914400" cy="5540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97972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4160" y="148428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. register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35600" y="14842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. register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49244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2131920"/>
            <a:ext cx="1584360" cy="144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900000" y="2349360"/>
            <a:ext cx="158436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2997360"/>
            <a:ext cx="1584360" cy="71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900000" y="3068280"/>
            <a:ext cx="158436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2349360"/>
            <a:ext cx="1368360" cy="358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419640" y="2707920"/>
            <a:ext cx="136836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2781360"/>
            <a:ext cx="115272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4581360"/>
            <a:ext cx="3959280" cy="503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5013360"/>
            <a:ext cx="3888000" cy="712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00000" y="5084280"/>
            <a:ext cx="395928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00000" y="5084280"/>
            <a:ext cx="3814920" cy="792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084640"/>
            <a:ext cx="108108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9800" y="26352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tat. offic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74200" y="492444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tat. offic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196-F908-4087-8078-734F1DB200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1640" y="83664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entralized or decentralized registers - businesses</a:t>
            </a:r>
            <a:br>
              <a:rPr sz="28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91628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234936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64644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07844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580716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6237360"/>
            <a:ext cx="35856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5680" y="2421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700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37516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4510080"/>
            <a:ext cx="360360" cy="3589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781360"/>
            <a:ext cx="360360" cy="3585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149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5799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368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429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861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3086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06064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5240" y="2708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86680" y="5877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86680" y="3932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6680" y="2421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393228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2421000"/>
            <a:ext cx="914400" cy="36036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11280" y="21337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60240" y="270828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2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6000" y="247644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39337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47080" y="249228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tat. offic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92280" y="145728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. register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51600" y="14842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. registers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47080" y="40053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tat. offic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7080" y="593244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Stat. offic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2133720"/>
            <a:ext cx="1441440" cy="1429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42920" y="2276640"/>
            <a:ext cx="1441440" cy="288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042920" y="2923920"/>
            <a:ext cx="1441440" cy="730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349360"/>
            <a:ext cx="1368360" cy="2890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419640" y="2636640"/>
            <a:ext cx="1368360" cy="2156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2637000"/>
            <a:ext cx="1440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3860640"/>
            <a:ext cx="374328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042920" y="4076640"/>
            <a:ext cx="3745080" cy="2160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042920" y="4076280"/>
            <a:ext cx="3600360" cy="576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5516640"/>
            <a:ext cx="6121440" cy="5047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6021360"/>
            <a:ext cx="61214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042920" y="6021000"/>
            <a:ext cx="6121440" cy="36036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4076640"/>
            <a:ext cx="1440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AA5-8276-4A0C-BAB4-B818FBE8B1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entralized register system – advantag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system for ID-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ouble counting (unique ID-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unified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asy to link data from severa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F27-7EEE-4B4F-9BA5-3EEE4358F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80620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ank you for your attention !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24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ECA-E49E-44DA-B2DD-F84752382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8:06:24Z</dcterms:created>
  <dc:creator>Coen Hendriks</dc:creator>
  <dc:description/>
  <cp:keywords/>
  <dc:language>en-US</dc:language>
  <cp:lastModifiedBy>Harald Utne</cp:lastModifiedBy>
  <cp:lastPrinted>1999-08-31T12:20:00Z</cp:lastPrinted>
  <dcterms:modified xsi:type="dcterms:W3CDTF">2012-04-19T08:45:30Z</dcterms:modified>
  <cp:revision>54</cp:revision>
  <dc:subject/>
  <dc:title>Base registers and Statistical popula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80148429</vt:r8>
  </property>
  <property fmtid="{D5CDD505-2E9C-101B-9397-08002B2CF9AE}" pid="3" name="_AuthorEmail">
    <vt:lpwstr>Harald.Utne@ssb.no</vt:lpwstr>
  </property>
  <property fmtid="{D5CDD505-2E9C-101B-9397-08002B2CF9AE}" pid="4" name="_AuthorEmailDisplayName">
    <vt:lpwstr>Utne, Harald</vt:lpwstr>
  </property>
  <property fmtid="{D5CDD505-2E9C-101B-9397-08002B2CF9AE}" pid="5" name="_EmailSubject">
    <vt:lpwstr>Presentations for Census Workshop</vt:lpwstr>
  </property>
  <property fmtid="{D5CDD505-2E9C-101B-9397-08002B2CF9AE}" pid="6" name="_NewReviewCycle">
    <vt:lpwstr/>
  </property>
</Properties>
</file>