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046-A018-4AA8-BAC2-80520D74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683D-CFE8-42DB-A986-0A73E154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B214-8CB3-4B0F-89DE-ECA3814B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A3C5-BF52-414E-9787-644B1E10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D2C-7D1A-47C3-A7F5-7D080549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BE1-D8AC-4C0F-BE55-6F3C0795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68B-CDB4-4466-822A-CBBE942A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AF8-EDE5-4021-8B00-C9A8F364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609480"/>
            <a:ext cx="65530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82F-225A-4690-9AAE-7AE8851F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F6AA-E997-4FE4-AE69-AB7A0FD2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236-072E-43F9-9A67-04DC8710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2B4-2F5B-4845-B8B1-3589B9B8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39800" indent="-2253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3" marL="930240" indent="32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4" marL="1547640" indent="-217440">
              <a:spcBef>
                <a:spcPts val="601"/>
              </a:spcBef>
              <a:buClr>
                <a:srgbClr val="99ff66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5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6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C87E02-4A5B-49C3-A326-30FCA5DAC02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.schultenordholt@cbs.nl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583920"/>
            <a:ext cx="74883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пределения основных понятий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84000" y="2241360"/>
            <a:ext cx="7559640" cy="37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Эрик Шульте Нордхолт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татистическое бюро Нидерландов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Отдел социальной и пространственной статистики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Департамент поддержки и развития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екция исследований и развития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e.schultenordholt@cbs.nl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Семинар по переписи с использованием регистров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Женева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(21 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мая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2012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 г.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1640" y="297000"/>
            <a:ext cx="80643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Arial"/>
              </a:rPr>
              <a:t>Специализированные регистры </a:t>
            </a:r>
            <a:r>
              <a:rPr b="1" lang="en-GB" sz="3500" spc="-1" strike="noStrike">
                <a:solidFill>
                  <a:srgbClr val="ffff00"/>
                </a:solidFill>
                <a:latin typeface="Arial"/>
              </a:rPr>
              <a:t>(2)</a:t>
            </a:r>
            <a:endParaRPr b="1" lang="en-US" sz="3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55280" y="1628640"/>
            <a:ext cx="7488360" cy="45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римеры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егистры физических лиц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Налоги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Уровень образования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Социальное обеспечения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Состояние здоровья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егистры хозяйствующих субъектов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Корпоративный налог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НДС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Торговля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егистры субпопуляциям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Фермы, больницы, школы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6FAB-0BA1-4C32-B3AA-69DD59374A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6094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одержание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9280" y="1521000"/>
            <a:ext cx="752472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Что такое регистр? 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Обновление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Административные регистры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Статистические регистры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Базовые регистры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Основные базовые статистические регистры в странах, полагающихся на регистры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7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cc33"/>
                </a:solidFill>
                <a:latin typeface="Arial"/>
              </a:rPr>
              <a:t>Специализированные регистры</a:t>
            </a:r>
            <a:endParaRPr b="1" lang="en-US" sz="26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14D-27C5-44A0-876D-A64E03CE1B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40464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то такое регистр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19280" y="1447920"/>
            <a:ext cx="7524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Определение регистра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истематический сбор данных на уровне единиц,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организованный таким образом, который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обеспечивает возможность обновления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Единицы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Единицы должны определяться однозначным образом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Предпочтительно посредством идентификационных кодов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ример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стоянное проживающее население в стране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Определяется в соответствии с правилами Центрального регистра населения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Единицы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=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объекты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940-C00E-40E9-8689-A765A26B28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55280" y="609480"/>
            <a:ext cx="748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бновление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599840"/>
            <a:ext cx="75247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Обработка информации на уровне единицы для отслеживания изменений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в единицах и их свойствах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Добавление новых единиц 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новорожденные, иммигранты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«Исключение» ушедших единиц 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умершие, эмигранты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ccff"/>
                </a:solidFill>
                <a:latin typeface="Arial"/>
              </a:rPr>
              <a:t>Классифицируются как «неактивные»</a:t>
            </a:r>
            <a:endParaRPr b="1" lang="en-US" sz="1800" spc="-1" strike="noStrike">
              <a:solidFill>
                <a:srgbClr val="66ccff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Изменения свойств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Исправления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Обновление только тех единиц, где имелись изменения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Обновление при возникновении изменения 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«постоянно»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Файлы данных, составляемые при традиционной переписи, не являются регистрами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все данные собираются на уровне единицы на определенный момент времени или период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ccff"/>
                </a:solidFill>
                <a:latin typeface="Arial"/>
              </a:rPr>
              <a:t>Для следующей переписи собираются новые данные</a:t>
            </a:r>
            <a:endParaRPr b="1" lang="en-US" sz="18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ccff"/>
                </a:solidFill>
                <a:latin typeface="Arial"/>
              </a:rPr>
              <a:t>Не обновляются как регистр</a:t>
            </a:r>
            <a:endParaRPr b="1" lang="en-US" sz="18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D94-5CE5-49E5-AC96-69FE9B7D45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84000" y="333000"/>
            <a:ext cx="7559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дминистративные регистры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9280" y="1305000"/>
            <a:ext cx="7524720" cy="50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Административные регистры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В первую очередь используются в административных информационных системах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Используются для производства товаров и оказания услуг в государственном или частном секторе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Используются для принятия решений по лицам 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физические лица, здания, предприятия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Административные регистры используются в целях статистики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ccff"/>
                </a:solidFill>
                <a:latin typeface="Arial"/>
              </a:rPr>
              <a:t>Зачастую государственные регистры национального масштаба</a:t>
            </a:r>
            <a:endParaRPr b="1" lang="en-US" sz="1800" spc="-1" strike="noStrike">
              <a:solidFill>
                <a:srgbClr val="66ccff"/>
              </a:solidFill>
              <a:latin typeface="Arial"/>
            </a:endParaRPr>
          </a:p>
          <a:p>
            <a:pPr lvl="1" marL="663480" indent="-2268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ccff"/>
                </a:solidFill>
                <a:latin typeface="Arial"/>
              </a:rPr>
              <a:t>Ведутся государственными или местными органами</a:t>
            </a:r>
            <a:endParaRPr b="1" lang="en-US" sz="1800" spc="-1" strike="noStrike">
              <a:solidFill>
                <a:srgbClr val="66ccff"/>
              </a:solidFill>
              <a:latin typeface="Arial"/>
            </a:endParaRPr>
          </a:p>
          <a:p>
            <a:pPr marL="24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Административные источники данных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Все источники данных, используемых для административных нужд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В настоящее время обычно регистры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Собственник регистра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Орган, ответственный за административный регистр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  <a:p>
            <a:pPr marL="24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= 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Регистродержатель</a:t>
            </a:r>
            <a:endParaRPr b="1" lang="en-US" sz="1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35CB-CA45-4F10-881F-77A64FE837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55280" y="367920"/>
            <a:ext cx="7488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татистические регистры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1280" y="1015920"/>
            <a:ext cx="763272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3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Создаются путем обработки данных из административных регистров в целях статистики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23520" indent="-21312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Могут основываться на одном регистре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23520" indent="-21312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Обычно основываются на сочетании данных из разных регистров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2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marL="23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ервичный регистр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23520" indent="-21312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Административный регистр или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1" marL="623520" indent="-21312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Статистический регистр в отсутствие центрального административного регистра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  <a:p>
            <a:pPr lvl="2" marL="986400" indent="-183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егистр образовани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23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Вторичный регистр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623520" indent="-21312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Другие статистические регистры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085-E4FB-493A-9DA9-EDE5154D6C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55280" y="367920"/>
            <a:ext cx="7488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Базовые регистры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84000" y="1015560"/>
            <a:ext cx="777564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3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ротивоположность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специализированный регистр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3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3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Административные базовые регистры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33640" indent="-233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Основной, распространенный ресурс для государственного управления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33640" indent="-233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Ведение счета населения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33640" indent="-233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Хранение идентификационной информации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3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Статистические базовые регистры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33640" indent="-233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Основываются на соответствующем административном базовом регистре/регистрах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33640" indent="-233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Большая важность для статистической системы в целом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5C4-7704-4170-9893-6E1880EA21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55280" y="296640"/>
            <a:ext cx="748836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сновные статистические базовые регистры в странах, основывающихся на регистрах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55280" y="1807920"/>
            <a:ext cx="7488360" cy="45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егистр населения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: (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Ц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Н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Идентификация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Индивидуальный идентификационный номер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егистр хозяйствующих субъектов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Идентификация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Идентификационный номер хозяйствующего субъекта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для предприятий и учреждений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егистр собственности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Недвижимость, здания, жилье и адреса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Идентификация для привязки к лицам и хозяйствующим субъектам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числовой адрес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4FB-0304-40CB-A57B-CCB89C3AD1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80661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Arial"/>
              </a:rPr>
              <a:t>Специализированные регистры </a:t>
            </a:r>
            <a:r>
              <a:rPr b="1" lang="en-GB" sz="3500" spc="-1" strike="noStrike">
                <a:solidFill>
                  <a:srgbClr val="ffff00"/>
                </a:solidFill>
                <a:latin typeface="Arial"/>
              </a:rPr>
              <a:t>(1)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55280" y="1844280"/>
            <a:ext cx="748836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пециализированные регистры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лужат одной определенной цели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или точно определенной группе целей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одержат данные по определенным предметным областям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ривязаны к одному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или более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егистру  (-ам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Автомобиль может принадлежать частному лицу или компании</a:t>
            </a:r>
            <a:endParaRPr b="1" lang="en-US" sz="2000" spc="-1" strike="noStrike">
              <a:solidFill>
                <a:srgbClr val="66ccff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лучают информацию по населению и некоторые базовые данные из базового регистра (-ов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9641-9E15-4227-9F1D-8C3E430468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33:14Z</dcterms:created>
  <dc:creator>Eric Schulte Nordholt</dc:creator>
  <dc:description/>
  <dc:language>en-US</dc:language>
  <cp:lastModifiedBy>katenb</cp:lastModifiedBy>
  <cp:lastPrinted>2002-02-11T11:11:40Z</cp:lastPrinted>
  <dcterms:modified xsi:type="dcterms:W3CDTF">2012-04-16T09:48:15Z</dcterms:modified>
  <cp:revision>356</cp:revision>
  <dc:subject/>
  <dc:title>Combined use of data</dc:title>
</cp:coreProperties>
</file>