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E12-709F-4CD0-BB3A-118AFFA7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A65-85AD-44EB-A140-3B7798F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84D-473E-45B8-A722-DD337FC9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968-4E48-4C63-9F4E-7DBB9DB4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F72-2718-4AE2-9592-E706319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8CC-1107-4F67-996A-329C6D1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0F3-F78C-4D5E-B439-3CC9215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183-E42D-442B-8351-F66A748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0ED-2DB5-4D9B-ACBF-D6286A3C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25C-F00E-4850-8873-726156A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6D3-428E-4BB5-94CB-1734719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6E8-732F-41F3-ACE3-1CD6BCC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915614-11C8-401C-82D5-DC92A54F6DB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583920"/>
            <a:ext cx="7488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tions of basic concep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41360"/>
            <a:ext cx="75596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Workshop on censuses using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 (21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5280" y="29700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pecialised register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55280" y="1628640"/>
            <a:ext cx="7488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s on pers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ax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Educational attainment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ocial securit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Health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usiness regist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Business tax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Value added tax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rade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s on sub-populat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Farms, hospitals, school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A7D-CA58-436C-9468-C6ABA2314C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What is a register?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Updating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Administrative register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Statistical register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Base register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Main statistical base registers in register-based countrie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Specialised register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2FF-D009-468A-AB82-0670E25CB5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hat is a registe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efinition of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ystematic collection of unit level data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organized in such a way that 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pdating is possible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it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its must be uniquely identifie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Preferably by identification cod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xample: Resident persons in a countr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Identified according to rules of Central Population Register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its = object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354-575F-425E-86D0-06E187BD5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Upda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rocessing unit level information to keep track of chang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in units and their attribut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New units (new born, immigrants) adde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xiting units (dead, emigrants) “removed”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Classified as “not active”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hanges in attribut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rrectio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pdating only for units that had chang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pdating when changes arise (“continuously”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 traditional census file is not a register: all data are collected at unit level for a point in time or a period 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New data collected for next census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Not updated as a register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5E0-DB1C-4B18-B328-5CDDC7BD5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4000" y="333000"/>
            <a:ext cx="7559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dministrative regis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05000"/>
            <a:ext cx="7524720" cy="50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4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rimarily used in administrative information system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sed in production of goods or services in public or private sector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sed for decisions on individuals (persons, buildings, enterprise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registers used for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50160" indent="-22212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Often countrywide registers in public sector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50160" indent="-22212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Operated by the state or by local authorities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data sourc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ll kinds of data sources used for administrative purpo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Nowadays normally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gister owner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uthority responsible for an administrative register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= Register keeper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20E-E4D9-4ECB-BD95-168337EE9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tatistical regis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55280" y="1125360"/>
            <a:ext cx="74883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3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reated by processing data from administrativ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s for statistical purpo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43320" indent="-219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Could be based on one single register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43320" indent="-219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rmally based on combined data from several regist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43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3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imary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43320" indent="-219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dministrative register or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43320" indent="-219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tatistical register where no central administrative register exist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1017720" indent="-189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Register of educ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23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econdary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43320" indent="-219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Other statistical regist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B5F-73FB-416B-8B7F-E6B63BB21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Base regis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2000" y="1267920"/>
            <a:ext cx="7451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4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pposite: specialised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dministrative base regist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asic, common resource for public administr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Keeping stock of the popul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aintain identification information 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tatistical base regist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ased on the corresponding administrative base register/regist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Great importance for the whole statistical system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F61-10C5-418D-A1FE-21159E4935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296640"/>
            <a:ext cx="748836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 statistical base registers in register-based countr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5280" y="1807920"/>
            <a:ext cx="7488360" cy="45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opulation register: (C)P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D: Personal identification numb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usiness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D: Business identification numbers (fo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nterprises and establishment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perty register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al estates, buildings, dwellings and addres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D for linking to persons and establishment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numerical addres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F14-66D6-4F6D-829D-C5FCB9362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4000" y="609480"/>
            <a:ext cx="75596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pecialised registers (1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55280" y="1844280"/>
            <a:ext cx="748836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pecialised registers ar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serving one specific purpos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or a clearly defined group of purpos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taining data for defined subject area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linked to one (or more) basic register(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 car may be owned by a person or by a compan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ceiving information on population and some basic data from base register(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E2F-0B5E-477E-9A52-1CB7BE5B6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4-05T12:00:03Z</dcterms:modified>
  <cp:revision>349</cp:revision>
  <dc:subject/>
  <dc:title>Combined use of data</dc:title>
</cp:coreProperties>
</file>