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EC8-93B4-40B5-8245-3742C3FC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F10-2F18-44DB-A3A2-128D4DF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010-86BD-4CEF-A1D1-42A0616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C69-93D4-4053-9961-82846E17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EAE-4FAC-4A47-8965-C2A86B5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BA0-D561-444D-9EEF-7D4892E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2A2-6C5F-4071-B019-B818704E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EEA-F69E-4855-8659-FB35879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6D0-26A9-4340-8119-0E8C63DC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3C2-98D4-4772-AD88-141E2546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48C-4019-4513-B0A9-7841AC8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52D-9D28-4954-8637-F9005491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AEEFFA-5467-4472-BA0E-6F06B631548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62064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ля чего нужна статистика на основе регистров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168280"/>
            <a:ext cx="75596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рик Шульте Нордхол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ое бюро Нидерланд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тдел социальной и пространственной статистик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епартамент поддержки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екция исследований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еминар по переписи на основе регистр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Женева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21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мая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2012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г.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чество продукта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451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опоставимость и согласованност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строение согласованной статистической системы, основанной на регистра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Гармонизация со статистическими данными, основанных на других источника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Опыт в Нидерландах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оступность и ясност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актически независимо от используемых источников данны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7E6-F6E6-4C61-9179-F57C47295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68280"/>
            <a:ext cx="774072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атистические данные на основе регистров в сравнении со статистическими обследованиями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84000" y="2362320"/>
            <a:ext cx="7559640" cy="34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траты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Нагрузка на респондентов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Актуальность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В регистры включены не все переменные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Меньше прямого контроля за содержанием данных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очность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0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воевременность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A52-87FA-444D-B178-149DC35CA7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атистические данные на основе регистров в сравнении со статистическими обследованиями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84000" y="19810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дминистративные регистры предлагаю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плошной охват при низких затрата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Возможны статистические данные по малым группам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в сравнении с выборочными обследованиями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жегодные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ли более часто обновляемые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данные по всем переменным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Ежегодная «перепись»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казались эффективными для подготовки статистических данных, основанных на административных данны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ие данные на основе регистров должны дополняться информацией по результатам выборочных обследований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61B-A8D0-487A-9B07-08F6C942DB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ачество официальных статистических данных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Методы сбора данных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Затрат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Нагрузка на респондентов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Качество продукта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Статистические данные на основе регистров в сравнении со статистическими обследованиями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3F2-2291-4DC6-9FE6-6DACB02793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чество официальных статистических данных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пределение качества в статистике в соответствии с Кодексом практики Евростата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Качество продукта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Актуаль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Точ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Своевременность и пунктуаль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Сопоставимость и согласован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Доступность и яс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Качество процесса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Наилучшие методы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Экономическая эффективность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Низкая нагрузка на респондентов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154-3C9B-4D9A-86C4-7A71CC827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40464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етоды сбора данных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55280" y="1267920"/>
            <a:ext cx="7488360" cy="496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3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ариант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ерепись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плошное статистическое наблюдение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ыборочное обследование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дминистративные регистр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дминистративные данные собираются в административных целя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ие данные, основанные на регистрах, являются вторичным использованием имеющихся данны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шение о методе сбора данных является компромиссом между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кономической эффективностью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Нагрузкой на респондент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чеством продукта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E8F-DB86-483B-A7FB-5F1E79F8E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96640"/>
            <a:ext cx="752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траты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55280" y="907920"/>
            <a:ext cx="748836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Текущая ситуация во многих страна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ациональный статистический орган столкнулся с сокращением бюджета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/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граничениями бюджета 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ользователи требуют новые и более детальные статистические данные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олжны повысить эффективность подготовки статистических данны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дминистративные данные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рактически отсутствуют затраты на сбор данных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ля НСО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  <a:ea typeface="Arial"/>
              </a:rPr>
              <a:t>Ресурсы используются на улучшение имеющихся данных, нежели на сбор данных в статистических целя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  <a:ea typeface="Arial"/>
              </a:rPr>
              <a:t>Дополнение и корректирование имеющихся данных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  <a:ea typeface="Arial"/>
              </a:rPr>
              <a:t>Большинство ресурсов расходуется на создание статистических систем, основывающихся на регистрах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  <a:ea typeface="Arial"/>
              </a:rPr>
              <a:t>Но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  <a:ea typeface="Arial"/>
              </a:rPr>
              <a:t>: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  <a:ea typeface="Arial"/>
              </a:rPr>
              <a:t>системы должны поддерживаться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татистические данные, опирающиеся на регистры, не бесплатны, но обычно менее дорогостоящи по сравнению с выборочными обследованиями и, особенно, по сравнению с традиционной  переписью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BDC-86C4-47C9-B0DD-2B309059E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грузка на респондентов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745164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спользование административных данных означает отсутствие дополнительной нагрузки на респондент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ля компаний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«Представление отчетности государственным органам отнимает слишком много времени»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ля граждан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«Государственные органы не должны спрашивать информацию, которую я уже предоставлял»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ля НСО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Рост проблем с отказом респондентов от участия в выборочных обследованиях и переписи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EE0-2E94-4936-8CD7-CFB080B70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чество продукта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2000" y="1160640"/>
            <a:ext cx="7451640" cy="52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Актуальност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анные в регистрах основываются на административных определениях, которые могут отличаться от статистических определений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Единицы, охват, переменные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точка отсчета времени и т.д.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У нас есть правильные ответы, но можем ли мы ответить на правильные вопросы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»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Картина мира государственных органов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»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бъединение данных из разных регистров в целях повышения актуальности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 некоторых случаях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необходим дополнительный сбор данны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68B-6AF4-4C9F-AB7D-5E9DB30B18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чество продукта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1160280"/>
            <a:ext cx="7451640" cy="49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очност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бычно регистры имеют высокое качество в административных целя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вышение точности путем объединения данных из разных регистров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Редактирование в статистических целях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D7-BFF4-4137-BE30-EB4FA70C10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чество продукта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451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воевременность и пунктуальност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ремя на подготовку иногда больше, чем при статистических наблюдения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Административный процесс может занять время 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например, налоговые данные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Задержки с обновлением регистров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Извлечение данных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необходимо ждать несколько недель или месяцев, а в некоторых случаях -  еще дольше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EA6-52DE-4069-AF46-F22AE4BDC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katenb</cp:lastModifiedBy>
  <cp:lastPrinted>2002-02-11T11:11:40Z</cp:lastPrinted>
  <dcterms:modified xsi:type="dcterms:W3CDTF">2012-04-16T08:53:36Z</dcterms:modified>
  <cp:revision>360</cp:revision>
  <dc:subject/>
  <dc:title>Combined use of data</dc:title>
</cp:coreProperties>
</file>