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16D-FEB7-47AD-9960-816EC37D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C49-272C-465E-AAF0-6DC301AA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AE0-A68D-425A-AB7D-B92F2322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D1E-BCE3-47E4-B6FB-3C7C89E1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626-029F-4C17-984C-A4968A4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7AB-2EB9-46AD-9A27-2E28D7E8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A0F-9D4F-4601-90F4-6C13BE6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1D1-5EEE-4CEE-81ED-0BE19A99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D79-F8A8-432E-9A2A-738B7993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BB2-515C-4A26-9296-03C5D6E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0E1-3D77-422B-B0B8-B7480FA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B8C-602C-45BE-8871-CDE4A93D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6D25EA-8A85-4735-9EB0-714D02FA4B8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620640"/>
            <a:ext cx="7488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y register-based statistic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168280"/>
            <a:ext cx="7559640" cy="37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Workshop on censuses using registe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 Geneva (21 May 2012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quality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451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arability and coherenc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uilding a coherent register-based statistical system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Harmonising with statistics based on other sourc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Experiences in the Netherland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ccessibility and clar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lmost independent of data sources used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662-EB81-485C-B57A-B7B7891594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68280"/>
            <a:ext cx="752472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gister-based statistics compared to statistical surveys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84000" y="2362320"/>
            <a:ext cx="7559640" cy="34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sts (++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sponse burden (++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levance (-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Not all variables are included in register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Less direct control over data content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ccuracy (0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imeliness (-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97C-67E8-4B94-BEAF-A776FD778E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15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gister-based statistics compared to statistical surveys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84000" y="1981080"/>
            <a:ext cx="7559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dministrative registers off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otal coverage at a low cost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Statistics for small groups possible (compared to sample surveys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nnual (or more frequent) data for all variables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nnual “censuses”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o produce statistics based on administrative data has proved to be efficien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-based statistics have to be supplemented by information from sample survey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3A7-7229-4FA4-9F51-BD729D10A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Quality in official statistic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Data collection method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Cost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Response burden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Product quality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Register-based statistics compared to statistical surveys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CFD-77C8-420F-B18B-BD6EEA9D3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Quality in official statist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599840"/>
            <a:ext cx="7524720" cy="48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efinition of quality in statistics according to Eurostat “Code of practice”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oduct qual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Relevance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ccurac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imeliness and punctualit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Comparability and coherence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ccessibility and clarit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ocess qual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Best method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Cost efficiency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Low response burden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8B7-E07E-47E2-8E57-FB958EE88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40464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collection metho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55280" y="1267920"/>
            <a:ext cx="7488360" cy="496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4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Option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ensus/full coverage statistical surve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ample surve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dministrative registe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dministrative data are collected for administrative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urpos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gister-based statistics is secondary use of existing data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ecision on data collection method is a compromise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betwee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ost efficienc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sponse burde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roduct qualit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390-9368-460D-AF8B-BD3CCD4A0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96640"/>
            <a:ext cx="7524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s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55280" y="1267920"/>
            <a:ext cx="748836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Current situation in many countri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The NSI have experienced budget cuts / restriction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Users demand new and more detailed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ust increase efficiency in production of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dministrative data 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lmost no costs for data collection (for the NSI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Times New Roman"/>
              </a:rPr>
              <a:t>Use resources on improving existing data instead of collecting data for statistical purpos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Times New Roman"/>
              </a:rPr>
              <a:t>Supplement and correct existing data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Times New Roman"/>
              </a:rPr>
              <a:t>Most resources used in establishing register-based statistical systems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Times New Roman"/>
              </a:rPr>
              <a:t>But: Systems must be maintained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gister-based statistics is not free of charge but normally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less expensive than sample surveys and especially tha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traditional censuse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013-8ACB-4485-85E1-19DC59EE5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sponse burde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599840"/>
            <a:ext cx="745164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se of administrative data means no additiona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sponse burde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or companies 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Reporting to authorities takes too much time”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or citize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The authorities should not ask for information that I have already given”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or the NSI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Increasing non-response problems in sample surveys and censuse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096-EED9-457E-BE8D-2AEFA55F8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quality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2000" y="1160640"/>
            <a:ext cx="7451640" cy="52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4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levanc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 data is based on administrative definitions that may differ from statistical definiti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56640" indent="-2242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Units, coverage, variables, time references etc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We have the right answers, but can we answer the right questions?”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he authorities picture of the world?”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bining data from different registers to improve relevanc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3720" indent="-24372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 some cases: additional data collection is necessar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6C5-44B7-4F60-BB20-C3BBDFF0C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quality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1160280"/>
            <a:ext cx="7451640" cy="49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ccurac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egisters normally have good quality for administrative purpo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mproving accuracy by combining data from several registe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Editing for statistical purposes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4EE-FBA0-4680-8BCC-11AB5F12CA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quality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000" y="1600200"/>
            <a:ext cx="7451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imeliness and punctual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oduction time sometimes longer than for statistical survey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Administrative process may take time (example: tax data)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Delay in updating of registers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Data extraction: necessary to wait some weeks or months and sometimes even longer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1DA-4F96-453B-9C07-2BA172EA2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12-04-05T12:19:54Z</dcterms:modified>
  <cp:revision>349</cp:revision>
  <dc:subject/>
  <dc:title>Combined use of data</dc:title>
</cp:coreProperties>
</file>