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0AD5-FD68-4F28-AA79-FDC7457115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794B-2730-408A-B345-FE13624BC5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35D-3D26-49AA-A959-02CAC3B277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1A8-D863-4170-AC40-9DEEF6A27B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535A-06CC-4CBF-8FEE-BEE7EFD4A0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50D0-8043-4EC9-9D96-36DD8BB61B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4B7-1B94-4B9F-AB44-2A790150D2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225-4A9E-47BE-AE95-13FEBF59F1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2320" y="401040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636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576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920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232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576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8920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168120"/>
            <a:ext cx="65912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636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82320" y="401040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7636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576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9200" y="159984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8232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576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89200" y="4010400"/>
            <a:ext cx="23839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168120"/>
            <a:ext cx="65912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6360" y="401040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232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61296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2320" y="4010400"/>
            <a:ext cx="7404120" cy="22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Line 10"/>
          <p:cNvGrpSpPr/>
          <p:nvPr/>
        </p:nvGrpSpPr>
        <p:grpSpPr>
          <a:xfrm>
            <a:off x="1219320" y="1206360"/>
            <a:ext cx="7431120" cy="12960"/>
            <a:chOff x="1219320" y="1206360"/>
            <a:chExt cx="7431120" cy="12960"/>
          </a:xfrm>
        </p:grpSpPr>
        <p:pic>
          <p:nvPicPr>
            <p:cNvPr id="3" name="Line 10" descr=""/>
            <p:cNvPicPr/>
            <p:nvPr/>
          </p:nvPicPr>
          <p:blipFill>
            <a:blip r:embed="rId2"/>
            <a:stretch/>
          </p:blipFill>
          <p:spPr>
            <a:xfrm>
              <a:off x="1219320" y="1206360"/>
              <a:ext cx="74311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219320" y="1212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icture 12" descr="Logo a colori"/>
          <p:cNvPicPr/>
          <p:nvPr/>
        </p:nvPicPr>
        <p:blipFill>
          <a:blip r:embed="rId3"/>
          <a:stretch/>
        </p:blipFill>
        <p:spPr>
          <a:xfrm>
            <a:off x="8143920" y="277920"/>
            <a:ext cx="841320" cy="2444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3"/>
          <p:cNvSpPr/>
          <p:nvPr/>
        </p:nvSpPr>
        <p:spPr>
          <a:xfrm>
            <a:off x="1330200" y="6502320"/>
            <a:ext cx="475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Antonino Virgillito, May 25t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4"/>
          <a:stretch/>
        </p:blipFill>
        <p:spPr>
          <a:xfrm>
            <a:off x="0" y="0"/>
            <a:ext cx="955800" cy="6858000"/>
          </a:xfrm>
          <a:prstGeom prst="rect">
            <a:avLst/>
          </a:prstGeom>
          <a:ln w="0">
            <a:noFill/>
          </a:ln>
        </p:spPr>
      </p:pic>
      <p:sp>
        <p:nvSpPr>
          <p:cNvPr id="8" name="CasellaDiTesto 1"/>
          <p:cNvSpPr/>
          <p:nvPr/>
        </p:nvSpPr>
        <p:spPr>
          <a:xfrm>
            <a:off x="7868160" y="636912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3BBF-992E-4D85-8549-43DCA0FA0D4C}" type="slidenum">
              <a:rPr b="1" lang="it-IT" sz="1400" spc="-1" strike="noStrike">
                <a:solidFill>
                  <a:srgbClr val="99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3760" y="190440"/>
            <a:ext cx="7696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0" y="838080"/>
            <a:ext cx="161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14480" y="523080"/>
            <a:ext cx="143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Prime Esperienze di Utilizzo di R all</a:t>
            </a:r>
            <a:r>
              <a:rPr b="1" lang="ja-JP" sz="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Interno dell</a:t>
            </a:r>
            <a:r>
              <a:rPr b="1" lang="ja-JP" sz="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it-IT" sz="800" spc="-1" strike="noStrike">
                <a:solidFill>
                  <a:srgbClr val="ffffff"/>
                </a:solidFill>
                <a:latin typeface="Arial"/>
              </a:rPr>
              <a:t>Ist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Line 10"/>
          <p:cNvGrpSpPr/>
          <p:nvPr/>
        </p:nvGrpSpPr>
        <p:grpSpPr>
          <a:xfrm>
            <a:off x="1219320" y="1206360"/>
            <a:ext cx="7656480" cy="12960"/>
            <a:chOff x="1219320" y="1206360"/>
            <a:chExt cx="7656480" cy="12960"/>
          </a:xfrm>
        </p:grpSpPr>
        <p:pic>
          <p:nvPicPr>
            <p:cNvPr id="50" name="Line 10" descr=""/>
            <p:cNvPicPr/>
            <p:nvPr/>
          </p:nvPicPr>
          <p:blipFill>
            <a:blip r:embed="rId2"/>
            <a:stretch/>
          </p:blipFill>
          <p:spPr>
            <a:xfrm>
              <a:off x="1219320" y="1206360"/>
              <a:ext cx="765648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219320" y="1212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2" descr="Logo a colori"/>
          <p:cNvPicPr/>
          <p:nvPr/>
        </p:nvPicPr>
        <p:blipFill>
          <a:blip r:embed="rId3"/>
          <a:stretch/>
        </p:blipFill>
        <p:spPr>
          <a:xfrm>
            <a:off x="114480" y="247680"/>
            <a:ext cx="841320" cy="24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4"/>
          <a:stretch/>
        </p:blipFill>
        <p:spPr>
          <a:xfrm>
            <a:off x="0" y="812880"/>
            <a:ext cx="955800" cy="60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1440" y="17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 Web-Based Information System of Italian Population Censu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Maura Giacummo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Leonardo Tininini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Marina Venturi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ino Virgillito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9" name="Immagine 1" descr=""/>
          <p:cNvPicPr/>
          <p:nvPr/>
        </p:nvPicPr>
        <p:blipFill>
          <a:blip r:embed="rId1"/>
          <a:stretch/>
        </p:blipFill>
        <p:spPr>
          <a:xfrm>
            <a:off x="6959520" y="5423040"/>
            <a:ext cx="18288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arrotondato 3"/>
          <p:cNvSpPr/>
          <p:nvPr/>
        </p:nvSpPr>
        <p:spPr>
          <a:xfrm>
            <a:off x="1117440" y="266760"/>
            <a:ext cx="1562400" cy="77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168120"/>
            <a:ext cx="7175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POP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oftware design qualities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ormance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technical solutions were adopted for controlling the database load even in presence of high number of concur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e tes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pl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access controls for avoiding data corruption and intr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data control for guaranteeing consis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arrotondato 3"/>
          <p:cNvSpPr/>
          <p:nvPr/>
        </p:nvSpPr>
        <p:spPr>
          <a:xfrm>
            <a:off x="1117440" y="266760"/>
            <a:ext cx="1562400" cy="77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QPOP    Metadata-based Desig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xt for the questions, response modalities and application messages is stored in specific metadata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ance of redundant source code for the three questionn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adaptation to changes in the spec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the questions flow (“questionnaire graph”) is stored as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s the consistency of saved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he metadata is cached in memory for ensuring fast access and saving database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tangolo arrotondato 3"/>
          <p:cNvSpPr/>
          <p:nvPr/>
        </p:nvSpPr>
        <p:spPr>
          <a:xfrm>
            <a:off x="1117440" y="266760"/>
            <a:ext cx="1562400" cy="77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QPOP</a:t>
            </a: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 Text Search Engin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82320" y="1600200"/>
            <a:ext cx="740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OP includes a sophisticated mechanism for automatic encoding of textu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thin the question on highest educational qua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with 6,000 distinc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enters a list of words describing her full title of educational qua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replies by proposing a list of titles taken from the available dictionary ranked according to their similarity to the search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must select one of the propose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processing of the dictionary for optimizing respons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3" name="Object 36"/>
          <p:cNvGraphicFramePr/>
          <p:nvPr/>
        </p:nvGraphicFramePr>
        <p:xfrm>
          <a:off x="2444760" y="2914560"/>
          <a:ext cx="5421240" cy="33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760" y="2914560"/>
                    <a:ext cx="5421240" cy="3384720"/>
                  </a:xfrm>
                  <a:prstGeom prst="rect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5" name="Object 39"/>
          <p:cNvGraphicFramePr/>
          <p:nvPr/>
        </p:nvGraphicFramePr>
        <p:xfrm>
          <a:off x="2124000" y="3200400"/>
          <a:ext cx="621684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6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3200400"/>
                    <a:ext cx="6216840" cy="2743200"/>
                  </a:xfrm>
                  <a:prstGeom prst="rect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7" name="Object 33"/>
          <p:cNvGraphicFramePr/>
          <p:nvPr/>
        </p:nvGraphicFramePr>
        <p:xfrm>
          <a:off x="1717560" y="3073320"/>
          <a:ext cx="6450120" cy="3098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8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7560" y="3073320"/>
                    <a:ext cx="6450120" cy="3098880"/>
                  </a:xfrm>
                  <a:prstGeom prst="rect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,250,000 questionnaires were filled on the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3% of to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aks of 300 questionnaire saved per min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e service outage on the first d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to inaccurate server tuning by the hosting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vered the day aft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sus-Register comparison completed for the 96% of the population (as of March 3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4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Advantages of the Integrated Web Platform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management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monitoring of multi-channel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and effective census-register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mplemented systems will be reused for the forthcoming Industry and Services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ank you 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3" name="Immagine 3" descr=""/>
          <p:cNvPicPr/>
          <p:nvPr/>
        </p:nvPicPr>
        <p:blipFill>
          <a:blip r:embed="rId1"/>
          <a:stretch/>
        </p:blipFill>
        <p:spPr>
          <a:xfrm>
            <a:off x="3987720" y="3111480"/>
            <a:ext cx="182880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talian Population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4,700,000 households with 60,000,000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important innovation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a web-based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15</a:t>
            </a:r>
            <a:r>
              <a:rPr b="1" lang="it-IT" sz="32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 Italian Population Census: Main Innovatio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nd analysis of local population regi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basis of the cens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and re-alignment of the data on citizens, collected by the Census, with those stored in registers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ment of local municipality departments in the entire census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multi-channel data collection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paper-based data collection and online electronic questionn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The Census Web-Based Information System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eb architecture for the management and the onlin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and developed in I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pen-source software and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hosting service was outsou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The Census Web-based Information System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Disco magnetico 1"/>
          <p:cNvSpPr/>
          <p:nvPr/>
        </p:nvSpPr>
        <p:spPr>
          <a:xfrm>
            <a:off x="7250040" y="2244600"/>
            <a:ext cx="1128960" cy="1266840"/>
          </a:xfrm>
          <a:prstGeom prst="flowChartMagneticDisk">
            <a:avLst/>
          </a:prstGeom>
          <a:solidFill>
            <a:srgbClr val="bbe0e3"/>
          </a:solidFill>
          <a:ln w="19080">
            <a:solidFill>
              <a:srgbClr val="3c8c9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arrotondato 2"/>
          <p:cNvSpPr/>
          <p:nvPr/>
        </p:nvSpPr>
        <p:spPr>
          <a:xfrm>
            <a:off x="3390840" y="1719360"/>
            <a:ext cx="2152800" cy="9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SGR</a:t>
            </a:r>
            <a:br>
              <a:rPr sz="1800"/>
            </a:br>
            <a:r>
              <a:rPr b="0" lang="it-IT" sz="1400" spc="-1" strike="noStrike">
                <a:solidFill>
                  <a:srgbClr val="595959"/>
                </a:solidFill>
                <a:latin typeface="Arial"/>
              </a:rPr>
              <a:t>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arrotondato 5"/>
          <p:cNvSpPr/>
          <p:nvPr/>
        </p:nvSpPr>
        <p:spPr>
          <a:xfrm>
            <a:off x="3390840" y="3255840"/>
            <a:ext cx="2152800" cy="10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QPOP</a:t>
            </a:r>
            <a:br>
              <a:rPr sz="1800"/>
            </a:br>
            <a:r>
              <a:rPr b="0" lang="it-IT" sz="1600" spc="-1" strike="noStrike">
                <a:solidFill>
                  <a:srgbClr val="595959"/>
                </a:solidFill>
                <a:latin typeface="Arial"/>
              </a:rPr>
              <a:t>Online questionn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arrotondato 6"/>
          <p:cNvSpPr/>
          <p:nvPr/>
        </p:nvSpPr>
        <p:spPr>
          <a:xfrm>
            <a:off x="3390840" y="4896000"/>
            <a:ext cx="2152800" cy="105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d3d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RETE</a:t>
            </a:r>
            <a:br>
              <a:rPr sz="1800"/>
            </a:br>
            <a:r>
              <a:rPr b="0" lang="it-IT" sz="1600" spc="-1" strike="noStrike">
                <a:solidFill>
                  <a:srgbClr val="595959"/>
                </a:solidFill>
                <a:latin typeface="Arial"/>
              </a:rPr>
              <a:t>Documentation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ccia bidirezionale orizzontale 3"/>
          <p:cNvSpPr/>
          <p:nvPr/>
        </p:nvSpPr>
        <p:spPr>
          <a:xfrm rot="1723200">
            <a:off x="5703840" y="2114280"/>
            <a:ext cx="1384200" cy="620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d9d9d9"/>
          </a:solidFill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ccia bidirezionale orizzontale 9"/>
          <p:cNvSpPr/>
          <p:nvPr/>
        </p:nvSpPr>
        <p:spPr>
          <a:xfrm flipH="1" rot="19876800">
            <a:off x="5703840" y="3200040"/>
            <a:ext cx="1384200" cy="620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d9d9d9"/>
          </a:solidFill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10"/>
          <p:cNvSpPr/>
          <p:nvPr/>
        </p:nvSpPr>
        <p:spPr>
          <a:xfrm>
            <a:off x="6916680" y="359712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Arial"/>
              </a:rPr>
              <a:t>Commo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umetto 2 4"/>
          <p:cNvSpPr/>
          <p:nvPr/>
        </p:nvSpPr>
        <p:spPr>
          <a:xfrm>
            <a:off x="317520" y="1663560"/>
            <a:ext cx="2527200" cy="4813560"/>
          </a:xfrm>
          <a:prstGeom prst="wedgeRoundRectCallout">
            <a:avLst>
              <a:gd name="adj1" fmla="val 68856"/>
              <a:gd name="adj2" fmla="val -35699"/>
              <a:gd name="adj3" fmla="val 16667"/>
            </a:avLst>
          </a:prstGeom>
          <a:gradFill rotWithShape="0">
            <a:gsLst>
              <a:gs pos="0">
                <a:srgbClr val="e7e7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ible from both the Census office operators and Istat pers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operators to manage and follow all the phases of data col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f workload among Istat and municip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 functions implemented, organized in 8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ttangolo arrotondato 3"/>
          <p:cNvSpPr/>
          <p:nvPr/>
        </p:nvSpPr>
        <p:spPr>
          <a:xfrm>
            <a:off x="1079640" y="208080"/>
            <a:ext cx="1307880" cy="85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168120"/>
            <a:ext cx="7061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GR  Monitoring of Questionnair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R allowed operators to follow the evolution of every single questionnaire, in every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us tract agenda” control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were initially sent to families using population register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-coverage was handled through enumerator field 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 could be collected in different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return to municip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h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by enum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ttangolo arrotondato 3"/>
          <p:cNvSpPr/>
          <p:nvPr/>
        </p:nvSpPr>
        <p:spPr>
          <a:xfrm>
            <a:off x="965160" y="208080"/>
            <a:ext cx="1308240" cy="85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6812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GR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Census-Register Comparison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82320" y="1599840"/>
            <a:ext cx="7404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ould monitor the differences between the population registers and the census result, producing at the end a balance sheet on families and individuals at municip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inconsistencies were revealed in SGR dashboard and could be processed by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The Census Web-based Information System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Disco magnetico 1"/>
          <p:cNvSpPr/>
          <p:nvPr/>
        </p:nvSpPr>
        <p:spPr>
          <a:xfrm>
            <a:off x="7250040" y="2244600"/>
            <a:ext cx="1128960" cy="1266840"/>
          </a:xfrm>
          <a:prstGeom prst="flowChartMagneticDisk">
            <a:avLst/>
          </a:prstGeom>
          <a:solidFill>
            <a:srgbClr val="bbe0e3"/>
          </a:solidFill>
          <a:ln w="19080">
            <a:solidFill>
              <a:srgbClr val="3c8c9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arrotondato 2"/>
          <p:cNvSpPr/>
          <p:nvPr/>
        </p:nvSpPr>
        <p:spPr>
          <a:xfrm>
            <a:off x="3390840" y="1719360"/>
            <a:ext cx="2152800" cy="9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SGR</a:t>
            </a:r>
            <a:br>
              <a:rPr sz="1800"/>
            </a:br>
            <a:r>
              <a:rPr b="0" lang="it-IT" sz="1400" spc="-1" strike="noStrike">
                <a:solidFill>
                  <a:srgbClr val="595959"/>
                </a:solidFill>
                <a:latin typeface="Arial"/>
              </a:rPr>
              <a:t>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tangolo arrotondato 5"/>
          <p:cNvSpPr/>
          <p:nvPr/>
        </p:nvSpPr>
        <p:spPr>
          <a:xfrm>
            <a:off x="3390840" y="3255840"/>
            <a:ext cx="2152800" cy="1057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QPOP</a:t>
            </a:r>
            <a:br>
              <a:rPr sz="1800"/>
            </a:br>
            <a:r>
              <a:rPr b="0" lang="it-IT" sz="1600" spc="-1" strike="noStrike">
                <a:solidFill>
                  <a:srgbClr val="595959"/>
                </a:solidFill>
                <a:latin typeface="Arial"/>
              </a:rPr>
              <a:t>Online questionn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tangolo arrotondato 6"/>
          <p:cNvSpPr/>
          <p:nvPr/>
        </p:nvSpPr>
        <p:spPr>
          <a:xfrm>
            <a:off x="3390840" y="4896000"/>
            <a:ext cx="2152800" cy="105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d3d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59"/>
                </a:solidFill>
                <a:latin typeface="Arial"/>
              </a:rPr>
              <a:t>RETE</a:t>
            </a:r>
            <a:br>
              <a:rPr sz="1800"/>
            </a:br>
            <a:r>
              <a:rPr b="0" lang="it-IT" sz="1600" spc="-1" strike="noStrike">
                <a:solidFill>
                  <a:srgbClr val="595959"/>
                </a:solidFill>
                <a:latin typeface="Arial"/>
              </a:rPr>
              <a:t>Documentation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ccia bidirezionale orizzontale 3"/>
          <p:cNvSpPr/>
          <p:nvPr/>
        </p:nvSpPr>
        <p:spPr>
          <a:xfrm rot="1723200">
            <a:off x="5703840" y="2114280"/>
            <a:ext cx="1384200" cy="620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d9d9d9"/>
          </a:solidFill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ccia bidirezionale orizzontale 9"/>
          <p:cNvSpPr/>
          <p:nvPr/>
        </p:nvSpPr>
        <p:spPr>
          <a:xfrm flipH="1" rot="19876800">
            <a:off x="5703840" y="3200040"/>
            <a:ext cx="1384200" cy="62064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d9d9d9"/>
          </a:solidFill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10"/>
          <p:cNvSpPr/>
          <p:nvPr/>
        </p:nvSpPr>
        <p:spPr>
          <a:xfrm>
            <a:off x="6916680" y="359712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959"/>
                </a:solidFill>
                <a:latin typeface="Arial"/>
              </a:rPr>
              <a:t>Commo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umetto 2 11"/>
          <p:cNvSpPr/>
          <p:nvPr/>
        </p:nvSpPr>
        <p:spPr>
          <a:xfrm>
            <a:off x="393840" y="1460520"/>
            <a:ext cx="2577960" cy="5054760"/>
          </a:xfrm>
          <a:prstGeom prst="wedgeRoundRectCallout">
            <a:avLst>
              <a:gd name="adj1" fmla="val 64236"/>
              <a:gd name="adj2" fmla="val -7282"/>
              <a:gd name="adj3" fmla="val 16667"/>
            </a:avLst>
          </a:prstGeom>
          <a:gradFill rotWithShape="0">
            <a:gsLst>
              <a:gs pos="0">
                <a:srgbClr val="e7e7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application that citizens could use to fill up their questionn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ed in compilation through rule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questionnaires immediately available in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be used by Census office operators for performing data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tangolo arrotondato 3"/>
          <p:cNvSpPr/>
          <p:nvPr/>
        </p:nvSpPr>
        <p:spPr>
          <a:xfrm>
            <a:off x="1117440" y="266760"/>
            <a:ext cx="1562400" cy="77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68120"/>
            <a:ext cx="65912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QPOP</a:t>
            </a: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808080"/>
                </a:solidFill>
                <a:latin typeface="Arial"/>
              </a:rPr>
              <a:t> Main Featur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82320" y="1600200"/>
            <a:ext cx="74041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three types of paper questionnaires were reproduced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for households in long and short ver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 for cohabitations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credent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ID is tax code of reference person for the house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word printed on the paper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d input with real-time error ch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pre-checked data were inserted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quality of collec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language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of-the-art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32:42Z</dcterms:created>
  <dc:creator>tabanell</dc:creator>
  <dc:description/>
  <dc:language>en-US</dc:language>
  <cp:lastModifiedBy>Mijidgombo Oyunjargal</cp:lastModifiedBy>
  <dcterms:modified xsi:type="dcterms:W3CDTF">2012-06-14T14:25:31Z</dcterms:modified>
  <cp:revision>338</cp:revision>
  <dc:subject/>
  <dc:title>Diapositiva 1</dc:title>
</cp:coreProperties>
</file>