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917280" y="74268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258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31F9-1FBC-4438-8AC2-E9BF1B72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CD41-0BCE-4020-B731-16A20056F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C06A-2C49-484E-BB3C-22CE0B6A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8334-89D4-41FB-8C53-A77FA9D4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6DC6-24D6-490A-9A6A-5A86CD6CE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9267-AD31-4EBB-B2A7-1F33B1A8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208B-A487-4E47-AFD0-1AA2AABCE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E856-9ADF-4C04-9AEB-C6E38E5B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124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731A-0752-4081-B14E-99381B3909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ensus2011_RGB"/>
          <p:cNvPicPr/>
          <p:nvPr/>
        </p:nvPicPr>
        <p:blipFill>
          <a:blip r:embed="rId2"/>
          <a:stretch/>
        </p:blipFill>
        <p:spPr>
          <a:xfrm>
            <a:off x="2730600" y="1143000"/>
            <a:ext cx="4051080" cy="441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e25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Picture 8" descr="Census2011_RGB_Reversed"/>
          <p:cNvPicPr/>
          <p:nvPr/>
        </p:nvPicPr>
        <p:blipFill>
          <a:blip r:embed="rId2"/>
          <a:stretch/>
        </p:blipFill>
        <p:spPr>
          <a:xfrm>
            <a:off x="7792920" y="228600"/>
            <a:ext cx="1046160" cy="1143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9" descr="Census2011_Strap_RGB_PPT_ONS_Reversed"/>
          <p:cNvPicPr/>
          <p:nvPr/>
        </p:nvPicPr>
        <p:blipFill>
          <a:blip r:embed="rId3"/>
          <a:stretch/>
        </p:blipFill>
        <p:spPr>
          <a:xfrm>
            <a:off x="422280" y="6124680"/>
            <a:ext cx="8253360" cy="504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9270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e25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ensus2011_RGB_Reversed"/>
          <p:cNvPicPr/>
          <p:nvPr/>
        </p:nvPicPr>
        <p:blipFill>
          <a:blip r:embed="rId2"/>
          <a:stretch/>
        </p:blipFill>
        <p:spPr>
          <a:xfrm>
            <a:off x="7792920" y="228600"/>
            <a:ext cx="104616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ensus2011_Strap_RGB_PPT_ONS_Reversed"/>
          <p:cNvPicPr/>
          <p:nvPr/>
        </p:nvPicPr>
        <p:blipFill>
          <a:blip r:embed="rId3"/>
          <a:stretch/>
        </p:blipFill>
        <p:spPr>
          <a:xfrm>
            <a:off x="468360" y="6124680"/>
            <a:ext cx="7991280" cy="50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7172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258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Census2011_RGB"/>
          <p:cNvPicPr/>
          <p:nvPr/>
        </p:nvPicPr>
        <p:blipFill>
          <a:blip r:embed="rId2"/>
          <a:stretch/>
        </p:blipFill>
        <p:spPr>
          <a:xfrm>
            <a:off x="7791480" y="22860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ensus2011_Strap_RGB_PPT_ONS"/>
          <p:cNvPicPr/>
          <p:nvPr/>
        </p:nvPicPr>
        <p:blipFill>
          <a:blip r:embed="rId3"/>
          <a:stretch/>
        </p:blipFill>
        <p:spPr>
          <a:xfrm>
            <a:off x="401760" y="6095880"/>
            <a:ext cx="827388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258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e258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ensus2011_RGB"/>
          <p:cNvPicPr/>
          <p:nvPr/>
        </p:nvPicPr>
        <p:blipFill>
          <a:blip r:embed="rId2"/>
          <a:stretch/>
        </p:blipFill>
        <p:spPr>
          <a:xfrm>
            <a:off x="7791480" y="22860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ensus2011_Strap_RGB_PPT_ONS"/>
          <p:cNvPicPr/>
          <p:nvPr/>
        </p:nvPicPr>
        <p:blipFill>
          <a:blip r:embed="rId3"/>
          <a:stretch/>
        </p:blipFill>
        <p:spPr>
          <a:xfrm>
            <a:off x="401760" y="6095880"/>
            <a:ext cx="827388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e25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Census2011_RGB_Reversed"/>
          <p:cNvPicPr/>
          <p:nvPr/>
        </p:nvPicPr>
        <p:blipFill>
          <a:blip r:embed="rId1"/>
          <a:stretch/>
        </p:blipFill>
        <p:spPr>
          <a:xfrm>
            <a:off x="7792920" y="228600"/>
            <a:ext cx="1046160" cy="1143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468360" y="549360"/>
            <a:ext cx="746748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net Data Cap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 Census in England a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ter Stokes: Census Statistical Design Manager - 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ensus2011_Strap_RGB_PPT_ONS_Reversed"/>
          <p:cNvPicPr/>
          <p:nvPr/>
        </p:nvPicPr>
        <p:blipFill>
          <a:blip r:embed="rId2"/>
          <a:stretch/>
        </p:blipFill>
        <p:spPr>
          <a:xfrm>
            <a:off x="0" y="6078600"/>
            <a:ext cx="80280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ensus2011_RGB"/>
          <p:cNvPicPr/>
          <p:nvPr/>
        </p:nvPicPr>
        <p:blipFill>
          <a:blip r:embed="rId1"/>
          <a:stretch/>
        </p:blipFill>
        <p:spPr>
          <a:xfrm>
            <a:off x="7791480" y="228600"/>
            <a:ext cx="10476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533520" y="404640"/>
            <a:ext cx="6705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2585"/>
                </a:solidFill>
                <a:latin typeface="Arial Bold"/>
                <a:ea typeface="ＭＳ Ｐゴシック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4360" y="1197000"/>
            <a:ext cx="77724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Focus on our results and respo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Not Development or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Factors influencing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ensus2011_RGB"/>
          <p:cNvPicPr/>
          <p:nvPr/>
        </p:nvPicPr>
        <p:blipFill>
          <a:blip r:embed="rId1"/>
          <a:stretch/>
        </p:blipFill>
        <p:spPr>
          <a:xfrm>
            <a:off x="7791480" y="228600"/>
            <a:ext cx="1047600" cy="1143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533520" y="404640"/>
            <a:ext cx="6705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2585"/>
                </a:solidFill>
                <a:latin typeface="Arial Bold"/>
                <a:ea typeface="ＭＳ Ｐゴシック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84360" y="1197000"/>
            <a:ext cx="77724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Fewer responden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Automatic routing through questionnaire ensured respondents only answered relevant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Improved data capture and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Significant improvement from 2001 Census for all tex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Very low item non-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Reduced requirement for item-i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96600" cy="496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ensus2011_RGB"/>
          <p:cNvPicPr/>
          <p:nvPr/>
        </p:nvPicPr>
        <p:blipFill>
          <a:blip r:embed="rId2"/>
          <a:stretch/>
        </p:blipFill>
        <p:spPr>
          <a:xfrm>
            <a:off x="7791480" y="228600"/>
            <a:ext cx="1047600" cy="1143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533520" y="404640"/>
            <a:ext cx="6705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2585"/>
                </a:solidFill>
                <a:latin typeface="Arial Bold"/>
                <a:ea typeface="ＭＳ Ｐゴシック"/>
              </a:rPr>
              <a:t>Benefits – item non-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ensus2011_RGB"/>
          <p:cNvPicPr/>
          <p:nvPr/>
        </p:nvPicPr>
        <p:blipFill>
          <a:blip r:embed="rId1"/>
          <a:stretch/>
        </p:blipFill>
        <p:spPr>
          <a:xfrm>
            <a:off x="7791480" y="228600"/>
            <a:ext cx="104760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533520" y="404640"/>
            <a:ext cx="6705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2585"/>
                </a:solidFill>
                <a:latin typeface="Arial Bold"/>
                <a:ea typeface="ＭＳ Ｐゴシック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684360" y="1197000"/>
            <a:ext cx="77724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Fals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Caused by “forced submission” of interne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Multipl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Known problem, but more scale of problem correlated to level of internet response in a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User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Overall feedback very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Difficult to explain restricted length of tex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ensus2011_RGB"/>
          <p:cNvPicPr/>
          <p:nvPr/>
        </p:nvPicPr>
        <p:blipFill>
          <a:blip r:embed="rId1"/>
          <a:stretch/>
        </p:blipFill>
        <p:spPr>
          <a:xfrm>
            <a:off x="7791480" y="228600"/>
            <a:ext cx="1047600" cy="1143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"/>
          <p:cNvSpPr/>
          <p:nvPr/>
        </p:nvSpPr>
        <p:spPr>
          <a:xfrm>
            <a:off x="533520" y="404640"/>
            <a:ext cx="6705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2585"/>
                </a:solidFill>
                <a:latin typeface="Arial Bold"/>
                <a:ea typeface="ＭＳ Ｐゴシック"/>
              </a:rPr>
              <a:t>Who used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84360" y="1197000"/>
            <a:ext cx="77724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Around 15 per cent of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Lower than target of 25 per 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old"/>
              </a:rPr>
              <a:t>A number of factors affec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old"/>
              </a:rPr>
              <a:t>Respondents aged 26-35 most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Qual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old"/>
              </a:rPr>
              <a:t>University edu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Househol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old"/>
              </a:rPr>
              <a:t>Larger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old"/>
              </a:rPr>
              <a:t>London and South-East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3178440" cy="381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ensus2011_RGB"/>
          <p:cNvPicPr/>
          <p:nvPr/>
        </p:nvPicPr>
        <p:blipFill>
          <a:blip r:embed="rId2"/>
          <a:stretch/>
        </p:blipFill>
        <p:spPr>
          <a:xfrm>
            <a:off x="7791480" y="228600"/>
            <a:ext cx="1047600" cy="1143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533520" y="404640"/>
            <a:ext cx="6705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2585"/>
                </a:solidFill>
                <a:latin typeface="Arial Bold"/>
                <a:ea typeface="ＭＳ Ｐゴシック"/>
              </a:rPr>
              <a:t>Is geography a fac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3380040" cy="4032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"/>
          <p:cNvSpPr/>
          <p:nvPr/>
        </p:nvSpPr>
        <p:spPr>
          <a:xfrm>
            <a:off x="611280" y="530064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old"/>
              </a:rPr>
              <a:t>Biggest factor is probably broadband availabi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e25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Census2011_RGB_Reversed"/>
          <p:cNvPicPr/>
          <p:nvPr/>
        </p:nvPicPr>
        <p:blipFill>
          <a:blip r:embed="rId1"/>
          <a:stretch/>
        </p:blipFill>
        <p:spPr>
          <a:xfrm>
            <a:off x="7792920" y="228600"/>
            <a:ext cx="1046160" cy="1143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468360" y="549360"/>
            <a:ext cx="746748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net Data Cap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 Census in England and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ter Stokes: Census Statistical Design Manager – 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ter.Stokes@ons.gsi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Census2011_Strap_RGB_PPT_ONS_Reversed"/>
          <p:cNvPicPr/>
          <p:nvPr/>
        </p:nvPicPr>
        <p:blipFill>
          <a:blip r:embed="rId2"/>
          <a:stretch/>
        </p:blipFill>
        <p:spPr>
          <a:xfrm>
            <a:off x="0" y="6078600"/>
            <a:ext cx="80280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50:24Z</dcterms:created>
  <dc:creator>Rebecca Tyndall</dc:creator>
  <dc:description/>
  <dc:language>en-US</dc:language>
  <cp:lastModifiedBy>csd</cp:lastModifiedBy>
  <dcterms:modified xsi:type="dcterms:W3CDTF">2012-05-25T12:32:52Z</dcterms:modified>
  <cp:revision>163</cp:revision>
  <dc:subject/>
  <dc:title>Slide 1</dc:title>
</cp:coreProperties>
</file>