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677400" cy="725805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0A4-E02A-4C93-B7E5-0CF5ED17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7320" y="608040"/>
            <a:ext cx="822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120" y="2097000"/>
            <a:ext cx="74106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120" y="4371480"/>
            <a:ext cx="74106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6A6-DFBF-49F8-81DD-54209B09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7320" y="608040"/>
            <a:ext cx="822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120" y="2097000"/>
            <a:ext cx="36162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9400" y="2097000"/>
            <a:ext cx="36162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120" y="4371480"/>
            <a:ext cx="36162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9400" y="4371480"/>
            <a:ext cx="36162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821-29EB-45A3-827B-09D18946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7320" y="608040"/>
            <a:ext cx="822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120" y="2097000"/>
            <a:ext cx="238608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7720" y="2097000"/>
            <a:ext cx="238608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3680" y="2097000"/>
            <a:ext cx="238608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120" y="4371480"/>
            <a:ext cx="238608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7720" y="4371480"/>
            <a:ext cx="238608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3680" y="4371480"/>
            <a:ext cx="238608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A9D-6B6F-4F2D-9DF8-0C78376F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7320" y="608040"/>
            <a:ext cx="822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120" y="2097000"/>
            <a:ext cx="74106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284-C5F9-4ED3-8AB8-25B2091B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7320" y="608040"/>
            <a:ext cx="822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120" y="2097000"/>
            <a:ext cx="74106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48D-182B-4396-A374-9E2235EE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7320" y="608040"/>
            <a:ext cx="822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120" y="2097000"/>
            <a:ext cx="36162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9400" y="2097000"/>
            <a:ext cx="36162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146-19D5-485C-9CDC-BA888A48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7320" y="608040"/>
            <a:ext cx="822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8FA-FF31-4219-98A5-6D24E5E4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7320" y="608040"/>
            <a:ext cx="8226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461-37BD-455C-BDAA-0A41CCCD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7320" y="608040"/>
            <a:ext cx="822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120" y="2097000"/>
            <a:ext cx="36162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9400" y="2097000"/>
            <a:ext cx="36162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120" y="4371480"/>
            <a:ext cx="36162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87C-844B-4E36-ACCE-99F0ABDA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7320" y="608040"/>
            <a:ext cx="822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120" y="2097000"/>
            <a:ext cx="36162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9400" y="2097000"/>
            <a:ext cx="36162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9400" y="4371480"/>
            <a:ext cx="36162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998-D849-479A-83E5-41C85F1A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7320" y="608040"/>
            <a:ext cx="822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120" y="2097000"/>
            <a:ext cx="36162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9400" y="2097000"/>
            <a:ext cx="36162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120" y="4371480"/>
            <a:ext cx="7410600" cy="2076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014-C961-42A7-9E53-E435D883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7320" y="608040"/>
            <a:ext cx="822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3000" spc="-1" strike="noStrike">
                <a:solidFill>
                  <a:srgbClr val="48aee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120" y="2097000"/>
            <a:ext cx="74106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Webdings" charset="2"/>
              <a:buChar char="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48aee7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lvl="1" marL="1333440" indent="-571320">
              <a:spcBef>
                <a:spcPts val="2500"/>
              </a:spcBef>
              <a:buClr>
                <a:srgbClr val="7dbb2d"/>
              </a:buClr>
              <a:buSzPct val="150000"/>
              <a:buFont typeface="Webdings" charset="2"/>
              <a:buChar char="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48aee7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lvl="2" marL="2095560" indent="-571680">
              <a:spcBef>
                <a:spcPts val="2500"/>
              </a:spcBef>
              <a:buClr>
                <a:srgbClr val="7dbb2d"/>
              </a:buClr>
              <a:buSzPct val="150000"/>
              <a:buFont typeface="Webdings" charset="2"/>
              <a:buChar char="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48aee7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lvl="3" marL="2857680" indent="-571680">
              <a:spcBef>
                <a:spcPts val="2500"/>
              </a:spcBef>
              <a:buClr>
                <a:srgbClr val="7dbb2d"/>
              </a:buClr>
              <a:buSzPct val="150000"/>
              <a:buFont typeface="Webdings" charset="2"/>
              <a:buChar char="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48aee7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lvl="4" marL="3619440" indent="-571320">
              <a:spcBef>
                <a:spcPts val="2500"/>
              </a:spcBef>
              <a:buClr>
                <a:srgbClr val="7dbb2d"/>
              </a:buClr>
              <a:buSzPct val="150000"/>
              <a:buFont typeface="Webdings" charset="2"/>
              <a:buChar char="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48aee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lvl="5" marL="3619440" indent="-571320">
              <a:spcBef>
                <a:spcPts val="2500"/>
              </a:spcBef>
              <a:buClr>
                <a:srgbClr val="000000"/>
              </a:buClr>
              <a:buSzPct val="150000"/>
              <a:buFont typeface="Webdings" charset="2"/>
              <a:buChar char="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48aee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lvl="6" marL="3619440" indent="-571320">
              <a:spcBef>
                <a:spcPts val="2500"/>
              </a:spcBef>
              <a:buClr>
                <a:srgbClr val="000000"/>
              </a:buClr>
              <a:buSzPct val="150000"/>
              <a:buFont typeface="Webdings" charset="2"/>
              <a:buChar char="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000" spc="-1" strike="noStrike">
                <a:solidFill>
                  <a:srgbClr val="48aee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629040"/>
            <a:ext cx="1103400" cy="482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629040"/>
            <a:ext cx="1417680" cy="482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629040"/>
            <a:ext cx="760320" cy="482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7dbb2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2D0C-D9A1-4773-972B-73027BF79BFE}" type="slidenum">
              <a:rPr b="0" lang="cs-CZ" sz="1000" spc="-1" strike="noStrike">
                <a:solidFill>
                  <a:srgbClr val="7dbb2d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48aee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itani.cz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285920"/>
            <a:ext cx="8915400" cy="255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b0f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cs-CZ" sz="3600" spc="-1" strike="noStrike">
                <a:solidFill>
                  <a:srgbClr val="00b0f0"/>
                </a:solidFill>
                <a:latin typeface="Arial"/>
              </a:rPr>
              <a:t>2011 </a:t>
            </a:r>
            <a:r>
              <a:rPr b="1" lang="en-GB" sz="3600" spc="-1" strike="noStrike">
                <a:solidFill>
                  <a:srgbClr val="00b0f0"/>
                </a:solidFill>
                <a:latin typeface="Arial"/>
              </a:rPr>
              <a:t>Housing and Population Census  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b0f0"/>
                </a:solidFill>
                <a:latin typeface="Arial"/>
              </a:rPr>
              <a:t>in the Czech Republic</a:t>
            </a:r>
            <a:endParaRPr b="1" lang="en-US" sz="36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14040" y="4060440"/>
            <a:ext cx="6102360" cy="151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d050"/>
                </a:solidFill>
                <a:latin typeface="Arial"/>
              </a:rPr>
              <a:t>UNECE – Euros</a:t>
            </a:r>
            <a:r>
              <a:rPr b="1" lang="cs-CZ" sz="2400" spc="-1" strike="noStrike">
                <a:solidFill>
                  <a:srgbClr val="92d050"/>
                </a:solidFill>
                <a:latin typeface="Arial"/>
              </a:rPr>
              <a:t>t</a:t>
            </a:r>
            <a:r>
              <a:rPr b="1" lang="en-GB" sz="2400" spc="-1" strike="noStrike">
                <a:solidFill>
                  <a:srgbClr val="92d050"/>
                </a:solidFill>
                <a:latin typeface="Arial"/>
              </a:rPr>
              <a:t>at Meeting on Population and Housing Censuses</a:t>
            </a:r>
            <a:endParaRPr b="1" lang="en-US" sz="2400" spc="-1" strike="noStrike">
              <a:solidFill>
                <a:srgbClr val="48aee7"/>
              </a:solidFill>
              <a:latin typeface="Arial"/>
            </a:endParaRPr>
          </a:p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2d050"/>
                </a:solidFill>
                <a:latin typeface="Arial"/>
              </a:rPr>
              <a:t>Geneva, May 2012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158760" y="5645160"/>
          <a:ext cx="31669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5645160"/>
                    <a:ext cx="3166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990360"/>
            <a:ext cx="7200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Electronic </a:t>
            </a:r>
            <a:r>
              <a:rPr b="1" lang="cs-CZ" sz="3000" spc="-1" strike="noStrike">
                <a:solidFill>
                  <a:srgbClr val="92d050"/>
                </a:solidFill>
                <a:latin typeface="Arial"/>
              </a:rPr>
              <a:t>census </a:t>
            </a: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forms – results</a:t>
            </a: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90040" y="1757160"/>
            <a:ext cx="7410600" cy="39589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 fontScale="96000"/>
          </a:bodyPr>
          <a:p>
            <a:pPr marL="548640" indent="-54864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Totally collected 4,33 mil e-forms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48640" indent="-54864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The share of e-forms in all filled forms attained 25,5%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48640" indent="-54864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The highest number of e-forms collected per day – 1. day = 506 000 forms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48640" indent="-54864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44 % of all e-forms were sent during the first week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48640" indent="-54864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40 % of all e-forms were filled between 6 and 10 p.m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48640" indent="-54864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Average time consumption for filling of one e-form was 10 minutes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48640" indent="0">
              <a:spcBef>
                <a:spcPts val="2500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48640" indent="0">
              <a:spcBef>
                <a:spcPts val="2500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517680" y="5861160"/>
          <a:ext cx="28080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861160"/>
                    <a:ext cx="2808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18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Electronics form</a:t>
            </a:r>
            <a:r>
              <a:rPr b="1" lang="cs-CZ" sz="3000" spc="-1" strike="noStrike">
                <a:solidFill>
                  <a:srgbClr val="92d050"/>
                </a:solidFill>
                <a:latin typeface="Arial"/>
              </a:rPr>
              <a:t>s</a:t>
            </a: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 – results</a:t>
            </a:r>
            <a:r>
              <a:rPr b="1" lang="cs-CZ" sz="3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II.</a:t>
            </a: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0040" y="1828440"/>
            <a:ext cx="7410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Typical person using e-forms:</a:t>
            </a:r>
            <a:endParaRPr b="1" lang="en-US" sz="1800" spc="-1" strike="noStrike">
              <a:solidFill>
                <a:srgbClr val="48aee7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2251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a man (50,2 %) or a woman (49,8 %)</a:t>
            </a:r>
            <a:endParaRPr b="1" lang="en-US" sz="1800" spc="-1" strike="noStrike">
              <a:solidFill>
                <a:srgbClr val="48aee7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2251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age 30 – 39 years (but oldest: one was aged 106 years,   </a:t>
            </a:r>
            <a:endParaRPr b="1" lang="en-US" sz="1800" spc="-1" strike="noStrike">
              <a:solidFill>
                <a:srgbClr val="48aee7"/>
              </a:solidFill>
              <a:latin typeface="Arial"/>
            </a:endParaRPr>
          </a:p>
          <a:p>
            <a:pPr marL="5601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               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youngest: 62 children were aged exactly one day on the </a:t>
            </a:r>
            <a:endParaRPr b="1" lang="en-US" sz="1800" spc="-1" strike="noStrike">
              <a:solidFill>
                <a:srgbClr val="48aee7"/>
              </a:solidFill>
              <a:latin typeface="Arial"/>
            </a:endParaRPr>
          </a:p>
          <a:p>
            <a:pPr marL="5601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               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census decisive moment)</a:t>
            </a:r>
            <a:endParaRPr b="1" lang="en-US" sz="1800" spc="-1" strike="noStrike">
              <a:solidFill>
                <a:srgbClr val="48aee7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2251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secondary or university degree</a:t>
            </a:r>
            <a:endParaRPr b="1" lang="en-US" sz="1800" spc="-1" strike="noStrike">
              <a:solidFill>
                <a:srgbClr val="48aee7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2251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employee or entrepreneur</a:t>
            </a:r>
            <a:endParaRPr b="1" lang="en-US" sz="1800" spc="-1" strike="noStrike">
              <a:solidFill>
                <a:srgbClr val="48aee7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2251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large town (100 thous. and more)</a:t>
            </a:r>
            <a:endParaRPr b="1" lang="en-US" sz="1800" spc="-1" strike="noStrike">
              <a:solidFill>
                <a:srgbClr val="48aee7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2251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living at household with PC and connection on Internet.</a:t>
            </a:r>
            <a:endParaRPr b="1" lang="en-US" sz="1800" spc="-1" strike="noStrike">
              <a:solidFill>
                <a:srgbClr val="48aee7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517680" y="6437160"/>
          <a:ext cx="230472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37160"/>
                    <a:ext cx="2304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265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7dbb2d"/>
                </a:solidFill>
                <a:latin typeface="Arial"/>
              </a:rPr>
              <a:t>Contacts, Information</a:t>
            </a:r>
            <a:r>
              <a:rPr b="1" lang="cs-CZ" sz="3000" spc="-1" strike="noStrike">
                <a:solidFill>
                  <a:srgbClr val="7dbb2d"/>
                </a:solidFill>
                <a:latin typeface="Arial"/>
              </a:rPr>
              <a:t>, </a:t>
            </a:r>
            <a:r>
              <a:rPr b="1" lang="en-GB" sz="3000" spc="-1" strike="noStrike">
                <a:solidFill>
                  <a:srgbClr val="7dbb2d"/>
                </a:solidFill>
                <a:latin typeface="Arial"/>
              </a:rPr>
              <a:t>Results</a:t>
            </a:r>
            <a:br>
              <a:rPr sz="3000"/>
            </a:b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325160"/>
            <a:ext cx="76690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marL="571680" indent="0" algn="ctr">
              <a:spcBef>
                <a:spcPts val="10001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cs-CZ" sz="8000" spc="-1" strike="noStrike">
                <a:solidFill>
                  <a:srgbClr val="00b0f0"/>
                </a:solidFill>
                <a:latin typeface="Arial"/>
              </a:rPr>
              <a:t>www.czso.cz</a:t>
            </a:r>
            <a:endParaRPr b="1" lang="en-US" sz="8000" spc="-1" strike="noStrike">
              <a:solidFill>
                <a:srgbClr val="48aee7"/>
              </a:solidFill>
              <a:latin typeface="Arial"/>
            </a:endParaRPr>
          </a:p>
          <a:p>
            <a:pPr marL="571680" indent="0" algn="ctr">
              <a:spcBef>
                <a:spcPts val="9000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cs-CZ" sz="7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citani.cz</a:t>
            </a:r>
            <a:endParaRPr b="1" lang="en-US" sz="7200" spc="-1" strike="noStrike">
              <a:solidFill>
                <a:srgbClr val="48aee7"/>
              </a:solidFill>
              <a:latin typeface="Arial"/>
            </a:endParaRPr>
          </a:p>
          <a:p>
            <a:pPr marL="571680" indent="0" algn="ctr">
              <a:spcBef>
                <a:spcPts val="2999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Arial"/>
              </a:rPr>
              <a:t>Languages: Czech and English</a:t>
            </a:r>
            <a:endParaRPr b="1" lang="en-US" sz="2400" spc="-1" strike="noStrike">
              <a:solidFill>
                <a:srgbClr val="48aee7"/>
              </a:solidFill>
              <a:latin typeface="Arial"/>
            </a:endParaRPr>
          </a:p>
          <a:p>
            <a:pPr marL="571680" indent="0" algn="ctr">
              <a:spcBef>
                <a:spcPts val="2999"/>
              </a:spcBef>
              <a:buNone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400" spc="-1" strike="noStrike">
              <a:solidFill>
                <a:srgbClr val="48aee7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517680" y="5645160"/>
          <a:ext cx="280800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645160"/>
                    <a:ext cx="28080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0040" y="608040"/>
            <a:ext cx="7488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Basic information</a:t>
            </a: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90040" y="1252440"/>
            <a:ext cx="74106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2011 Population census in the Czech Republic used for first time combination of paper and electronic forms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All households obtained the paper forms with ID and they had possibility to chose which type of forms they can use – the paper or the e-form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The households had the same period for completion of the both types of forms – 4 weeks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Both types of the forms were pre-completed using data from administrative sources (permanent address, characteristics of houses)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Webdings" charset="2"/>
              <a:buChar char="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446040" y="5573880"/>
          <a:ext cx="28796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573880"/>
                    <a:ext cx="28796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0040" y="608040"/>
            <a:ext cx="7417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Technical characteristics</a:t>
            </a: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82120" y="1325160"/>
            <a:ext cx="7410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best intersection between functionality and openness to be the Adobe technology with the PDF format and the Adobe Acrobat application. Advantage for users: the Adobe Reader multiplatform is available for free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electronic questionnaires were developed as separate PDF document for each type of form – persons, buildings and dwellings form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e-forms looked like their paper versions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distribution and the collection of the e-forms were conducted from two separate localities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608040"/>
            <a:ext cx="7417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Technological infrastructure</a:t>
            </a: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0040" y="1397160"/>
            <a:ext cx="7402680" cy="424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0" y="0"/>
            <a:ext cx="967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graphicFrame>
        <p:nvGraphicFramePr>
          <p:cNvPr id="54" name="Object 1"/>
          <p:cNvGraphicFramePr/>
          <p:nvPr/>
        </p:nvGraphicFramePr>
        <p:xfrm>
          <a:off x="735120" y="1397160"/>
          <a:ext cx="727236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5120" y="1397160"/>
                    <a:ext cx="72723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4"/>
          <p:cNvGraphicFramePr/>
          <p:nvPr/>
        </p:nvGraphicFramePr>
        <p:xfrm>
          <a:off x="446040" y="5716440"/>
          <a:ext cx="2879640" cy="86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6040" y="5716440"/>
                    <a:ext cx="28796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320" y="608040"/>
            <a:ext cx="7561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Information and education</a:t>
            </a: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82120" y="1325160"/>
            <a:ext cx="7410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marL="571680" indent="-571680">
              <a:spcBef>
                <a:spcPts val="2999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Arial"/>
              </a:rPr>
              <a:t>Educational campaign trough mass-media focused on different target groups of the population several months before the decisive moment of the census.</a:t>
            </a:r>
            <a:endParaRPr b="1" lang="en-US" sz="24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999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Arial"/>
              </a:rPr>
              <a:t>The CZSO launched a special WWW presentation for the public with information about access to the e-forms, their filling, advantages and data protection.</a:t>
            </a:r>
            <a:endParaRPr b="1" lang="en-US" sz="2400" spc="-1" strike="noStrike">
              <a:solidFill>
                <a:srgbClr val="48aee7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46040" y="5716440"/>
          <a:ext cx="287964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716440"/>
                    <a:ext cx="287964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2040" y="6080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E-forms flow</a:t>
            </a: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62040" y="1396800"/>
            <a:ext cx="7410240" cy="4354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eSF_3_full.bmp"/>
          <p:cNvPicPr/>
          <p:nvPr/>
        </p:nvPicPr>
        <p:blipFill>
          <a:blip r:embed="rId2">
            <a:grayscl/>
          </a:blip>
          <a:stretch/>
        </p:blipFill>
        <p:spPr>
          <a:xfrm>
            <a:off x="806400" y="1397160"/>
            <a:ext cx="7272360" cy="43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4"/>
          <p:cNvGraphicFramePr/>
          <p:nvPr/>
        </p:nvGraphicFramePr>
        <p:xfrm>
          <a:off x="446040" y="5789520"/>
          <a:ext cx="287964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040" y="5789520"/>
                    <a:ext cx="28796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040" y="608040"/>
            <a:ext cx="7417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Data protection</a:t>
            </a: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82480" y="1325160"/>
            <a:ext cx="7785360" cy="4248360"/>
          </a:xfrm>
          <a:prstGeom prst="rect">
            <a:avLst/>
          </a:prstGeom>
          <a:noFill/>
          <a:ln w="0">
            <a:noFill/>
          </a:ln>
        </p:spPr>
        <p:txBody>
          <a:bodyPr lIns="0" rIns="96840" tIns="46800" bIns="48240" anchor="t">
            <a:normAutofit/>
          </a:bodyPr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The technology had to guarantee the personal data protection within all phases of data collection and processing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Access to the pre-filled e-forms only with the original ID and a security code</a:t>
            </a:r>
            <a:r>
              <a:rPr b="1" lang="cs-CZ" sz="2000" spc="-1" strike="noStrike">
                <a:solidFill>
                  <a:srgbClr val="00b0f0"/>
                </a:solidFill>
                <a:latin typeface="Arial"/>
              </a:rPr>
              <a:t> (2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keys)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Completed forms were not saved in the computer due to utilization of PCs in the public rooms, libraries etc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  <a:p>
            <a:pPr marL="571680" indent="-571680">
              <a:spcBef>
                <a:spcPts val="2500"/>
              </a:spcBef>
              <a:buClr>
                <a:srgbClr val="7dbb2d"/>
              </a:buClr>
              <a:buSzPct val="150000"/>
              <a:buFont typeface="Arial"/>
              <a:buChar char="•"/>
              <a:tabLst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Confirmation about delivery of the </a:t>
            </a:r>
            <a:r>
              <a:rPr b="1" lang="cs-CZ" sz="2000" spc="-1" strike="noStrike">
                <a:solidFill>
                  <a:srgbClr val="00b0f0"/>
                </a:solidFill>
                <a:latin typeface="Arial"/>
              </a:rPr>
              <a:t>e-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forms to the CZSO.</a:t>
            </a:r>
            <a:endParaRPr b="1" lang="en-US" sz="2000" spc="-1" strike="noStrike">
              <a:solidFill>
                <a:srgbClr val="48aee7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446040" y="5573880"/>
          <a:ext cx="2879640" cy="100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573880"/>
                    <a:ext cx="2879640" cy="100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Questionnaires Collection</a:t>
            </a: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graphicFrame>
        <p:nvGraphicFramePr>
          <p:cNvPr id="72" name="Object 69"/>
          <p:cNvGraphicFramePr/>
          <p:nvPr/>
        </p:nvGraphicFramePr>
        <p:xfrm>
          <a:off x="590400" y="2620800"/>
          <a:ext cx="7410600" cy="22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2620800"/>
                    <a:ext cx="741060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446040" y="5573880"/>
          <a:ext cx="287964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040" y="5573880"/>
                    <a:ext cx="28796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7680" y="608040"/>
            <a:ext cx="7462800" cy="915840"/>
          </a:xfrm>
          <a:prstGeom prst="rect">
            <a:avLst/>
          </a:prstGeom>
          <a:noFill/>
          <a:ln w="0">
            <a:noFill/>
          </a:ln>
        </p:spPr>
        <p:txBody>
          <a:bodyPr lIns="0" rIns="96840" tIns="0" bIns="0" anchor="ctr">
            <a:noAutofit/>
          </a:bodyPr>
          <a:p>
            <a:pPr indent="0" algn="ct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Collection via Internet</a:t>
            </a:r>
            <a:br>
              <a:rPr sz="3000"/>
            </a:br>
            <a:r>
              <a:rPr b="1" lang="cs-CZ" sz="3000" spc="-1" strike="noStrike">
                <a:solidFill>
                  <a:srgbClr val="92d050"/>
                </a:solidFill>
                <a:latin typeface="Arial"/>
              </a:rPr>
              <a:t>in </a:t>
            </a: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days and hour</a:t>
            </a:r>
            <a:r>
              <a:rPr b="1" lang="cs-CZ" sz="3000" spc="-1" strike="noStrike">
                <a:solidFill>
                  <a:srgbClr val="92d050"/>
                </a:solidFill>
                <a:latin typeface="Arial"/>
              </a:rPr>
              <a:t>e</a:t>
            </a:r>
            <a:r>
              <a:rPr b="1" lang="en-GB" sz="3000" spc="-1" strike="noStrike">
                <a:solidFill>
                  <a:srgbClr val="92d050"/>
                </a:solidFill>
                <a:latin typeface="Arial"/>
              </a:rPr>
              <a:t>s</a:t>
            </a: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415880" y="2556000"/>
            <a:ext cx="967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8aee7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0" y="2057400"/>
          <a:ext cx="9680400" cy="352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68040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5"/>
          <p:cNvGraphicFramePr/>
          <p:nvPr/>
        </p:nvGraphicFramePr>
        <p:xfrm>
          <a:off x="0" y="5500800"/>
          <a:ext cx="332568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00800"/>
                    <a:ext cx="33256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6:42:41Z</dcterms:created>
  <dc:creator>pecka</dc:creator>
  <dc:description/>
  <dc:language>en-US</dc:language>
  <cp:lastModifiedBy>Drápal Stanislav, Ing.</cp:lastModifiedBy>
  <dcterms:modified xsi:type="dcterms:W3CDTF">2012-05-10T15:14:00Z</dcterms:modified>
  <cp:revision>353</cp:revision>
  <dc:subject/>
  <dc:title>Prezentace aplikace PowerPoint</dc:title>
</cp:coreProperties>
</file>