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12ED-BC2E-4F3F-BF2C-19AB0DE8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CF3D-090B-495A-A51D-F0D25CF6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BDB7-F2CD-4EC8-85E1-FB466008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F406C-B9CE-4034-9EB5-2DFFF3ED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8C65-BA3D-45F1-9050-5A0F2C6E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E3E9-2C7F-48EB-833C-57FF5464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A988-1FF8-4B9E-AD0D-7A1779AD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39B7-FC41-4244-87FD-1AD7B547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0BBD-8920-414F-A6E8-A8B8C110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E1B3-2175-42B8-AADF-BBAA99F7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4072-C859-4422-BA0A-ECCF912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FEBB-E96B-4564-B128-D5562C5B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D0E8-AD99-4B92-BF63-09A8D9EF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16EE-2BEB-4698-B26D-015FA252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76AB-7DCB-4B2E-8C6F-A2CBAC0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4DBE-930D-4C8B-98EA-1F70D752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22B4-8598-4468-AC4B-C71C1998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0ED5-7F38-444C-9C0D-146B198E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24F3-A7F2-4A9E-A281-2B99C35E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97B5-562A-4952-A9C4-F97A6A0A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F9BA-27E4-479D-8D91-809B0F11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1E3E-7367-4B3D-8077-5ADE1BF7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26D3-2F9D-410A-951B-6B1B9821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E2D8-7BF3-4BCC-8F45-A0C6ACE0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178F-D7ED-4C93-81D2-369A631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40A1-2F0C-443D-A941-EF743357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B19E-B648-40F0-808C-CEB1C25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CB5E-32DF-4FCC-ABBC-E217F05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CE0C-B990-43D1-95E9-7E250B41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B215-7346-48F8-AE3B-BD28B2C3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FAC4-A489-47EA-BAC6-29EB539B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4DCF-42B3-41C7-9A04-80E976A3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293D0-0F28-4DD1-B8C4-881F0B0A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7021-29FA-48A2-A287-F23D31BB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72B28-C54A-478E-B6A5-9E12BA39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9C37-9C6D-4576-8783-CC9210B9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A720-E5F8-43FF-A1E8-C58559A9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A4928-3FF6-4EA6-AAA7-0C66F822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7879-E41F-48AD-A23E-16D7B61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9D328-E03D-4AE7-B9CB-80D8F6F3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5B21-2B2E-4404-9658-081332F0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55794-CDC1-4772-9452-E4D8B224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CF20F-E88E-4C3A-B381-33AA6D55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9D5A-4B23-4D62-B4B7-5A6DECF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4492-8453-409F-899F-099B34C6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CF91-99B3-424F-A975-326B66D6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788D-40AE-4FDF-93CE-6358EFD0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E29D-72A9-416E-8D11-059A453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Click to edit the title text format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b6603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b060f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b060f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831b52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pic>
        <p:nvPicPr>
          <p:cNvPr id="2" name="Object 7" descr=""/>
          <p:cNvPicPr/>
          <p:nvPr/>
        </p:nvPicPr>
        <p:blipFill>
          <a:blip r:embed="rId2"/>
          <a:stretch/>
        </p:blipFill>
        <p:spPr>
          <a:xfrm>
            <a:off x="0" y="6400800"/>
            <a:ext cx="18288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9B2C-772B-4838-8355-95420573DE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lamas+eng&amp;arab[1]"/>
          <p:cNvPicPr/>
          <p:nvPr/>
        </p:nvPicPr>
        <p:blipFill>
          <a:blip r:embed="rId3"/>
          <a:stretch/>
        </p:blipFill>
        <p:spPr>
          <a:xfrm>
            <a:off x="0" y="0"/>
            <a:ext cx="1619280" cy="1482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8D63-C525-403A-9D0A-09EA3CC1CFFE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650C-B55A-4729-B53C-0CB4EB2C7F2D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7"/>
          <p:cNvSpPr/>
          <p:nvPr/>
        </p:nvSpPr>
        <p:spPr>
          <a:xfrm rot="18567000">
            <a:off x="216720" y="5855040"/>
            <a:ext cx="862200" cy="838080"/>
          </a:xfrm>
          <a:prstGeom prst="ellipse">
            <a:avLst/>
          </a:prstGeom>
          <a:solidFill>
            <a:srgbClr val="831b52"/>
          </a:solidFill>
          <a:ln w="9360">
            <a:solidFill>
              <a:srgbClr val="831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8"/>
          <p:cNvSpPr/>
          <p:nvPr/>
        </p:nvSpPr>
        <p:spPr>
          <a:xfrm rot="17647800">
            <a:off x="1066680" y="5257440"/>
            <a:ext cx="838080" cy="838440"/>
          </a:xfrm>
          <a:prstGeom prst="ellipse">
            <a:avLst/>
          </a:prstGeom>
          <a:solidFill>
            <a:srgbClr val="fb060f"/>
          </a:solidFill>
          <a:ln w="9360">
            <a:solidFill>
              <a:srgbClr val="fb0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9"/>
          <p:cNvSpPr/>
          <p:nvPr/>
        </p:nvSpPr>
        <p:spPr>
          <a:xfrm rot="17652000">
            <a:off x="1783440" y="4754880"/>
            <a:ext cx="838440" cy="776520"/>
          </a:xfrm>
          <a:prstGeom prst="ellipse">
            <a:avLst/>
          </a:prstGeom>
          <a:solidFill>
            <a:srgbClr val="fb6603"/>
          </a:solidFill>
          <a:ln w="9360">
            <a:solidFill>
              <a:srgbClr val="fb6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 rot="17647800">
            <a:off x="2514600" y="4266720"/>
            <a:ext cx="685800" cy="685800"/>
          </a:xfrm>
          <a:prstGeom prst="ellipse">
            <a:avLst/>
          </a:prstGeom>
          <a:solidFill>
            <a:srgbClr val="f5ac03"/>
          </a:solidFill>
          <a:ln w="9360">
            <a:solidFill>
              <a:srgbClr val="f5a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1"/>
          <p:cNvSpPr/>
          <p:nvPr/>
        </p:nvSpPr>
        <p:spPr>
          <a:xfrm rot="17644800">
            <a:off x="3139920" y="3793320"/>
            <a:ext cx="577800" cy="609840"/>
          </a:xfrm>
          <a:prstGeom prst="ellipse">
            <a:avLst/>
          </a:prstGeom>
          <a:solidFill>
            <a:srgbClr val="95b53c"/>
          </a:solidFill>
          <a:ln w="9360">
            <a:solidFill>
              <a:srgbClr val="95b5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6" descr="lamas+eng&amp;arab"/>
          <p:cNvPicPr/>
          <p:nvPr/>
        </p:nvPicPr>
        <p:blipFill>
          <a:blip r:embed="rId2"/>
          <a:stretch/>
        </p:blipFill>
        <p:spPr>
          <a:xfrm>
            <a:off x="0" y="0"/>
            <a:ext cx="2340000" cy="2073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Click to edit the title text format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b6603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b060f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b060f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831b52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45DA-97A7-42D9-BBB0-3F1900D86E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D6C4-727D-4E21-932E-B581E4C159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1752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Israel Dwelling and Building Register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708360" y="349992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nina Zadka</a:t>
            </a:r>
            <a:endParaRPr b="0" lang="en-US" sz="2000" spc="-1" strike="noStrike">
              <a:solidFill>
                <a:srgbClr val="0c508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entral Bureau of Statistics</a:t>
            </a:r>
            <a:endParaRPr b="0" lang="en-US" sz="2000" spc="-1" strike="noStrike">
              <a:solidFill>
                <a:srgbClr val="0c508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srael</a:t>
            </a:r>
            <a:endParaRPr b="0" lang="en-US" sz="20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AC06-6FB8-46E1-9AFC-7BBF8F2532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7640" y="1218960"/>
            <a:ext cx="6910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Current Status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2011 first year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Target dictionaries (codebooks) completed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Designing a new mode/method of data standardization, data flow &amp; acceptance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Developing and implementing a QA methodology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Rural regional municipalities not yet included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Geo-coding of addresses, 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Geo- coding of cadastre blocks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Improving understanding of data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Linking to Population register 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7A7F-82CA-419B-A558-02AE7BE902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2360" y="765000"/>
            <a:ext cx="6765840" cy="9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Pitfalls</a:t>
            </a:r>
            <a:br>
              <a:rPr sz="3200"/>
            </a:b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Addresse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Split / merged dwelling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Unregistered dwelling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Misclassification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Updates of new building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Demolitions 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Unique identifiers 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E5B0-27FC-4070-B86F-982FEA0E2F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8000" y="1196640"/>
            <a:ext cx="723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Upcoming projects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Field verification of location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Feedback of possible  errors to municipalitie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Cooperation schemes with municipalitie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Research on linked databases 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Identifying inconsistencies between database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318F-E845-427D-A462-99E9F69D78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מציין מיקום של מספר שקופית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70F5-E45C-4D91-BBB7-8D07B07702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124000" y="6922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  <a:ea typeface="Guttman Calligraphic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0" r="0" b="3456"/>
          <a:stretch/>
        </p:blipFill>
        <p:spPr>
          <a:xfrm>
            <a:off x="1979640" y="1484280"/>
            <a:ext cx="4745160" cy="47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5174-1F4C-4BF5-B7D0-B158B22CC3E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מציין מיקום של תאריך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מציין מיקום של מספר שקופית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BE8B-EFEF-412C-A246-711208EE25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640" y="1196640"/>
            <a:ext cx="734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Content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Data Sources and Content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Database Construction Procedure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Updating Procedure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GIS Role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Current Statu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Future Project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FA1B-C6F8-44B3-AFA7-71AE25B867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10920" y="1196640"/>
            <a:ext cx="604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Motivation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Rolling Integrated Census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Harmonization of sampling frames  for households and dwellings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Linking to: Population register, Real-estate taxes file, Property transfer taxes file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Improving the algorithm for constructing  administrative households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Platform for socio-economic research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A step toward a fully register based census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56BA-F323-4746-A262-0388FC4C7B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63640" y="1218960"/>
            <a:ext cx="66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00ff"/>
                </a:solidFill>
                <a:uFillTx/>
                <a:latin typeface="Times New Roman"/>
              </a:rPr>
              <a:t>Data Source</a:t>
            </a:r>
            <a:r>
              <a:rPr b="1" i="1" lang="he-IL" sz="3200" spc="-1" strike="noStrike" u="sng">
                <a:solidFill>
                  <a:srgbClr val="6600ff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6600ff"/>
                </a:solidFill>
                <a:uFillTx/>
                <a:latin typeface="Times New Roman"/>
              </a:rPr>
              <a:t> - Municipal taxation lists</a:t>
            </a:r>
            <a:endParaRPr b="0" i="1" lang="en-US" sz="32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≈</a:t>
            </a: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260 municipalities in the country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Computerized lists in all municipalities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A dozen data suppliers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Municipalities flexibility to suit individual needs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Derivatives of the data used in the past by the CBS as sampling frames 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D891-B7C6-4318-BA2C-EF966E71F9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34920" y="1218960"/>
            <a:ext cx="662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Variables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Type of property – residential (detached, apartment) commercial, industrial…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Unique identifiers of property 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Address, cadastre block  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Size  (m</a:t>
            </a:r>
            <a:r>
              <a:rPr b="1" lang="en-US" sz="2800" spc="-1" strike="noStrike" baseline="30000">
                <a:solidFill>
                  <a:srgbClr val="0c508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c508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Owner PIN, residents PIN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Tax type (exemption, discount)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508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1665-325B-4D66-A973-9E7D7828C6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640" y="1218960"/>
            <a:ext cx="66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Construction procedures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Statistical</a:t>
            </a:r>
            <a:r>
              <a:rPr b="1" lang="en-US" sz="2400" spc="-1" strike="noStrike">
                <a:solidFill>
                  <a:srgbClr val="0c508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Dwelling and Housing Register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Exploring data availability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Designing the structure of the database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Negotiating with municipalities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Purchasing / acquiring data from suppliers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Testing and verifying data  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Obtaining improved/corrected files 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Geo-coding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508f"/>
                </a:solidFill>
                <a:latin typeface="Times New Roman"/>
              </a:rPr>
              <a:t>Harmonization and standardization of variables and values </a:t>
            </a: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7C78-19B3-40AE-84DA-244C9C9B3A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360" y="1218960"/>
            <a:ext cx="698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Annual Update Scheme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Register updated once a year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Matching updated files against previous year DB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Verifying uniqueness of dwelling 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Exploring surcharge and deletion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Verification of quantities against new dwellings completion statistics by locality 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4956-11EB-45D7-ACB1-4552A72A45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360" y="119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Quality Issues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Completenes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Validity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Reliability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Editing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Imputation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F3E7-7558-4DCE-BA01-39D808A37D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0920" y="1218960"/>
            <a:ext cx="64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GIS role</a:t>
            </a:r>
            <a:r>
              <a:rPr b="0" i="1" lang="en-US" sz="3600" spc="-1" strike="noStrike" u="sng">
                <a:solidFill>
                  <a:srgbClr val="6600ff"/>
                </a:solidFill>
                <a:uFillTx/>
                <a:latin typeface="Times New Roman"/>
              </a:rPr>
              <a:t> </a:t>
            </a:r>
            <a:endParaRPr b="0" i="1" lang="en-US" sz="3600" spc="-1" strike="noStrike" u="sng">
              <a:solidFill>
                <a:srgbClr val="6600ff"/>
              </a:solidFill>
              <a:uFillTx/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Geo-coding addresse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Projection on building layer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Unique identifier of building (XY coordinates of center of building)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New-buildings emerging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5b53c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508f"/>
                </a:solidFill>
                <a:latin typeface="Times New Roman"/>
              </a:rPr>
              <a:t>Verifications with updated aerial photographs</a:t>
            </a: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508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nina Zadka UNECE/Eurostat, Geneve  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E92F-CB08-4CA3-9DB9-9C6000C305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2,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7:19:31Z</dcterms:created>
  <dc:creator>ari paltiel</dc:creator>
  <dc:description/>
  <dc:language>en-US</dc:language>
  <cp:lastModifiedBy>pninaz</cp:lastModifiedBy>
  <dcterms:modified xsi:type="dcterms:W3CDTF">2012-05-16T08:58:06Z</dcterms:modified>
  <cp:revision>37</cp:revision>
  <dc:subject/>
  <dc:title>Slide 1</dc:title>
</cp:coreProperties>
</file>