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B160A-421B-4F14-A368-1F5C28864E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10C47-2CB0-44BE-AE24-B23A28519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F0B8F-4323-4838-A393-05C4775B2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7B7F8-D72E-424E-BC0E-0B79F3A91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BE5AF-3832-4365-95CE-64F8C4393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9F511-04A7-4186-B973-40DA50D75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722A1-5A01-40AB-B24E-19D57028A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1CD72-5C74-42C7-99B2-0C2DF798A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5E53B-16EE-45BD-BD37-F905423B5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725A0-4F7C-432E-9148-2CB5EBC45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8545A-5FF7-4523-B762-9CC8E563B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0D422-68C2-4A4B-A9F2-A67E678CA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4C52B-429A-4D54-AAFD-B41DB2577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80854-5AEC-4BE9-8910-3D40D7419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CD6A1-F4FD-490F-B485-75AEE19F9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1EEEF-6DA4-408F-8FCA-6AE148C4C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97679-2274-4F6B-AFCD-5658DFB74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B0568-F0E8-4399-B58A-0C677F30F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264B-31FF-4207-A6B2-27E563EC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712-B79D-4532-AA97-C2A6A243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CF408-AD36-413D-9B24-33C29DF1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82DFB-CF79-4C04-AD45-6A8E0033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BD0C0-4B0B-4A4B-A569-070164CA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83123-D569-41C5-8EE4-9E81797F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48CB3-D744-4F31-B6B7-90AD8D7B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72FB5-ED1D-43DA-967A-13F5FFA1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97B30-CA40-4A07-9007-449CF1D1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1935F-1C9A-4B34-BAEA-1C2717B4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31A3D-8902-40B8-AD44-ED778479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CBF6F-6E75-4957-BB61-826B9500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C0F-4FCE-490E-B38C-C72A67EF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9B961-7EF4-4E06-A7FA-6E7383CC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A558D-327D-48C0-B76E-5734F2DD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9DE26-5BD5-4B1A-BBB2-D10EC89B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82FAE-4F22-49AF-86A4-372EC451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E12C7-585B-4FF6-93DF-53630741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6691B-B131-40EB-A481-B1B331D9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2C114-CBFD-49D8-8585-8806C031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3F5A9-2249-455E-85AF-1ED751A5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2F52A-79D8-493E-82F3-52F0E0A2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216E4-23E8-4509-A74B-025BED8C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5EB-54D7-410F-BEBF-8181FCAF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5521E-CAF2-4CB2-949B-BAFBA3BF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A8943-7FA1-45E3-8F52-6949A8E1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01083-19FD-44B8-AE24-79CC2684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F6D1E-3D34-4B38-B10C-40904B2F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FB6A4-0A0C-4762-8BEC-70C1A857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79768-A3DA-47A2-B8EC-82120444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8899B-2115-483D-9165-56D66F35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7A9B5-4458-4E59-AF37-F85D72F1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E2B7A-F512-4F46-B4EF-FC28C1A0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CF84E-103A-4C16-AC82-42BB439C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F27B-60A3-42DD-9B4F-2D012E36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8ECCE-8C58-4784-ADA4-AEC7A3FF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3F9E8-509F-42C8-913C-7A3905D7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8B050-8DE3-4B26-8106-D299385C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63A9E-BABD-462F-AE2F-DB81EB7E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80101-E264-482F-936F-52CF8630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51DCC-200B-43F6-A266-00657F6E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B6EC5-36E8-4AFC-9A20-D138571F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F6490-D858-4D64-AB45-41BA6E69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37B11-5E08-4984-9E67-3031C970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215D8-18E6-497D-81F3-6AA6A3F5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4FC3-7319-4018-BBEB-CCF7AC98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8EB28-4625-4AAB-9D17-33829209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998A6-4130-42A8-9D75-DBADD42E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74CB4-8597-48C4-8371-D116D454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4FAAE-A5BB-4E39-AF9D-B2015114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98902-7F7C-4E2A-A6F1-C0C81FDF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FBD7-8C9C-4509-B81E-2806660A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8270-58C9-40A2-B84D-463CD116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FBA9-AFB1-4288-9E39-D3DFF9A9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5034-1AB8-4053-A665-57EFBF58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1DAF-57A5-496C-AA7D-E2C82AA0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E2A-F814-4357-AB6A-50C7A465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6F70-DEC7-4054-9568-1BF5539B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AFB4-30D3-4E35-A43A-93965646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72ED-54AC-4165-BA73-DDEED8F5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6CDC-47FD-47FC-B380-ED92B2C9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1DB1-352D-4D05-8633-650AF7A9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019D1-BDF8-4E03-80C8-C5C3850C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78F53-500F-4CD0-9DBF-DE1514B8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FAE82-8AE3-4F91-991D-502BB7A0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218B8-7767-4568-9135-8C13860D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A2872-57DB-4937-A688-8CF8E2D2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3071-3AEF-4003-A0E0-65985BCB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DB2A0-6775-4CC5-8EB0-ACAE0E4B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1E44F-01E2-4F99-9D33-ACCAFF72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1701B-CCA8-48CB-90B6-F4138C34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7DB11-B134-423B-B59E-3394B15A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D2EDF-7BC4-4065-ABD0-29DE73E3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368AC-FD37-42AD-B24E-F13B2866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E6548-1691-4E9C-9DE0-93455162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9A237-2B54-486C-915B-E56FF42D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61925-6A56-4D5F-9090-A9365F88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59EC8-3AD9-4F78-BF0A-B846274D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370-C0DD-44C7-85D5-F7F8B7CC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59873-9F36-4408-9C9D-F9F06887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B210F-BA5A-4FE6-8365-C97D67B0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941D1-D7C2-44F0-B652-BCD42B30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C0FB-D1C0-4D44-8650-5F99CF93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EB478-9122-44FA-8C8A-5D60C66B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A5C29-49CE-4B59-A019-2E2E708D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A53B7-B0BE-4F79-BAE6-182F1B76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7ADC1-281A-44F8-ABF6-C8C87E64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11755-E2AE-4918-82A6-E5ED27E0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80E7E-36B2-4B96-A430-8783C97C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3828-8D46-4BD6-A2AE-7BCFB055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B8B4E-053A-46EE-826B-F4908B1E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F47B0-73DC-48CB-9787-7339A1B5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612FD-9F37-4EAD-8323-6D09A62C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CF92E-6FAC-436F-9AAC-81E2B313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39A73-3EC8-4368-9935-1BD7EF55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3B9A8-62A8-4DF7-A992-44807BC5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C50DE-EF9C-413D-9BEC-17CD5A3C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194BF-ED2C-4C3D-935F-33EFD478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7196E-5058-42C8-9CDD-669CA165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D41A0-6028-439D-A332-B383A021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3A93-950C-4CE1-819C-FEF668DF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5C399-6464-4A69-89F4-45CEACC9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8DA90-659C-4FE3-B044-4DF71C14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EA738-AA92-4FD8-9FA0-64E19536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B80B0-CCAA-4AB3-B2F6-9425C408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5C310-DC99-4C7C-A46A-76079309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D3EC5-EECF-4F60-8504-AAF66853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5BD84-59D6-44F1-ABE6-6F92D591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9A3A9-B6A3-4F00-8510-0DD1E123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B474A-24A6-4518-909E-C98456A2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C4A65-DAB3-482E-A1C6-0E9A9573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0A8-9582-40CB-A4F8-A060B593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ED344-CA7A-490C-A389-38C9B752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A8C24-6217-4294-8DB2-79E58D63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F64B3-5B91-48AF-9100-52258BA3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A82F5-6E38-4DAE-9DC9-96A323A2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EFD3A-080B-418A-8CFA-5275FDA4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DE64D-0E14-43AD-8E8A-46797B3B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C0C72-A1C9-4D2D-A99D-80570E0B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B77E8-95B4-4A66-8458-49495D7C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1CBB3-54D2-4780-A287-725D5E61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D7C79-A1B0-449F-A600-69E617B3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CF82-5273-43F8-B66C-969B97A9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44C0B-8666-4EC2-B338-965765AA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C4979-CA12-45A8-862D-AF93D6E2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4D5FF-6923-4951-BEB6-BA6B7ED8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3C06E-F81C-4A39-9520-D7FB3228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4DF0C-FC48-4392-92A3-210D1A9D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F7626-4DDE-48CF-9434-0D61C41B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85136-D0BD-478A-82E5-7D4C7B7E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E146B-B3E1-4515-9C8E-EC25F4FA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494C1-8E47-4064-AB85-93CA8526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C721F-2B1D-4E0F-895B-E2A37A57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BCB-5562-4EB6-9658-37E9DF33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CDA90-D646-480D-B4A0-1F7A8CE4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ACD94-FFB1-4A59-99D7-B3FB072F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43A6B-85D3-43B0-A300-F44D460C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2E730-F954-4C65-BD39-BC13AFA8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A9108-B7B5-47CA-B4A2-D9BA412B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3E274-6B86-45E4-BB39-805C9817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75727-08BD-4863-A4D9-4C9A662D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E2B38-1E77-43A5-A9C9-F66C3B84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D3606-0F87-47D0-824F-A658AAEC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C941F-D555-4388-9E18-D405F6CB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basic2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9B3E-2E9C-4E35-A6D3-64379D181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basic2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649C-05CE-481C-A309-C3996511E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basic2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C3D4-0785-468B-8C44-1F6B7FE1D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8" descr="basic2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1C6A-7741-4EDE-8030-6D3FC91DC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basic2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AAE6-7154-454E-B909-26F366A8F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basic2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D310-435E-482F-B371-2D1F60D52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basic2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517B-E430-4079-8BAF-2ED0173F0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basic2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C0F1-DDEE-4DFF-BCE2-BD84BBC6F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basic2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8A1A-5D65-41DF-9E41-5AD2DDAF6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basic2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CCBD-10A0-408B-8694-AA020EC17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basic2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74B5-DFEA-483C-9EE1-7CB75AFD2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basic2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E791-1BB2-449B-BCCF-927808D34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pums.org/international" TargetMode="External"/><Relationship Id="rId2" Type="http://schemas.openxmlformats.org/officeDocument/2006/relationships/hyperlink" Target="http://www.iecm-project.org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pums.org/international" TargetMode="External"/><Relationship Id="rId2" Type="http://schemas.openxmlformats.org/officeDocument/2006/relationships/hyperlink" Target="http://www.nytimes.com/2011/09/09/us/09breach.html?hp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rmccaa@umn.edu" TargetMode="External"/><Relationship Id="rId2" Type="http://schemas.openxmlformats.org/officeDocument/2006/relationships/hyperlink" Target="mailto:rmccaa@umn.edu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68680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UMS-International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ntegrated European Census Microdata Projects Reduce Risks of Managing Trans-border Access and Add Significant Valu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* *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ert McCaa and Albert Esteve Palos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nesota Population Center and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e d’Estudis Demografics--Barcelona</a:t>
            </a:r>
            <a:br>
              <a:rPr sz="2800"/>
            </a:b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ipums.org/international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iecm-project.org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NSFLOGO"/>
          <p:cNvPicPr/>
          <p:nvPr/>
        </p:nvPicPr>
        <p:blipFill>
          <a:blip r:embed="rId3"/>
          <a:stretch/>
        </p:blipFill>
        <p:spPr>
          <a:xfrm>
            <a:off x="8077320" y="28440"/>
            <a:ext cx="961920" cy="9622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" descr="NIHLOGO"/>
          <p:cNvPicPr/>
          <p:nvPr/>
        </p:nvPicPr>
        <p:blipFill>
          <a:blip r:embed="rId4"/>
          <a:stretch/>
        </p:blipFill>
        <p:spPr>
          <a:xfrm>
            <a:off x="152280" y="1522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5" descr="IPUMS-~2"/>
          <p:cNvPicPr/>
          <p:nvPr/>
        </p:nvPicPr>
        <p:blipFill>
          <a:blip r:embed="rId5"/>
          <a:stretch/>
        </p:blipFill>
        <p:spPr>
          <a:xfrm>
            <a:off x="3809880" y="152280"/>
            <a:ext cx="1447920" cy="7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152280" y="838080"/>
            <a:ext cx="8839440" cy="78264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. Integration:  Metadata &amp; Micro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152280" y="1676520"/>
            <a:ext cx="86868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rehensive source metadata in official language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estionnaires, instructions, manual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grated, DDI compatible metadata:  definitions, concepts,  variable names, value labels, codes--all link back to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criptions of censuses and samp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ariables defined, comparability discuss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ample:  educational attainment (next slid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Integrated, pooled microdata:  multiple censuses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Integrated boundary files (GIS) linked to micro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IPUMS value adde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152280" y="838080"/>
            <a:ext cx="8839440" cy="78264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of composite coding:  Educational attai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3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" descr="D:\conferences_2005+\12geneva\p12.tiff"/>
          <p:cNvPicPr/>
          <p:nvPr/>
        </p:nvPicPr>
        <p:blipFill>
          <a:blip r:embed="rId2"/>
          <a:srcRect l="11668" t="8755" r="7500" b="25251"/>
          <a:stretch/>
        </p:blipFill>
        <p:spPr>
          <a:xfrm>
            <a:off x="0" y="1600200"/>
            <a:ext cx="91076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152280" y="838080"/>
            <a:ext cx="8839440" cy="78264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. Integration:  Metadata &amp; Microdata (cont’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3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4"/>
          <p:cNvSpPr/>
          <p:nvPr/>
        </p:nvSpPr>
        <p:spPr>
          <a:xfrm>
            <a:off x="152280" y="1676520"/>
            <a:ext cx="86868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Comprehensive source metadata in official language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Integrated, DDI compatible metadata:  definitions, concepts,  variable names, value labels, codes--all link back to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Integrated, pooled microdata:  many censuses in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Integrated boundary files (GIS) linked to micro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UMS value added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echnical variables:  weights, 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mily, household info:  summar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erson variables:   Locations of mother, father, spouse and rules for linking (momloc, poploc, spl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152280" y="838080"/>
            <a:ext cx="8839440" cy="78264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V. Managing Trans-border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3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4"/>
          <p:cNvSpPr/>
          <p:nvPr/>
        </p:nvSpPr>
        <p:spPr>
          <a:xfrm>
            <a:off x="152280" y="1676520"/>
            <a:ext cx="86868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Trans-border access:  uniform experience for access to all countries, regardless of na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lphaU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Custom-tailored extracts:  user selects country(ies), censuses, variables, sub-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tract engine fulfills request, generates custom-tailored microdata and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 unique IPUMS extract 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lec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ttach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ustomize samp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lphaU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age:  8,048 extracts in 2011; 40,142 samples.  See next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68680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losure Controls for Trans-Border access t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sus Microdata via a Single License, Access Point: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PUMS-IECM partnershi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* *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ert McCaa and Albert Esteve Palos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nesota Population Center and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e d’Estudis Demografics--Barcelona</a:t>
            </a:r>
            <a:br>
              <a:rPr sz="2800"/>
            </a:b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ipums.org/international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You have to do due diligence, something to assure yoursel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 people you’re giving your data to can be trusted.” </a:t>
            </a:r>
            <a:br>
              <a:rPr sz="1800"/>
            </a:b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www.nytimes.com/2011/09/09/us/09breach.html?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NSFLOGO"/>
          <p:cNvPicPr/>
          <p:nvPr/>
        </p:nvPicPr>
        <p:blipFill>
          <a:blip r:embed="rId3"/>
          <a:stretch/>
        </p:blipFill>
        <p:spPr>
          <a:xfrm>
            <a:off x="8077320" y="28440"/>
            <a:ext cx="961920" cy="9622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NIHLOGO"/>
          <p:cNvPicPr/>
          <p:nvPr/>
        </p:nvPicPr>
        <p:blipFill>
          <a:blip r:embed="rId4"/>
          <a:stretch/>
        </p:blipFill>
        <p:spPr>
          <a:xfrm>
            <a:off x="152280" y="1522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IPUMS-~2"/>
          <p:cNvPicPr/>
          <p:nvPr/>
        </p:nvPicPr>
        <p:blipFill>
          <a:blip r:embed="rId5"/>
          <a:stretch/>
        </p:blipFill>
        <p:spPr>
          <a:xfrm>
            <a:off x="3809880" y="152280"/>
            <a:ext cx="1447920" cy="7527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" descr="Analytics_international.ipums.org_2011mar20_(DashboardReport)_Page_1.tiff"/>
          <p:cNvPicPr/>
          <p:nvPr/>
        </p:nvPicPr>
        <p:blipFill>
          <a:blip r:embed="rId6"/>
          <a:srcRect l="19235" t="24447" r="18882" b="54280"/>
          <a:stretch/>
        </p:blipFill>
        <p:spPr>
          <a:xfrm>
            <a:off x="58680" y="1981080"/>
            <a:ext cx="9085320" cy="441972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6"/>
          <p:cNvSpPr/>
          <p:nvPr/>
        </p:nvSpPr>
        <p:spPr>
          <a:xfrm>
            <a:off x="152280" y="914400"/>
            <a:ext cx="8839440" cy="1373760"/>
          </a:xfrm>
          <a:prstGeom prst="rect">
            <a:avLst/>
          </a:prstGeom>
          <a:solidFill>
            <a:srgbClr val="eaf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UMS-International  Google Analytics: 2011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-Border Access:  169 countries/territori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033 cities, 45,000 page views.  Up 4X from 20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6" name=""/>
          <p:cNvGraphicFramePr/>
          <p:nvPr/>
        </p:nvGraphicFramePr>
        <p:xfrm>
          <a:off x="838080" y="0"/>
          <a:ext cx="7772400" cy="7148520"/>
        </p:xfrm>
        <a:graphic>
          <a:graphicData uri="http://schemas.openxmlformats.org/drawingml/2006/table">
            <a:tbl>
              <a:tblPr/>
              <a:tblGrid>
                <a:gridCol w="533520"/>
                <a:gridCol w="281160"/>
                <a:gridCol w="1395360"/>
                <a:gridCol w="198360"/>
                <a:gridCol w="642960"/>
                <a:gridCol w="730080"/>
                <a:gridCol w="257400"/>
                <a:gridCol w="2081160"/>
                <a:gridCol w="890640"/>
                <a:gridCol w="761760"/>
              </a:tblGrid>
              <a:tr h="230040"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gridSpan="10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e 2.  Rank of the Top Five and all European Countries plus Canada and the 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gridSpan="10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 Number of Extracts for the 2000 round census (statistics for calendar year 20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%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s (n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s of census s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ra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, 70, 80, 91, 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xic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p, 70, 90, 95, 2000, 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, 70, 80, 90, 2000, 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mb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4p, 72, 85, 93,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, 2001,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1p, 81p, 91p, 2001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2, 68, 75, 82, 90, 99, 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1, 91, 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1, 81, 91, 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1, 81, 91, 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u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1, 91, 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6, 92, 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zer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, 80, 90, 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Kingd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, 2001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g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, 80, 90, 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etherlan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p, 71p, 2001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v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 gridSpan="9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amples extracted for 55 countries (162 samples) available from January 1, 201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gridSpan="10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2000 round census; refers to all integrated variables, including IPUMS constructed variab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880">
                <a:tc gridSpan="10"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” = person sample; all other samples are of household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45E1-52E0-4E00-A646-98B7C16E3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5" descr=""/>
          <p:cNvPicPr/>
          <p:nvPr/>
        </p:nvPicPr>
        <p:blipFill>
          <a:blip r:embed="rId1"/>
          <a:srcRect l="0" t="10420" r="0" b="6655"/>
          <a:stretch/>
        </p:blipFill>
        <p:spPr>
          <a:xfrm>
            <a:off x="-25560" y="838080"/>
            <a:ext cx="9169560" cy="545796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CM value-added (in beta test):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sword protected, trans-border on-line tab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tantial returns to NSOs; no cost: economies of scale, low 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6 NSOs are particip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rs is not, let’s discuss how to resolve the obstac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end legis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vise regulation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ocate statistical transparenc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rust 2011 census microdata, as soon as 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 boundary files at low-level geography for each census poss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1440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3" descr="IPUMS-~2"/>
          <p:cNvPicPr/>
          <p:nvPr/>
        </p:nvPicPr>
        <p:blipFill>
          <a:blip r:embed="rId1"/>
          <a:stretch/>
        </p:blipFill>
        <p:spPr>
          <a:xfrm>
            <a:off x="3835440" y="10152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4"/>
          <p:cNvSpPr/>
          <p:nvPr/>
        </p:nvSpPr>
        <p:spPr>
          <a:xfrm>
            <a:off x="127080" y="914400"/>
            <a:ext cx="8912160" cy="10666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PUMS at the 5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ng Kong, Aug 24-30, 2013)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ttp://www.isi2013.h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6781680" y="2438280"/>
            <a:ext cx="236232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UMS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rodata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PUMS Funding for delegates from developing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PUMS b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9" descr=""/>
          <p:cNvPicPr/>
          <p:nvPr/>
        </p:nvPicPr>
        <p:blipFill>
          <a:blip r:embed="rId2"/>
          <a:srcRect l="14165" t="12665" r="14165" b="16667"/>
          <a:stretch/>
        </p:blipFill>
        <p:spPr>
          <a:xfrm>
            <a:off x="152280" y="1981080"/>
            <a:ext cx="655344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193680" y="2046240"/>
            <a:ext cx="875664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Thank you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If your NSO is not participating yet, please contact: 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mccaa@umn.edu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When processing of your 2011 census microdata is completed, please contact: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rmccaa@umn.ed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IPUMS-~2"/>
          <p:cNvPicPr/>
          <p:nvPr/>
        </p:nvPicPr>
        <p:blipFill>
          <a:blip r:embed="rId3"/>
          <a:stretch/>
        </p:blipFill>
        <p:spPr>
          <a:xfrm>
            <a:off x="3835440" y="10152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579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68680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mination [means]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ing up the value inherent in our data.”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- Walter Radermacher and Pieter Everaers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minar on Emerging Trends in Data Communication and Statistics, UNSC, New York, Feb. 19, 20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NSFLOGO"/>
          <p:cNvPicPr/>
          <p:nvPr/>
        </p:nvPicPr>
        <p:blipFill>
          <a:blip r:embed="rId1"/>
          <a:stretch/>
        </p:blipFill>
        <p:spPr>
          <a:xfrm>
            <a:off x="8077320" y="28440"/>
            <a:ext cx="961920" cy="962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NIHLOGO"/>
          <p:cNvPicPr/>
          <p:nvPr/>
        </p:nvPicPr>
        <p:blipFill>
          <a:blip r:embed="rId2"/>
          <a:stretch/>
        </p:blipFill>
        <p:spPr>
          <a:xfrm>
            <a:off x="152280" y="1522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5" descr="IPUMS-~2"/>
          <p:cNvPicPr/>
          <p:nvPr/>
        </p:nvPicPr>
        <p:blipFill>
          <a:blip r:embed="rId3"/>
          <a:stretch/>
        </p:blipFill>
        <p:spPr>
          <a:xfrm>
            <a:off x="3809880" y="152280"/>
            <a:ext cx="1447920" cy="7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152280" y="838080"/>
            <a:ext cx="8839440" cy="129564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-Border access is essential in 2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entury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y researchers (e.g., demographers, members of  IUSSP) reside outside their country of 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4"/>
          <p:cNvSpPr/>
          <p:nvPr/>
        </p:nvSpPr>
        <p:spPr>
          <a:xfrm>
            <a:off x="228600" y="2209680"/>
            <a:ext cx="86868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Zealand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% reside outside country of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t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rma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ne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gia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tis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stralia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adians, Finns, French, Japanese, Swiss, etc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2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4"/>
          <p:cNvSpPr/>
          <p:nvPr/>
        </p:nvSpPr>
        <p:spPr>
          <a:xfrm>
            <a:off x="6705720" y="2590920"/>
            <a:ext cx="2286000" cy="3385800"/>
          </a:xfrm>
          <a:prstGeom prst="rect">
            <a:avLst/>
          </a:prstGeom>
          <a:solidFill>
            <a:srgbClr val="e7f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ing acces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-country is old-fashioned, inefficient, costly, &amp; unfai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s violations, brain d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1"/>
          <a:stretch/>
        </p:blipFill>
        <p:spPr>
          <a:xfrm>
            <a:off x="0" y="1752480"/>
            <a:ext cx="9085320" cy="45244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2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PUMS-International 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Times New Roman"/>
              </a:rPr>
              <a:t>dark green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 = anonymized, harmonized and disseminating</a:t>
            </a:r>
            <a:r>
              <a:rPr b="1" i="1" lang="es-E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Times New Roman"/>
              </a:rPr>
              <a:t>(69 countries, 212 censuses, 480 millon person records)</a:t>
            </a:r>
            <a:br>
              <a:rPr sz="2400"/>
            </a:br>
            <a:r>
              <a:rPr b="1" i="1" lang="en-US" sz="2400" spc="-1" strike="noStrike">
                <a:solidFill>
                  <a:srgbClr val="99ff99"/>
                </a:solidFill>
                <a:latin typeface="Times New Roman"/>
              </a:rPr>
              <a:t>medium green = to be integrated (29 countries, 75 censuses, ~100 m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4724280" y="6324480"/>
            <a:ext cx="1371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llweide proj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380880" y="152280"/>
            <a:ext cx="8229600" cy="459720"/>
          </a:xfrm>
          <a:prstGeom prst="rect">
            <a:avLst/>
          </a:prstGeom>
          <a:solidFill>
            <a:srgbClr val="f0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UMS-International: 2012 (weighted by population si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0" y="1905120"/>
            <a:ext cx="2895480" cy="3506760"/>
          </a:xfrm>
          <a:prstGeom prst="rect">
            <a:avLst/>
          </a:prstGeom>
          <a:solidFill>
            <a:srgbClr val="f7f9a5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12 launch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 Salvador (2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onesia (9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xico (2010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occo (3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caragua (3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key (3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uguay (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8"/>
          <p:cNvSpPr/>
          <p:nvPr/>
        </p:nvSpPr>
        <p:spPr>
          <a:xfrm>
            <a:off x="2971800" y="5041800"/>
            <a:ext cx="6172200" cy="1800360"/>
          </a:xfrm>
          <a:prstGeom prst="rect">
            <a:avLst/>
          </a:prstGeom>
          <a:solidFill>
            <a:srgbClr val="f7f9a5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 began in 1999.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2020 we hope to integrat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nsus microdata of 100 countrie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luding 2010 round cens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PUMS-International 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Times New Roman"/>
              </a:rPr>
              <a:t>dark green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 = anonymized, harmonized and disseminating</a:t>
            </a:r>
            <a:r>
              <a:rPr b="1" i="1" lang="es-E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Times New Roman"/>
              </a:rPr>
              <a:t>(17 countries, 56 censuses, 93 millon person records)</a:t>
            </a:r>
            <a:br>
              <a:rPr sz="2400"/>
            </a:br>
            <a:r>
              <a:rPr b="1" i="1" lang="en-US" sz="2400" spc="-1" strike="noStrike">
                <a:solidFill>
                  <a:srgbClr val="99ff99"/>
                </a:solidFill>
                <a:latin typeface="Times New Roman"/>
              </a:rPr>
              <a:t>medium green = to be integrated (2 countries, 6 censuses, ~5 m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4724280" y="6324480"/>
            <a:ext cx="1371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llweide proj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6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55292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7"/>
          <p:cNvSpPr/>
          <p:nvPr/>
        </p:nvSpPr>
        <p:spPr>
          <a:xfrm>
            <a:off x="380880" y="152280"/>
            <a:ext cx="8229600" cy="459720"/>
          </a:xfrm>
          <a:prstGeom prst="rect">
            <a:avLst/>
          </a:prstGeom>
          <a:solidFill>
            <a:srgbClr val="f0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CM/ IPUMS-Europe: 2012 (weighted by population si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5867280" y="1595520"/>
            <a:ext cx="3276720" cy="5213160"/>
          </a:xfrm>
          <a:prstGeom prst="rect">
            <a:avLst/>
          </a:prstGeom>
          <a:solidFill>
            <a:srgbClr val="f7f9a5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ntries not ye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cipating ar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ited to consider  doing so:  Albania, Belgium,  Bosnia-H, Croatia, Denmark, Estonia, Finland, Iceland, Latvia, Lithuania, Moldova R., Norway, Russia, Serbia, Slovak R., Swede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6" descr=""/>
          <p:cNvPicPr/>
          <p:nvPr/>
        </p:nvPicPr>
        <p:blipFill>
          <a:blip r:embed="rId2"/>
          <a:srcRect l="49892" t="26812" r="49573" b="72121"/>
          <a:stretch/>
        </p:blipFill>
        <p:spPr>
          <a:xfrm>
            <a:off x="4038480" y="51055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" descr=""/>
          <p:cNvPicPr/>
          <p:nvPr/>
        </p:nvPicPr>
        <p:blipFill>
          <a:blip r:embed="rId3"/>
          <a:srcRect l="37742" t="3370" r="42133" b="61269"/>
          <a:stretch/>
        </p:blipFill>
        <p:spPr>
          <a:xfrm>
            <a:off x="685800" y="1828800"/>
            <a:ext cx="52243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304560" y="2286000"/>
            <a:ext cx="88390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SOs that disseminate microdata by “going it alone” incur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risks, substantial costs, &amp; much user dissatisf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UMS &amp; IECM offer a “one-stop” comprehensive solution to managing access to census micro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stical  Confidentiality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e trans-border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:  Invitation to cooperat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rust 2010 round census microdata as soon as feasibl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17524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:  IPUMS-International &amp; IE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Risks of Managing Trans-border Acces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dd Significa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152280" y="685800"/>
            <a:ext cx="8839440" cy="152388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. One-stop, comprehensive solu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disseminating census microdata &amp; metadata…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Europe and the worl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4"/>
          <p:cNvSpPr/>
          <p:nvPr/>
        </p:nvSpPr>
        <p:spPr>
          <a:xfrm>
            <a:off x="152280" y="2057400"/>
            <a:ext cx="883944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z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form agreement with each N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minis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manage approval/denial of user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nymiz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are responsible for data anony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gr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do the wor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Metadat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icial language and integrated in Englis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Micro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grated globally &amp; optimized for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semin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racts, custom-tailored to each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share:  result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rehensive electronic bibl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longer enough to prepare a CD or post a dataset on a web-si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152280" y="838080"/>
            <a:ext cx="8839440" cy="78264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. Statistical Confidentiality an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3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4"/>
          <p:cNvSpPr/>
          <p:nvPr/>
        </p:nvSpPr>
        <p:spPr>
          <a:xfrm>
            <a:off x="152280" y="1676520"/>
            <a:ext cx="86868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rodata security and confidentialit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mployees face fines, job loss, and possible imprisonment for vio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curity:  “best practice” – Dennis Trewin, ex Aus. St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stical disclosure control prote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ppression of records using sub-sampling, names, low-level geography, unique variat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ired swapping of geographical identifiers of households to create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p/bottom coding, global recodes, deletion of digi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Times New Roman"/>
              </a:rPr>
              <a:t>Managing restricted access to microdata (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152280" y="838080"/>
            <a:ext cx="8839440" cy="78264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. Statistical Confidentiality and Security (cont’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3" descr="IPUMS-~2"/>
          <p:cNvPicPr/>
          <p:nvPr/>
        </p:nvPicPr>
        <p:blipFill>
          <a:blip r:embed="rId1"/>
          <a:stretch/>
        </p:blipFill>
        <p:spPr>
          <a:xfrm>
            <a:off x="3657600" y="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4"/>
          <p:cNvSpPr/>
          <p:nvPr/>
        </p:nvSpPr>
        <p:spPr>
          <a:xfrm>
            <a:off x="152280" y="1676520"/>
            <a:ext cx="86868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Microdata security and confidentialit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Times New Roman"/>
              </a:rPr>
              <a:t>Statistical disclosure control prote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ing restricted access to micro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tailed registration form to establish bona-f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/5ths of viewers do not complete the form!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-automatic den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ditions of use bind researcher &amp; institution; violations penalize every researcher at instit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ustom-tailored extracts encourage researchers to jealously guard their downlo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re than 5,000 researchers approved for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23:35:41Z</dcterms:created>
  <dc:creator>Robert McCaa</dc:creator>
  <dc:description/>
  <dc:language>en-US</dc:language>
  <cp:lastModifiedBy>Robert McCaa</cp:lastModifiedBy>
  <dcterms:modified xsi:type="dcterms:W3CDTF">2012-05-24T12:14:32Z</dcterms:modified>
  <cp:revision>328</cp:revision>
  <dc:subject/>
  <dc:title>IPUMS-International: Lessons from 10 years of Archving and Disseminating Census Microdata</dc:title>
</cp:coreProperties>
</file>