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B8D7-B400-4320-80E9-B9048BD55C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0BE-B37A-407F-979A-56AE96A1E7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2893-51A9-4F54-A1D2-7B65337730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9474-B0E7-4700-A6CF-B073396E2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9D2-7868-481E-A587-9697B442C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11B-DD1B-47FB-8D33-417428C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E86-121C-4820-822F-9E316CC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34F-D724-4B0C-913D-58FDC2BE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2BE-8737-4BE8-A205-F7F63C76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B19-9F77-4BD1-AF49-0A0FA81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3B6-79F1-4F41-B0D8-EA08FFD2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180-8FEC-4656-91CC-7EAA914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1E4-7744-44E0-A300-5865445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931-9C71-4BFE-B86D-10BFB92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51E-C418-4810-AA2B-95CED34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DEA-C158-4F67-AFF3-7CEF264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C86-C1C8-410B-8AD6-EB99C3C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6.04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Ив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9EEC-03CE-44E3-AB3B-232969039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6" descr=""/>
          <p:cNvPicPr/>
          <p:nvPr/>
        </p:nvPicPr>
        <p:blipFill>
          <a:blip r:embed="rId1"/>
          <a:stretch/>
        </p:blipFill>
        <p:spPr>
          <a:xfrm>
            <a:off x="6480" y="648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214280" y="142920"/>
            <a:ext cx="67154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9c3"/>
                </a:solidFill>
                <a:latin typeface="Calibri"/>
                <a:ea typeface="Segoe UI"/>
              </a:rPr>
              <a:t>Interstate Statistical Committee of the Commonwealth Independent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9c3"/>
                </a:solidFill>
                <a:latin typeface="Calibri"/>
                <a:ea typeface="Segoe UI"/>
              </a:rPr>
              <a:t> </a:t>
            </a:r>
            <a:r>
              <a:rPr b="1" lang="en-US" sz="1400" spc="-1" strike="noStrike">
                <a:solidFill>
                  <a:srgbClr val="ddd9c3"/>
                </a:solidFill>
                <a:latin typeface="Calibri"/>
                <a:ea typeface="Segoe UI"/>
              </a:rPr>
              <a:t>(CIS-STAT)</a:t>
            </a:r>
            <a:r>
              <a:rPr b="1" lang="ru-RU" sz="1400" spc="-1" strike="noStrike">
                <a:solidFill>
                  <a:srgbClr val="ddd9c3"/>
                </a:solidFill>
                <a:latin typeface="Calibri"/>
                <a:ea typeface="Segoe U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68256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7"/>
          <p:cNvSpPr/>
          <p:nvPr/>
        </p:nvSpPr>
        <p:spPr>
          <a:xfrm>
            <a:off x="642960" y="1413000"/>
            <a:ext cx="81057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Segoe UI"/>
              </a:rPr>
              <a:t>Census or sample surv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egoe U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Segoe UI"/>
              </a:rPr>
              <a:t>Irina Zbarsk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Segoe UI"/>
              </a:rPr>
              <a:t>CIS-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Segoe UI"/>
              </a:rPr>
              <a:t>Group of Experts on Population and Housing Cens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Segoe UI"/>
              </a:rPr>
              <a:t>Geneva, 24-25 Ma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8244000" y="6237360"/>
            <a:ext cx="442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C06-0265-46B7-BDA0-998F4A206472}" type="slidenum">
              <a:rPr b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1484280"/>
            <a:ext cx="7704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suses will continu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approach can not be, but countries will combine                              sources of information about populati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s themes expand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cal innovatio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388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Заголовок 6"/>
          <p:cNvGrpSpPr/>
          <p:nvPr/>
        </p:nvGrpSpPr>
        <p:grpSpPr>
          <a:xfrm>
            <a:off x="6480" y="6480"/>
            <a:ext cx="9167760" cy="658800"/>
            <a:chOff x="6480" y="6480"/>
            <a:chExt cx="9167760" cy="658800"/>
          </a:xfrm>
        </p:grpSpPr>
        <p:pic>
          <p:nvPicPr>
            <p:cNvPr id="142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600" y="1260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Подзаголовок 7"/>
          <p:cNvGrpSpPr/>
          <p:nvPr/>
        </p:nvGrpSpPr>
        <p:grpSpPr>
          <a:xfrm>
            <a:off x="0" y="6572160"/>
            <a:ext cx="9144000" cy="285840"/>
            <a:chOff x="0" y="6572160"/>
            <a:chExt cx="9144000" cy="285840"/>
          </a:xfrm>
        </p:grpSpPr>
        <p:pic>
          <p:nvPicPr>
            <p:cNvPr id="147" name="Подзаголовок 7" descr=""/>
            <p:cNvPicPr/>
            <p:nvPr/>
          </p:nvPicPr>
          <p:blipFill>
            <a:blip r:embed="rId1"/>
            <a:stretch/>
          </p:blipFill>
          <p:spPr>
            <a:xfrm>
              <a:off x="0" y="6572160"/>
              <a:ext cx="91440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Заголовок 6"/>
          <p:cNvGrpSpPr/>
          <p:nvPr/>
        </p:nvGrpSpPr>
        <p:grpSpPr>
          <a:xfrm>
            <a:off x="-6480" y="6480"/>
            <a:ext cx="9169560" cy="658800"/>
            <a:chOff x="-6480" y="6480"/>
            <a:chExt cx="9169560" cy="658800"/>
          </a:xfrm>
        </p:grpSpPr>
        <p:pic>
          <p:nvPicPr>
            <p:cNvPr id="150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-6480" y="6480"/>
              <a:ext cx="91695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0" y="12600"/>
              <a:ext cx="9156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Содержимое 2"/>
          <p:cNvSpPr/>
          <p:nvPr/>
        </p:nvSpPr>
        <p:spPr>
          <a:xfrm>
            <a:off x="46080" y="98100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ank you for your attention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9" descr=""/>
          <p:cNvPicPr/>
          <p:nvPr/>
        </p:nvPicPr>
        <p:blipFill>
          <a:blip r:embed="rId3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"/>
          <p:cNvPicPr/>
          <p:nvPr/>
        </p:nvPicPr>
        <p:blipFill>
          <a:blip r:embed="rId4"/>
          <a:stretch/>
        </p:blipFill>
        <p:spPr>
          <a:xfrm>
            <a:off x="0" y="0"/>
            <a:ext cx="646200" cy="64620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9"/>
          <p:cNvSpPr/>
          <p:nvPr/>
        </p:nvSpPr>
        <p:spPr>
          <a:xfrm>
            <a:off x="8820000" y="6597720"/>
            <a:ext cx="254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ED6-9951-4D1B-93CF-C426E5A5C36F}" type="slidenum">
              <a:rPr b="0" lang="en-US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55" name="Подзаголовок 7"/>
          <p:cNvGrpSpPr/>
          <p:nvPr/>
        </p:nvGrpSpPr>
        <p:grpSpPr>
          <a:xfrm>
            <a:off x="0" y="6572160"/>
            <a:ext cx="9144000" cy="285840"/>
            <a:chOff x="0" y="6572160"/>
            <a:chExt cx="9144000" cy="285840"/>
          </a:xfrm>
        </p:grpSpPr>
        <p:pic>
          <p:nvPicPr>
            <p:cNvPr id="56" name="Подзаголовок 7" descr=""/>
            <p:cNvPicPr/>
            <p:nvPr/>
          </p:nvPicPr>
          <p:blipFill>
            <a:blip r:embed="rId1"/>
            <a:stretch/>
          </p:blipFill>
          <p:spPr>
            <a:xfrm>
              <a:off x="0" y="6572160"/>
              <a:ext cx="91440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Заголовок 6"/>
          <p:cNvGrpSpPr/>
          <p:nvPr/>
        </p:nvGrpSpPr>
        <p:grpSpPr>
          <a:xfrm>
            <a:off x="0" y="0"/>
            <a:ext cx="9169560" cy="658800"/>
            <a:chOff x="0" y="0"/>
            <a:chExt cx="9169560" cy="658800"/>
          </a:xfrm>
        </p:grpSpPr>
        <p:pic>
          <p:nvPicPr>
            <p:cNvPr id="59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95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80" y="6120"/>
              <a:ext cx="9156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 Overview of the 2010 round of population and housing censuses in the UNECE region. Note by the secretariat. Conference of European Statisticians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9" descr=""/>
          <p:cNvPicPr/>
          <p:nvPr/>
        </p:nvPicPr>
        <p:blipFill>
          <a:blip r:embed="rId3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"/>
          <p:cNvPicPr/>
          <p:nvPr/>
        </p:nvPicPr>
        <p:blipFill>
          <a:blip r:embed="rId4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9"/>
          <p:cNvSpPr/>
          <p:nvPr/>
        </p:nvSpPr>
        <p:spPr>
          <a:xfrm>
            <a:off x="8820000" y="6597720"/>
            <a:ext cx="254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392-E950-4F6C-8A18-7D8819ABE612}" type="slidenum">
              <a:rPr b="0" lang="en-US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Диаграмма 10" descr=""/>
          <p:cNvPicPr/>
          <p:nvPr/>
        </p:nvPicPr>
        <p:blipFill>
          <a:blip r:embed="rId5"/>
          <a:stretch/>
        </p:blipFill>
        <p:spPr>
          <a:xfrm>
            <a:off x="684360" y="981000"/>
            <a:ext cx="78451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Заголовок 6"/>
          <p:cNvGrpSpPr/>
          <p:nvPr/>
        </p:nvGrpSpPr>
        <p:grpSpPr>
          <a:xfrm>
            <a:off x="0" y="0"/>
            <a:ext cx="9169560" cy="658800"/>
            <a:chOff x="0" y="0"/>
            <a:chExt cx="9169560" cy="658800"/>
          </a:xfrm>
        </p:grpSpPr>
        <p:pic>
          <p:nvPicPr>
            <p:cNvPr id="67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95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480" y="6120"/>
              <a:ext cx="9156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  <p:pic>
        <p:nvPicPr>
          <p:cNvPr id="71" name="Диаграмма 6" descr=""/>
          <p:cNvPicPr/>
          <p:nvPr/>
        </p:nvPicPr>
        <p:blipFill>
          <a:blip r:embed="rId4"/>
          <a:stretch/>
        </p:blipFill>
        <p:spPr>
          <a:xfrm>
            <a:off x="1023840" y="944640"/>
            <a:ext cx="7096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Подзаголовок 7"/>
          <p:cNvGrpSpPr/>
          <p:nvPr/>
        </p:nvGrpSpPr>
        <p:grpSpPr>
          <a:xfrm>
            <a:off x="0" y="6572160"/>
            <a:ext cx="9144000" cy="285840"/>
            <a:chOff x="0" y="6572160"/>
            <a:chExt cx="9144000" cy="285840"/>
          </a:xfrm>
        </p:grpSpPr>
        <p:pic>
          <p:nvPicPr>
            <p:cNvPr id="73" name="Подзаголовок 7" descr=""/>
            <p:cNvPicPr/>
            <p:nvPr/>
          </p:nvPicPr>
          <p:blipFill>
            <a:blip r:embed="rId1"/>
            <a:stretch/>
          </p:blipFill>
          <p:spPr>
            <a:xfrm>
              <a:off x="0" y="6572160"/>
              <a:ext cx="91440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Заголовок 6"/>
          <p:cNvGrpSpPr/>
          <p:nvPr/>
        </p:nvGrpSpPr>
        <p:grpSpPr>
          <a:xfrm>
            <a:off x="6480" y="6480"/>
            <a:ext cx="9167760" cy="658800"/>
            <a:chOff x="6480" y="6480"/>
            <a:chExt cx="9167760" cy="658800"/>
          </a:xfrm>
        </p:grpSpPr>
        <p:pic>
          <p:nvPicPr>
            <p:cNvPr id="76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2600" y="1260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sus importance for CIS countri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ation of population size and its distribution in the countrie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particular tim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mary (and in some cases the only) source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 demographic, ethno-linguistic and socio-economic characteristic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y to obtain for the countries smallest territorial units and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 grou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 basis for the development of demographic and soci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 forecasts for the country and regio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rame for conducting sample survey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3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"/>
          <p:cNvPicPr/>
          <p:nvPr/>
        </p:nvPicPr>
        <p:blipFill>
          <a:blip r:embed="rId4"/>
          <a:stretch/>
        </p:blipFill>
        <p:spPr>
          <a:xfrm>
            <a:off x="0" y="0"/>
            <a:ext cx="646200" cy="6462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9"/>
          <p:cNvSpPr/>
          <p:nvPr/>
        </p:nvSpPr>
        <p:spPr>
          <a:xfrm>
            <a:off x="8820000" y="6597720"/>
            <a:ext cx="254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5CC-058F-482B-912F-C25717282ACC}" type="slidenum">
              <a:rPr b="0" lang="en-US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0" descr=""/>
          <p:cNvPicPr/>
          <p:nvPr/>
        </p:nvPicPr>
        <p:blipFill>
          <a:blip r:embed="rId5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Подзаголовок 7"/>
          <p:cNvGrpSpPr/>
          <p:nvPr/>
        </p:nvGrpSpPr>
        <p:grpSpPr>
          <a:xfrm>
            <a:off x="0" y="6572160"/>
            <a:ext cx="9144000" cy="285840"/>
            <a:chOff x="0" y="6572160"/>
            <a:chExt cx="9144000" cy="285840"/>
          </a:xfrm>
        </p:grpSpPr>
        <p:pic>
          <p:nvPicPr>
            <p:cNvPr id="84" name="Подзаголовок 7" descr=""/>
            <p:cNvPicPr/>
            <p:nvPr/>
          </p:nvPicPr>
          <p:blipFill>
            <a:blip r:embed="rId1"/>
            <a:stretch/>
          </p:blipFill>
          <p:spPr>
            <a:xfrm>
              <a:off x="0" y="6572160"/>
              <a:ext cx="91440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Заголовок 6"/>
          <p:cNvGrpSpPr/>
          <p:nvPr/>
        </p:nvGrpSpPr>
        <p:grpSpPr>
          <a:xfrm>
            <a:off x="6480" y="6480"/>
            <a:ext cx="9167760" cy="658800"/>
            <a:chOff x="6480" y="6480"/>
            <a:chExt cx="9167760" cy="658800"/>
          </a:xfrm>
        </p:grpSpPr>
        <p:pic>
          <p:nvPicPr>
            <p:cNvPr id="87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6480" y="648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600" y="1260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Содержимое 2"/>
          <p:cNvSpPr/>
          <p:nvPr/>
        </p:nvSpPr>
        <p:spPr>
          <a:xfrm>
            <a:off x="179280" y="981000"/>
            <a:ext cx="8785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sus difficulti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itude of the population and the complexity of the survey (Azerbaij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arus, Kazakhstan, Russian Federation, Tajikistan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 hiring and training (Azerbaijan, Belarus, Kazakhst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n Federation, Tajikista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 (Armenia, Tajikistan, Ukra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ing of census materials (Kazakhstan, Kyrgyzstan, Tajikist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9" descr=""/>
          <p:cNvPicPr/>
          <p:nvPr/>
        </p:nvPicPr>
        <p:blipFill>
          <a:blip r:embed="rId3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4"/>
          <a:stretch/>
        </p:blipFill>
        <p:spPr>
          <a:xfrm>
            <a:off x="0" y="0"/>
            <a:ext cx="646200" cy="64620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9"/>
          <p:cNvSpPr/>
          <p:nvPr/>
        </p:nvSpPr>
        <p:spPr>
          <a:xfrm>
            <a:off x="8820000" y="6597720"/>
            <a:ext cx="254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76ED-097D-4B3C-8024-39336E9A8CB8}" type="slidenum">
              <a:rPr b="0" lang="en-US" sz="16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4"/>
          <p:cNvSpPr/>
          <p:nvPr/>
        </p:nvSpPr>
        <p:spPr>
          <a:xfrm>
            <a:off x="8172360" y="623736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A53E-3BDC-467A-8E9E-BF1E3D8BADBA}" type="slidenum">
              <a:rPr b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42920" y="91116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Diagram 4"/>
          <p:cNvGrpSpPr/>
          <p:nvPr/>
        </p:nvGrpSpPr>
        <p:grpSpPr>
          <a:xfrm>
            <a:off x="179280" y="1557360"/>
            <a:ext cx="8964000" cy="4824000"/>
            <a:chOff x="179280" y="1557360"/>
            <a:chExt cx="8964000" cy="4824000"/>
          </a:xfrm>
        </p:grpSpPr>
        <p:sp>
          <p:nvSpPr>
            <p:cNvPr id="96" name="_s50182"/>
            <p:cNvSpPr/>
            <p:nvPr/>
          </p:nvSpPr>
          <p:spPr>
            <a:xfrm flipH="1">
              <a:off x="2415240" y="396828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50183"/>
            <p:cNvSpPr/>
            <p:nvPr/>
          </p:nvSpPr>
          <p:spPr>
            <a:xfrm>
              <a:off x="179280" y="3366360"/>
              <a:ext cx="2239920" cy="1205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lity of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leteness of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0184"/>
            <p:cNvSpPr/>
            <p:nvPr/>
          </p:nvSpPr>
          <p:spPr>
            <a:xfrm>
              <a:off x="4659480" y="4570200"/>
              <a:ext cx="0" cy="60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0185"/>
            <p:cNvSpPr/>
            <p:nvPr/>
          </p:nvSpPr>
          <p:spPr>
            <a:xfrm>
              <a:off x="3540960" y="5176080"/>
              <a:ext cx="2239920" cy="120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ed to pro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-effectiv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0186"/>
            <p:cNvSpPr/>
            <p:nvPr/>
          </p:nvSpPr>
          <p:spPr>
            <a:xfrm>
              <a:off x="5778000" y="396828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0187"/>
            <p:cNvSpPr/>
            <p:nvPr/>
          </p:nvSpPr>
          <p:spPr>
            <a:xfrm>
              <a:off x="6903360" y="3366360"/>
              <a:ext cx="2239920" cy="1205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fusal to particip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0188"/>
            <p:cNvSpPr/>
            <p:nvPr/>
          </p:nvSpPr>
          <p:spPr>
            <a:xfrm flipV="1">
              <a:off x="4659480" y="2760840"/>
              <a:ext cx="0" cy="60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0189"/>
            <p:cNvSpPr/>
            <p:nvPr/>
          </p:nvSpPr>
          <p:spPr>
            <a:xfrm>
              <a:off x="3540960" y="1557360"/>
              <a:ext cx="2239920" cy="1205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most pric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stical 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0190"/>
            <p:cNvSpPr/>
            <p:nvPr/>
          </p:nvSpPr>
          <p:spPr>
            <a:xfrm>
              <a:off x="3540960" y="3366360"/>
              <a:ext cx="2239920" cy="1205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Nationa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Statistic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Offic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2700360" y="981000"/>
            <a:ext cx="39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dictions of the C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Заголовок 6"/>
          <p:cNvGrpSpPr/>
          <p:nvPr/>
        </p:nvGrpSpPr>
        <p:grpSpPr>
          <a:xfrm>
            <a:off x="6480" y="6480"/>
            <a:ext cx="9167760" cy="658800"/>
            <a:chOff x="6480" y="6480"/>
            <a:chExt cx="9167760" cy="658800"/>
          </a:xfrm>
        </p:grpSpPr>
        <p:pic>
          <p:nvPicPr>
            <p:cNvPr id="107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600" y="1260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8172360" y="623736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9FB-662C-4AFD-A99E-E00603955AD3}" type="slidenum">
              <a:rPr b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95280" y="1268280"/>
            <a:ext cx="7704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s fased by the 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novations and                            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268000" y="1700280"/>
            <a:ext cx="1295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3203640" y="1773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4284720" y="184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716360" y="1844640"/>
            <a:ext cx="216072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Заголовок 6"/>
          <p:cNvGrpSpPr/>
          <p:nvPr/>
        </p:nvGrpSpPr>
        <p:grpSpPr>
          <a:xfrm>
            <a:off x="0" y="0"/>
            <a:ext cx="9167760" cy="658800"/>
            <a:chOff x="0" y="0"/>
            <a:chExt cx="9167760" cy="658800"/>
          </a:xfrm>
        </p:grpSpPr>
        <p:pic>
          <p:nvPicPr>
            <p:cNvPr id="118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120" y="612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8244000" y="6237360"/>
            <a:ext cx="442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87FF-4BF9-44CE-B86D-A766C8E38255}" type="slidenum">
              <a:rPr b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11280" y="256536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urve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re detailed survey program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ative funds saving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st results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portunity to study facts with high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197000"/>
          <a:ext cx="7848360" cy="647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ENSUS versus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MPLE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AutoShape 13"/>
          <p:cNvSpPr/>
          <p:nvPr/>
        </p:nvSpPr>
        <p:spPr>
          <a:xfrm>
            <a:off x="4284720" y="5805360"/>
            <a:ext cx="1152360" cy="486000"/>
          </a:xfrm>
          <a:prstGeom prst="rightArrow">
            <a:avLst>
              <a:gd name="adj1" fmla="val 50000"/>
              <a:gd name="adj2" fmla="val 592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Заголовок 6"/>
          <p:cNvGrpSpPr/>
          <p:nvPr/>
        </p:nvGrpSpPr>
        <p:grpSpPr>
          <a:xfrm>
            <a:off x="6480" y="6480"/>
            <a:ext cx="9167760" cy="658800"/>
            <a:chOff x="6480" y="6480"/>
            <a:chExt cx="9167760" cy="658800"/>
          </a:xfrm>
        </p:grpSpPr>
        <p:pic>
          <p:nvPicPr>
            <p:cNvPr id="127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600" y="1260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8244000" y="6237360"/>
            <a:ext cx="442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F38-1B91-46D0-81D8-FBE4E4BA01DF}" type="slidenum">
              <a:rPr b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95280" y="1484280"/>
            <a:ext cx="770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>
              <a:lnSpc>
                <a:spcPct val="100000"/>
              </a:lnSpc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ensus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87480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population size and its location within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87480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87480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ing the frame for sample survey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87480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87480" algn="ctr"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Stiglitz-Sen-Fitoussi Commission on the Measurement of      Economic Performance and Social Progr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fied statistical services on sample survey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851280" y="3357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Заголовок 6"/>
          <p:cNvGrpSpPr/>
          <p:nvPr/>
        </p:nvGrpSpPr>
        <p:grpSpPr>
          <a:xfrm>
            <a:off x="0" y="0"/>
            <a:ext cx="9167760" cy="658800"/>
            <a:chOff x="0" y="0"/>
            <a:chExt cx="9167760" cy="658800"/>
          </a:xfrm>
        </p:grpSpPr>
        <p:pic>
          <p:nvPicPr>
            <p:cNvPr id="135" name="Заголовок 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67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20" y="6120"/>
              <a:ext cx="9156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25892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                                   </a:t>
              </a: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CISSTAT</a:t>
              </a:r>
              <a:r>
                <a:rPr b="1" lang="ru-RU" sz="2200" spc="-1" strike="noStrike">
                  <a:solidFill>
                    <a:srgbClr val="000099"/>
                  </a:solidFill>
                  <a:latin typeface="Arial"/>
                </a:rPr>
                <a:t> 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Рисунок 9" descr=""/>
          <p:cNvPicPr/>
          <p:nvPr/>
        </p:nvPicPr>
        <p:blipFill>
          <a:blip r:embed="rId2"/>
          <a:stretch/>
        </p:blipFill>
        <p:spPr>
          <a:xfrm>
            <a:off x="849636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3"/>
          <a:stretch/>
        </p:blipFill>
        <p:spPr>
          <a:xfrm>
            <a:off x="6480" y="6480"/>
            <a:ext cx="6458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9:38:45Z</dcterms:created>
  <dc:creator>Юрий</dc:creator>
  <dc:description/>
  <dc:language>en-US</dc:language>
  <cp:lastModifiedBy>Ирина</cp:lastModifiedBy>
  <dcterms:modified xsi:type="dcterms:W3CDTF">2012-05-16T10:31:42Z</dcterms:modified>
  <cp:revision>99</cp:revision>
  <dc:subject/>
  <dc:title>   МЕЖГОСУДАРСТВЕННЫЙ СТАТИСТИЧЕСКИЙ КОМИТЕТ СОДРУЖЕСТВА НЕЗАВИСИМЫХ ГОСУДАРСТВ</dc:title>
</cp:coreProperties>
</file>