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94C-EE07-4F86-8BF1-104C921F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946-72BA-4F73-9B6D-48CB7AE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D6A-920F-42EB-A042-8B4D64C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378-DA7B-4A73-BFB1-165F8038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305-16E9-4893-AB00-2733BC3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83A-D850-44EC-AFC8-37430EB2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115-D875-43B3-8D5C-7017D90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E43-01AC-4E0F-A03C-FD8BE6D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3B2-E41C-4069-A458-2BD64FC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860-1F5A-480A-9106-176CA6C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AD0-9A67-4490-ABBA-70AB41A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D4A-90D9-4CFD-9E17-9D757CB2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E72D16-ECB4-4350-9973-288608FB5D0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ethodology used for estimating Census tables based on incomplete inform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636640"/>
            <a:ext cx="7559640" cy="34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o-economic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esentation at the Expert Group Meeting on Censuses Using Registers in Geneva (22-23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5280" y="6516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sus tables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360" y="730080"/>
            <a:ext cx="9288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hnicity:</a:t>
            </a:r>
            <a:r>
              <a:rPr b="0" lang="en-GB" sz="2000" spc="-1" strike="noStrike">
                <a:solidFill>
                  <a:srgbClr val="99ff66"/>
                </a:solidFill>
                <a:latin typeface="Arial"/>
              </a:rPr>
              <a:t>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ducation:</a:t>
            </a:r>
            <a:r>
              <a:rPr b="0" lang="en-GB" sz="2000" spc="-1" strike="noStrike">
                <a:solidFill>
                  <a:srgbClr val="99ff66"/>
                </a:solidFill>
                <a:latin typeface="Arial"/>
              </a:rPr>
              <a:t> survey 1 and survey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ployment status: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survey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stimate: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T1: educ x ethnic and  T2: educ x empl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76720" y="2023920"/>
            <a:ext cx="3816000" cy="4471920"/>
            <a:chOff x="4176720" y="2023920"/>
            <a:chExt cx="3816000" cy="4471920"/>
          </a:xfrm>
        </p:grpSpPr>
        <p:grpSp>
          <p:nvGrpSpPr>
            <p:cNvPr id="64" name=""/>
            <p:cNvGrpSpPr/>
            <p:nvPr/>
          </p:nvGrpSpPr>
          <p:grpSpPr>
            <a:xfrm>
              <a:off x="5327640" y="2536560"/>
              <a:ext cx="2449440" cy="1728720"/>
              <a:chOff x="5327640" y="2536560"/>
              <a:chExt cx="2449440" cy="1728720"/>
            </a:xfrm>
          </p:grpSpPr>
          <p:sp>
            <p:nvSpPr>
              <p:cNvPr id="65" name=""/>
              <p:cNvSpPr/>
              <p:nvPr/>
            </p:nvSpPr>
            <p:spPr>
              <a:xfrm>
                <a:off x="5327640" y="2536560"/>
                <a:ext cx="12236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27640" y="3400200"/>
                <a:ext cx="24494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327640" y="253656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27640" y="340020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176720" y="2023920"/>
              <a:ext cx="3816000" cy="4471920"/>
              <a:chOff x="4176720" y="2023920"/>
              <a:chExt cx="3816000" cy="44719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4176720" y="2535120"/>
                <a:ext cx="1152360" cy="3960720"/>
                <a:chOff x="4176720" y="2535120"/>
                <a:chExt cx="1152360" cy="3960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176720" y="2535120"/>
                  <a:ext cx="1152360" cy="3960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76720" y="2535120"/>
                  <a:ext cx="115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Arial"/>
                    </a:rPr>
                    <a:t>Regist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176720" y="2023920"/>
                <a:ext cx="3816000" cy="577800"/>
                <a:chOff x="4176720" y="2023920"/>
                <a:chExt cx="3816000" cy="5778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176720" y="2023920"/>
                  <a:ext cx="1081080" cy="53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ethnic</a:t>
                  </a:r>
                  <a:r>
                    <a:rPr b="1" lang="en-GB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1...k</a:t>
                  </a: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5329080" y="2023920"/>
                  <a:ext cx="2663640" cy="577800"/>
                  <a:chOff x="5329080" y="2023920"/>
                  <a:chExt cx="2663640" cy="577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5329080" y="2023920"/>
                    <a:ext cx="1224000" cy="536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6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duc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Lo</a:t>
                    </a:r>
                    <a:r>
                      <a:rPr b="1" i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H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624360" y="2023920"/>
                    <a:ext cx="1368360" cy="57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6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mploy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1...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78" name=""/>
          <p:cNvGraphicFramePr/>
          <p:nvPr/>
        </p:nvGraphicFramePr>
        <p:xfrm>
          <a:off x="838080" y="3313080"/>
          <a:ext cx="2448000" cy="156348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576360"/>
                <a:gridCol w="611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 x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759280" y="5029200"/>
          <a:ext cx="3241800" cy="1604880"/>
        </p:xfrm>
        <a:graphic>
          <a:graphicData uri="http://schemas.openxmlformats.org/drawingml/2006/table">
            <a:tbl>
              <a:tblPr/>
              <a:tblGrid>
                <a:gridCol w="679680"/>
                <a:gridCol w="904680"/>
                <a:gridCol w="847800"/>
                <a:gridCol w="80964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edu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0" name=""/>
          <p:cNvGrpSpPr/>
          <p:nvPr/>
        </p:nvGrpSpPr>
        <p:grpSpPr>
          <a:xfrm>
            <a:off x="2941560" y="3809880"/>
            <a:ext cx="6049800" cy="2628360"/>
            <a:chOff x="2941560" y="3809880"/>
            <a:chExt cx="6049800" cy="2628360"/>
          </a:xfrm>
        </p:grpSpPr>
        <p:grpSp>
          <p:nvGrpSpPr>
            <p:cNvPr id="81" name=""/>
            <p:cNvGrpSpPr/>
            <p:nvPr/>
          </p:nvGrpSpPr>
          <p:grpSpPr>
            <a:xfrm>
              <a:off x="2941560" y="3809880"/>
              <a:ext cx="351720" cy="922680"/>
              <a:chOff x="2941560" y="3809880"/>
              <a:chExt cx="351720" cy="922680"/>
            </a:xfrm>
          </p:grpSpPr>
          <p:sp>
            <p:nvSpPr>
              <p:cNvPr id="82" name=""/>
              <p:cNvSpPr/>
              <p:nvPr/>
            </p:nvSpPr>
            <p:spPr>
              <a:xfrm>
                <a:off x="2941560" y="380988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41560" y="409320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41560" y="444924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8639640" y="5515560"/>
              <a:ext cx="351720" cy="922680"/>
              <a:chOff x="8639640" y="5515560"/>
              <a:chExt cx="351720" cy="922680"/>
            </a:xfrm>
          </p:grpSpPr>
          <p:sp>
            <p:nvSpPr>
              <p:cNvPr id="86" name=""/>
              <p:cNvSpPr/>
              <p:nvPr/>
            </p:nvSpPr>
            <p:spPr>
              <a:xfrm>
                <a:off x="8639640" y="551556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639640" y="579888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639640" y="6154920"/>
                <a:ext cx="351720" cy="2833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11640" y="3357720"/>
            <a:ext cx="900000" cy="93492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6720" y="2529000"/>
            <a:ext cx="2376360" cy="17287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176720" y="2543040"/>
            <a:ext cx="2806560" cy="1231920"/>
            <a:chOff x="4176720" y="2543040"/>
            <a:chExt cx="2806560" cy="1231920"/>
          </a:xfrm>
        </p:grpSpPr>
        <p:sp>
          <p:nvSpPr>
            <p:cNvPr id="93" name=""/>
            <p:cNvSpPr/>
            <p:nvPr/>
          </p:nvSpPr>
          <p:spPr>
            <a:xfrm>
              <a:off x="4176720" y="25430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27640" y="25430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27640" y="34066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41460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221000"/>
            <a:ext cx="396720" cy="82728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76720" y="3392640"/>
            <a:ext cx="3600360" cy="899640"/>
            <a:chOff x="4176720" y="3392640"/>
            <a:chExt cx="3600360" cy="899640"/>
          </a:xfrm>
        </p:grpSpPr>
        <p:sp>
          <p:nvSpPr>
            <p:cNvPr id="101" name=""/>
            <p:cNvSpPr/>
            <p:nvPr/>
          </p:nvSpPr>
          <p:spPr>
            <a:xfrm>
              <a:off x="4176720" y="3392640"/>
              <a:ext cx="3600360" cy="899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3080" y="3392640"/>
              <a:ext cx="1224000" cy="899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329080" y="3406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rve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29080" y="25495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29080" y="33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14560" y="5410080"/>
            <a:ext cx="1728720" cy="841320"/>
            <a:chOff x="1114560" y="5410080"/>
            <a:chExt cx="1728720" cy="841320"/>
          </a:xfrm>
        </p:grpSpPr>
        <p:sp>
          <p:nvSpPr>
            <p:cNvPr id="107" name=""/>
            <p:cNvSpPr/>
            <p:nvPr/>
          </p:nvSpPr>
          <p:spPr>
            <a:xfrm>
              <a:off x="2268360" y="5867280"/>
              <a:ext cx="5749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24040" y="5867280"/>
              <a:ext cx="54432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14560" y="5867280"/>
              <a:ext cx="60948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68360" y="5410080"/>
              <a:ext cx="57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24040" y="5410080"/>
              <a:ext cx="544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-N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4560" y="54100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thn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4560" y="5410080"/>
              <a:ext cx="172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4560" y="5867280"/>
              <a:ext cx="172872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6251400"/>
              <a:ext cx="172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4040" y="5410080"/>
              <a:ext cx="0" cy="84132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836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43280" y="5410080"/>
              <a:ext cx="0" cy="841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>
            <a:off x="2815920" y="5410080"/>
            <a:ext cx="137484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410-F32A-4F45-8B4B-5B92A730F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22536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ensus tables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990720"/>
            <a:ext cx="7467480" cy="54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peated Weighting (RW) :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tool to achieve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numerical consistency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VRD-softwar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sic principles of RW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stimate table on most reliable source (mostly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source with most records, e.g. register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stimate tables by calibrating on common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margins of the current table and tables already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estimated (auxiliary information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peatedly use of regression estimator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itial weights (e.g. survey weights) calibrated a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minimal as possible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- lower varianc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- no excessive increase of (non-response) bias (as long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s cell size&gt;&gt;0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ach table has its own set of weigh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F67-C58F-4347-9EB4-3AB9E03F1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ensus tables (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357800" y="1765440"/>
            <a:ext cx="3816000" cy="4471920"/>
            <a:chOff x="4357800" y="1765440"/>
            <a:chExt cx="3816000" cy="4471920"/>
          </a:xfrm>
        </p:grpSpPr>
        <p:grpSp>
          <p:nvGrpSpPr>
            <p:cNvPr id="125" name=""/>
            <p:cNvGrpSpPr/>
            <p:nvPr/>
          </p:nvGrpSpPr>
          <p:grpSpPr>
            <a:xfrm>
              <a:off x="5508720" y="2278080"/>
              <a:ext cx="2449440" cy="1728720"/>
              <a:chOff x="5508720" y="2278080"/>
              <a:chExt cx="2449440" cy="1728720"/>
            </a:xfrm>
          </p:grpSpPr>
          <p:sp>
            <p:nvSpPr>
              <p:cNvPr id="126" name=""/>
              <p:cNvSpPr/>
              <p:nvPr/>
            </p:nvSpPr>
            <p:spPr>
              <a:xfrm>
                <a:off x="5508720" y="2278080"/>
                <a:ext cx="12236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08720" y="3141720"/>
                <a:ext cx="2449440" cy="86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8720" y="227808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08720" y="314172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Survey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357800" y="1765440"/>
              <a:ext cx="3816000" cy="4471920"/>
              <a:chOff x="4357800" y="1765440"/>
              <a:chExt cx="3816000" cy="44719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357800" y="2276640"/>
                <a:ext cx="1152360" cy="3960720"/>
                <a:chOff x="4357800" y="2276640"/>
                <a:chExt cx="1152360" cy="3960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57800" y="2276640"/>
                  <a:ext cx="1152360" cy="3960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57800" y="2276640"/>
                  <a:ext cx="115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Arial"/>
                    </a:rPr>
                    <a:t>Regist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357800" y="1765440"/>
                <a:ext cx="3816000" cy="396360"/>
                <a:chOff x="4357800" y="1765440"/>
                <a:chExt cx="3816000" cy="396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357800" y="1765440"/>
                  <a:ext cx="10810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Arial"/>
                    </a:rPr>
                    <a:t>ethnic</a:t>
                  </a:r>
                  <a:r>
                    <a:rPr b="1" lang="en-GB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1...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5510160" y="1765440"/>
                  <a:ext cx="2663640" cy="396360"/>
                  <a:chOff x="5510160" y="1765440"/>
                  <a:chExt cx="2663640" cy="3963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5510160" y="1765440"/>
                    <a:ext cx="122400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duc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Lo</a:t>
                    </a:r>
                    <a:r>
                      <a:rPr b="1" i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H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805440" y="1765440"/>
                    <a:ext cx="136836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mploy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r>
                      <a:rPr b="1" lang="en-GB" sz="16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r>
                      <a:rPr b="1" lang="en-GB" sz="16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16200000">
            <a:off x="3053520" y="3653640"/>
            <a:ext cx="2093760" cy="349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844360" y="2239920"/>
            <a:ext cx="3889800" cy="1728720"/>
            <a:chOff x="2844360" y="2239920"/>
            <a:chExt cx="3889800" cy="1728720"/>
          </a:xfrm>
        </p:grpSpPr>
        <p:sp>
          <p:nvSpPr>
            <p:cNvPr id="142" name=""/>
            <p:cNvSpPr/>
            <p:nvPr/>
          </p:nvSpPr>
          <p:spPr>
            <a:xfrm flipH="1">
              <a:off x="2844360" y="2815920"/>
              <a:ext cx="1513080" cy="28908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7800" y="2239920"/>
              <a:ext cx="2376360" cy="17287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57800" y="2270160"/>
            <a:ext cx="2806560" cy="1231920"/>
            <a:chOff x="4357800" y="2270160"/>
            <a:chExt cx="2806560" cy="1231920"/>
          </a:xfrm>
        </p:grpSpPr>
        <p:sp>
          <p:nvSpPr>
            <p:cNvPr id="145" name=""/>
            <p:cNvSpPr/>
            <p:nvPr/>
          </p:nvSpPr>
          <p:spPr>
            <a:xfrm>
              <a:off x="4357800" y="22701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8720" y="22701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8720" y="3133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rvey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4160" y="3141720"/>
            <a:ext cx="12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56000" y="3141720"/>
            <a:ext cx="3600360" cy="1582560"/>
            <a:chOff x="4356000" y="3141720"/>
            <a:chExt cx="3600360" cy="1582560"/>
          </a:xfrm>
        </p:grpSpPr>
        <p:sp>
          <p:nvSpPr>
            <p:cNvPr id="152" name=""/>
            <p:cNvSpPr/>
            <p:nvPr/>
          </p:nvSpPr>
          <p:spPr>
            <a:xfrm>
              <a:off x="6948360" y="4005360"/>
              <a:ext cx="431640" cy="7189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3141720"/>
              <a:ext cx="360036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2360" y="3141720"/>
              <a:ext cx="1224000" cy="86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510160" y="3133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rve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08720" y="2133360"/>
            <a:ext cx="1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08720" y="3141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18160" y="5877000"/>
            <a:ext cx="503280" cy="136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2560" y="3213000"/>
          <a:ext cx="2341800" cy="1571760"/>
        </p:xfrm>
        <a:graphic>
          <a:graphicData uri="http://schemas.openxmlformats.org/drawingml/2006/table">
            <a:tbl>
              <a:tblPr/>
              <a:tblGrid>
                <a:gridCol w="662400"/>
                <a:gridCol w="508320"/>
                <a:gridCol w="585360"/>
                <a:gridCol w="585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 x 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59280" y="4834080"/>
          <a:ext cx="3024360" cy="1563480"/>
        </p:xfrm>
        <a:graphic>
          <a:graphicData uri="http://schemas.openxmlformats.org/drawingml/2006/table">
            <a:tbl>
              <a:tblPr/>
              <a:tblGrid>
                <a:gridCol w="676440"/>
                <a:gridCol w="871560"/>
                <a:gridCol w="871560"/>
                <a:gridCol w="60480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edu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employ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</a:t>
                      </a:r>
                      <a:r>
                        <a:rPr b="0" lang="en-GB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4834080"/>
          <a:ext cx="3060720" cy="1584360"/>
        </p:xfrm>
        <a:graphic>
          <a:graphicData uri="http://schemas.openxmlformats.org/drawingml/2006/table">
            <a:tbl>
              <a:tblPr/>
              <a:tblGrid>
                <a:gridCol w="684360"/>
                <a:gridCol w="900000"/>
                <a:gridCol w="863640"/>
                <a:gridCol w="6127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834080"/>
          <a:ext cx="3060720" cy="1582560"/>
        </p:xfrm>
        <a:graphic>
          <a:graphicData uri="http://schemas.openxmlformats.org/drawingml/2006/table">
            <a:tbl>
              <a:tblPr/>
              <a:tblGrid>
                <a:gridCol w="711360"/>
                <a:gridCol w="873000"/>
                <a:gridCol w="863640"/>
                <a:gridCol w="6127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117440" y="5445000"/>
          <a:ext cx="1729080" cy="841680"/>
        </p:xfrm>
        <a:graphic>
          <a:graphicData uri="http://schemas.openxmlformats.org/drawingml/2006/table">
            <a:tbl>
              <a:tblPr/>
              <a:tblGrid>
                <a:gridCol w="601920"/>
                <a:gridCol w="550800"/>
                <a:gridCol w="576360"/>
              </a:tblGrid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85800" y="3200400"/>
          <a:ext cx="2340000" cy="1600200"/>
        </p:xfrm>
        <a:graphic>
          <a:graphicData uri="http://schemas.openxmlformats.org/drawingml/2006/table">
            <a:tbl>
              <a:tblPr/>
              <a:tblGrid>
                <a:gridCol w="582480"/>
                <a:gridCol w="568440"/>
                <a:gridCol w="612720"/>
                <a:gridCol w="5763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85800" y="3200400"/>
          <a:ext cx="2341440" cy="1584360"/>
        </p:xfrm>
        <a:graphic>
          <a:graphicData uri="http://schemas.openxmlformats.org/drawingml/2006/table">
            <a:tbl>
              <a:tblPr/>
              <a:tblGrid>
                <a:gridCol w="574560"/>
                <a:gridCol w="576000"/>
                <a:gridCol w="614520"/>
                <a:gridCol w="576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14560" y="5445000"/>
          <a:ext cx="1728720" cy="841320"/>
        </p:xfrm>
        <a:graphic>
          <a:graphicData uri="http://schemas.openxmlformats.org/drawingml/2006/table">
            <a:tbl>
              <a:tblPr/>
              <a:tblGrid>
                <a:gridCol w="609480"/>
                <a:gridCol w="544320"/>
                <a:gridCol w="574920"/>
              </a:tblGrid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-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84360" y="3179880"/>
          <a:ext cx="2340000" cy="1620720"/>
        </p:xfrm>
        <a:graphic>
          <a:graphicData uri="http://schemas.openxmlformats.org/drawingml/2006/table">
            <a:tbl>
              <a:tblPr/>
              <a:tblGrid>
                <a:gridCol w="601560"/>
                <a:gridCol w="550800"/>
                <a:gridCol w="611280"/>
                <a:gridCol w="5763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84360" y="907920"/>
            <a:ext cx="6337080" cy="4563720"/>
            <a:chOff x="684360" y="907920"/>
            <a:chExt cx="6337080" cy="4563720"/>
          </a:xfrm>
        </p:grpSpPr>
        <p:sp>
          <p:nvSpPr>
            <p:cNvPr id="169" name=""/>
            <p:cNvSpPr/>
            <p:nvPr/>
          </p:nvSpPr>
          <p:spPr>
            <a:xfrm>
              <a:off x="3925800" y="4941720"/>
              <a:ext cx="43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6360" y="907920"/>
              <a:ext cx="43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4360" y="270828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4720" y="501336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89800" y="4340160"/>
              <a:ext cx="43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124000" y="981000"/>
            <a:ext cx="49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ibrate on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ethn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then on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educ x eth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842920" y="5192640"/>
            <a:ext cx="1584360" cy="684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EE0-5AEE-45EE-9AE5-EE2F231093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arison with other countrie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5280" y="155736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raditional Census (complete enumeration):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Most countries in the world (including the UK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the U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raditional Census (partial enumeration) and 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ome countries (e.g. Germany, Poland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witzerland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olling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rance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ully or largely register-based (Virtual)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our Nordic countries (Norway, Sweden, Finl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nd Denmark), the Netherlands, Austria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loveni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621-BF74-4B6B-9B66-AB92DA28B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55280" y="22500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arison with other year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27280" y="1305000"/>
          <a:ext cx="716580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1305000"/>
                    <a:ext cx="71658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FEA-C65A-453C-A9E7-A222EB9E6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45164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eliminary outcom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7524720" cy="12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Occupation (based on LFS data only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evel of education (based on LFS / examination register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urrent Activity Status: now based on registers onl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7164360" cy="37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ECD-CFE5-459E-A240-238916D4A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clusions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55280" y="1196640"/>
            <a:ext cx="748836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 Dutch Virtual Census of 2011: yes, we can!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icro integration remains importa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peated weighting will be appli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latively cheap (small cost per inhabitant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Quick (short production tim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ependent on register holders (statistics is not their priority), timeliness of registers, concepts and population of registers may differ from what is needed (keep good relations with the register holders!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ublication of small subpopulations sometimes difficult or even impossible because of limited inform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BFB-ABD9-44C7-B3FD-8225373D8E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clusion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524720" cy="50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 aspect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Less attention for the results of a virtual census than for a traditional on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ifficult to keep knowledge and software up-to-date (Census is running every ten year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normous international interest in virtual censu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 lot of interesting census work in the coming years!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08D-5FEA-4CE8-9B6A-CB6D10E46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ime for questions and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Thank you for your attention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107-3BC0-4695-8A16-71BB2DFF8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52472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304640"/>
            <a:ext cx="752472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History of the Dutch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Dutch Census of 2011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ta sourc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sources: micro linkag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sources: micro integr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ensus tab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arison with other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arison with other yea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eliminary outcom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27E-EFDF-4237-85D3-BBE4C91AE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istory of the Dutch Cens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218960"/>
            <a:ext cx="752472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ITION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stry of Home Affair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29, 1839, 1849, 1859, 1869, 1879 and 1889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tatistics Netherland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99, 1909, 1920, 1930, 1947, 1960 and 1971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9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Unwillingness (nonresponse) and reduction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expenses </a:t>
            </a:r>
            <a:r>
              <a:rPr b="1" lang="en-GB" sz="2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no more Traditional Census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TERNATIVE: VIRTU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81 and 1991: Population Register and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evelopment 90’s: more registers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2001: integrated set of registers and surveys, SSD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56F-40CA-439E-B864-BE1816141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44136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Dutch Census of 201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76280"/>
            <a:ext cx="7524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based on the Social Statistical Database (SSD) which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is a set of integrated microdata files with coherent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detailed demographic and socio-economic data 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persons, households, jobs and benefit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has no remaining internal conflicting inform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part of the European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urostat: coordinator of EU, accession and EFTA  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untries in the European Census Rou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ensus Table Programme, every 10 yea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cial statistics in the Netherlands develop in the direction of a permanent Virtual Census to be able to produce: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ore crosstables over different domai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ore longitudinal inform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ore flexible policy relevant outpu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310-E029-4E51-B318-F391461D3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75920"/>
            <a:ext cx="752472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opulation Register (PR)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 illegal people excluded, homeless counted at last known addres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Jobs file, containing all employees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elf-employed file, containing all self-employe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Fiscal administr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ocial Security administration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ensions and life insurance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Housing register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 on Employment and Earnings (SEE) stoppe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Labour Force Survey data around Census Day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Housing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BC0-2C06-4B4F-98E2-7A442A8CB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55640" y="368280"/>
            <a:ext cx="7488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bining sources: micro link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557360"/>
            <a:ext cx="7524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: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gister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itizen Service Number, unique</a:t>
            </a:r>
            <a:br>
              <a:rPr sz="20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s   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ex, date of birth,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ddress (postal code and house number)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 replaced by RIN-person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strategy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Optimizing number of matche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mizing number of mismatches and missed match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E94-0791-4A15-88B9-2704A98572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48836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bining sources: micro integr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19280" y="148392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5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llecting data from several sources 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ore comprehensive and coherent information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on aspects of a person’s life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3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are sourc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coverage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 - conflicting information (reliability of sources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ration ru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check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adjustment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imputation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al use of inform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quality improv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job period vs. benefit perio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CC0-D166-4DD4-9684-999139677E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ensus tables (1)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219320"/>
            <a:ext cx="7524720" cy="52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liminary work before tabulating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ensus Programme definitions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not always clear and unambiguous, e.g. economic activit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riority rul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characteristics of) main job (highest wag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mployee or employer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(partially) unemploy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attending educ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job or retir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engaged in family duties or retir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ge restrictio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bulating register variable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imply straightforward counting from SSD register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ata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BB-A59C-44C9-902D-17CD67C05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ensus table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9280" y="1304640"/>
            <a:ext cx="752472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bulating survey (and register) variab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8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ass imputation?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reproducible results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’s: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danger of oddities in estimates (e.g. highly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         educated baby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Traditional Weighting?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imple, reproducible results (if same microdata and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weight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’s: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no overall numerical consistency between survey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and register estimat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mand for overall numerical consistency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one figure for one phenomenon ide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ll tables based on different sources (e.g. surveys)  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should be mutually consist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1B6-28F5-459A-AA30-E3DD04049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5-11T12:34:26Z</dcterms:modified>
  <cp:revision>328</cp:revision>
  <dc:subject/>
  <dc:title>Combined use of data</dc:title>
</cp:coreProperties>
</file>