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8a618"/>
                </a:solidFill>
                <a:latin typeface="Verdana"/>
              </a:rPr>
              <a:t>Click to move the slide</a:t>
            </a:r>
            <a:endParaRPr b="0" lang="en-US" sz="34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7509-5878-424B-8DB2-2195CEF05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C3DE-1FE6-4FC0-B0F3-62254CDCC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F223-FE11-4AB2-B7E7-F3A59E273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8FC-7D88-485E-A882-E94315BD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03440" y="418716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1B0-FE90-4346-97B9-5D9B2DDE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5572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CC0-CCF0-4886-8D08-1E9B5E5A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52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524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44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52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524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5EA-D568-453A-A560-B315848E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03440" y="1987200"/>
            <a:ext cx="7323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7323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000" y="374400"/>
            <a:ext cx="801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03440" y="1987200"/>
            <a:ext cx="7323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E2C-3DC2-418E-A04A-957F37CB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5572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3440" y="418716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5572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52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55240" y="198720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0344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52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55240" y="4187160"/>
            <a:ext cx="235764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7323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2C9-C55D-4224-B101-AB7FCA50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E4F-99B7-4D43-977C-3460BD62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620-8CE0-4B3B-BBD2-780153C0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000" y="374400"/>
            <a:ext cx="8018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776-CDE4-43B4-A856-B4563B63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C7A-6843-48F2-BB93-3A47D3DC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55720" y="418716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7DD-334F-4B93-A76B-CBC11273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0344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5720" y="1987200"/>
            <a:ext cx="357336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03440" y="4187160"/>
            <a:ext cx="73231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AEA-0AA3-4F03-A981-9B460E1A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a618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3440" y="1987200"/>
            <a:ext cx="7323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1" marL="276120" indent="-274680">
              <a:lnSpc>
                <a:spcPts val="2900"/>
              </a:lnSpc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2" marL="542880" indent="-2649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3" marL="819000" indent="-27432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4" marL="1085760" indent="-2649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5" marL="1085760" indent="-2649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6" marL="1085760" indent="-2649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32160" y="6400440"/>
            <a:ext cx="14554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5d5d5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d5d5d"/>
                </a:solidFill>
                <a:latin typeface="Verdana"/>
              </a:rPr>
              <a:t>May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4000" y="6400440"/>
            <a:ext cx="380988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d5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5d5d"/>
                </a:solidFill>
                <a:latin typeface="Verdana"/>
              </a:rPr>
              <a:t>Federal Statistical Office, Germ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169120" y="5668920"/>
            <a:ext cx="974880" cy="1189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48400" y="6400440"/>
            <a:ext cx="57816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d5d5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d5d5d"/>
                </a:solidFill>
                <a:latin typeface="Verdana"/>
              </a:rPr>
              <a:t>- </a:t>
            </a:r>
            <a:fld id="{189690B8-4508-488C-80C1-0286BEB5BA03}" type="slidenum">
              <a:rPr b="0" lang="en-US" sz="10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5d5d5d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4360" y="1698480"/>
            <a:ext cx="8026200" cy="0"/>
          </a:xfrm>
          <a:prstGeom prst="line">
            <a:avLst/>
          </a:prstGeom>
          <a:ln w="28440">
            <a:solidFill>
              <a:srgbClr val="58a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67360" y="5956200"/>
            <a:ext cx="182268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7840" y="1741320"/>
            <a:ext cx="553896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8a618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d5d5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d5d5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920" y="0"/>
            <a:ext cx="2598840" cy="6858000"/>
          </a:xfrm>
          <a:prstGeom prst="rect">
            <a:avLst/>
          </a:prstGeom>
          <a:solidFill>
            <a:srgbClr val="58a6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8a618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58a618"/>
              </a:solidFill>
              <a:latin typeface="Verdana"/>
            </a:endParaRPr>
          </a:p>
          <a:p>
            <a:pPr lvl="1" marL="144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lvl="2" marL="243000" indent="34920" algn="ctr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d5d5d"/>
                </a:solidFill>
                <a:latin typeface="Verdana"/>
              </a:rPr>
              <a:t>Third Outline Level</a:t>
            </a:r>
            <a:endParaRPr b="0" lang="en-US" sz="1700" spc="-1" strike="noStrike">
              <a:solidFill>
                <a:srgbClr val="5d5d5d"/>
              </a:solidFill>
              <a:latin typeface="Verdana"/>
            </a:endParaRPr>
          </a:p>
          <a:p>
            <a:pPr lvl="3" marL="458640" indent="86040" algn="ctr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d5d5d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5d5d5d"/>
              </a:solidFill>
              <a:latin typeface="Verdana"/>
            </a:endParaRPr>
          </a:p>
          <a:p>
            <a:pPr lvl="4" marL="696960" indent="123840" algn="ctr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d5d5d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5d5d5d"/>
              </a:solidFill>
              <a:latin typeface="Verdana"/>
            </a:endParaRPr>
          </a:p>
          <a:p>
            <a:pPr lvl="5" marL="696960" indent="123840">
              <a:spcBef>
                <a:spcPts val="425"/>
              </a:spcBef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d5d5d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5d5d5d"/>
              </a:solidFill>
              <a:latin typeface="Verdana"/>
            </a:endParaRPr>
          </a:p>
          <a:p>
            <a:pPr lvl="6" marL="696960" indent="123840">
              <a:spcBef>
                <a:spcPts val="425"/>
              </a:spcBef>
              <a:buClr>
                <a:srgbClr val="5d5d5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d5d5d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5d5d5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47840" y="1741320"/>
            <a:ext cx="553896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8a618"/>
                </a:solidFill>
                <a:latin typeface="Verdana"/>
              </a:rPr>
              <a:t>Session 3</a:t>
            </a:r>
            <a:r>
              <a:rPr b="0" lang="en-US" sz="3000" spc="-1" strike="noStrike">
                <a:solidFill>
                  <a:srgbClr val="58a618"/>
                </a:solidFill>
                <a:latin typeface="Verdana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58a618"/>
                </a:solidFill>
                <a:latin typeface="Verdana"/>
              </a:rPr>
              <a:t>The register of addresses and buildings – </a:t>
            </a:r>
            <a:br>
              <a:rPr sz="3000"/>
            </a:br>
            <a:r>
              <a:rPr b="0" lang="en-US" sz="3000" spc="-1" strike="noStrike">
                <a:solidFill>
                  <a:srgbClr val="58a618"/>
                </a:solidFill>
                <a:latin typeface="Verdana"/>
              </a:rPr>
              <a:t>a combination of different registers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147840" y="3743280"/>
            <a:ext cx="555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8a618"/>
                </a:solidFill>
                <a:latin typeface="Verdana"/>
              </a:rPr>
              <a:t>UNECE-Eurostat Expert Group Meeting</a:t>
            </a:r>
            <a:endParaRPr b="0" lang="en-US" sz="1800" spc="-1" strike="noStrike">
              <a:solidFill>
                <a:srgbClr val="58a618"/>
              </a:solidFill>
              <a:latin typeface="Verdana"/>
            </a:endParaRPr>
          </a:p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8a618"/>
                </a:solidFill>
                <a:latin typeface="Verdana"/>
              </a:rPr>
              <a:t>on Censuses Using Registers</a:t>
            </a:r>
            <a:endParaRPr b="0" lang="en-US" sz="1800" spc="-1" strike="noStrike">
              <a:solidFill>
                <a:srgbClr val="58a618"/>
              </a:solidFill>
              <a:latin typeface="Verdana"/>
            </a:endParaRPr>
          </a:p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a618"/>
              </a:solidFill>
              <a:latin typeface="Verdana"/>
            </a:endParaRPr>
          </a:p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8a618"/>
                </a:solidFill>
                <a:latin typeface="Verdana"/>
              </a:rPr>
              <a:t>Susanne Stiglmayr, Census Division</a:t>
            </a:r>
            <a:br>
              <a:rPr sz="1800"/>
            </a:br>
            <a:r>
              <a:rPr b="0" lang="de-DE" sz="1800" spc="-1" strike="noStrike">
                <a:solidFill>
                  <a:srgbClr val="58a618"/>
                </a:solidFill>
                <a:latin typeface="Verdana"/>
              </a:rPr>
              <a:t>Federal Statistical Office of Germany</a:t>
            </a:r>
            <a:endParaRPr b="0" lang="en-US" sz="18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4410000"/>
            <a:ext cx="5554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a618"/>
                </a:solidFill>
                <a:latin typeface="Verdana"/>
              </a:rPr>
              <a:t>Census 2011: overview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525840" y="359892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98920" y="3778200"/>
            <a:ext cx="1655640" cy="827280"/>
          </a:xfrm>
          <a:prstGeom prst="flowChartMagneticDisk">
            <a:avLst/>
          </a:prstGeom>
          <a:solidFill>
            <a:srgbClr val="bde18a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6000" bIns="756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d5d5d"/>
                </a:solidFill>
                <a:latin typeface="MetaNormalLF-Roman"/>
              </a:rPr>
              <a:t>Linking and</a:t>
            </a:r>
            <a:br>
              <a:rPr sz="1200"/>
            </a:br>
            <a:r>
              <a:rPr b="0" lang="de-DE" sz="1200" spc="-1" strike="noStrike">
                <a:solidFill>
                  <a:srgbClr val="5d5d5d"/>
                </a:solidFill>
                <a:latin typeface="MetaNormalLF-Roman"/>
              </a:rPr>
              <a:t>checks for multiple</a:t>
            </a:r>
            <a:br>
              <a:rPr sz="1200"/>
            </a:br>
            <a:r>
              <a:rPr b="0" lang="de-DE" sz="1200" spc="-1" strike="noStrike">
                <a:solidFill>
                  <a:srgbClr val="5d5d5d"/>
                </a:solidFill>
                <a:latin typeface="MetaNormalLF-Roman"/>
              </a:rPr>
              <a:t>registration</a:t>
            </a:r>
            <a:endParaRPr b="0" lang="en-US" sz="1200" spc="-1" strike="noStrike">
              <a:solidFill>
                <a:srgbClr val="5d5d5d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317480" y="3633840"/>
            <a:ext cx="3528000" cy="2368440"/>
            <a:chOff x="4317480" y="3633840"/>
            <a:chExt cx="3528000" cy="2368440"/>
          </a:xfrm>
        </p:grpSpPr>
        <p:sp>
          <p:nvSpPr>
            <p:cNvPr id="98" name=""/>
            <p:cNvSpPr/>
            <p:nvPr/>
          </p:nvSpPr>
          <p:spPr>
            <a:xfrm>
              <a:off x="7845480" y="3633840"/>
              <a:ext cx="0" cy="23684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0" bIns="7560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317480" y="5973840"/>
              <a:ext cx="352764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-75600" bIns="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317840" y="4471920"/>
            <a:ext cx="2897280" cy="1382760"/>
            <a:chOff x="4317840" y="4471920"/>
            <a:chExt cx="2897280" cy="1382760"/>
          </a:xfrm>
        </p:grpSpPr>
        <p:sp>
          <p:nvSpPr>
            <p:cNvPr id="101" name=""/>
            <p:cNvSpPr/>
            <p:nvPr/>
          </p:nvSpPr>
          <p:spPr>
            <a:xfrm>
              <a:off x="7197840" y="4471920"/>
              <a:ext cx="0" cy="138276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0" bIns="7560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317840" y="5829480"/>
              <a:ext cx="289728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-75600" bIns="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409840" y="5505480"/>
            <a:ext cx="2232000" cy="611280"/>
            <a:chOff x="2409840" y="5505480"/>
            <a:chExt cx="2232000" cy="611280"/>
          </a:xfrm>
        </p:grpSpPr>
        <p:sp>
          <p:nvSpPr>
            <p:cNvPr id="104" name=""/>
            <p:cNvSpPr/>
            <p:nvPr/>
          </p:nvSpPr>
          <p:spPr>
            <a:xfrm>
              <a:off x="3525840" y="5505480"/>
              <a:ext cx="0" cy="1792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0" bIns="7560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09840" y="5684760"/>
              <a:ext cx="2232000" cy="432000"/>
            </a:xfrm>
            <a:prstGeom prst="flowChartOnlineStorage">
              <a:avLst/>
            </a:prstGeom>
            <a:gradFill rotWithShape="0">
              <a:gsLst>
                <a:gs pos="0">
                  <a:srgbClr val="ffcc33"/>
                </a:gs>
                <a:gs pos="100000">
                  <a:srgbClr val="cdafd1"/>
                </a:gs>
              </a:gsLst>
              <a:lin ang="5400000"/>
            </a:gradFill>
            <a:ln w="9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d5d5d"/>
                  </a:solidFill>
                  <a:latin typeface="MetaNormalLF-Roman"/>
                </a:rPr>
                <a:t>Result: data records</a:t>
              </a:r>
              <a:br>
                <a:rPr sz="1200"/>
              </a:br>
              <a:r>
                <a:rPr b="1" lang="de-DE" sz="1200" spc="-1" strike="noStrike">
                  <a:solidFill>
                    <a:srgbClr val="5d5d5d"/>
                  </a:solidFill>
                  <a:latin typeface="MetaNormalLF-Roman"/>
                </a:rPr>
                <a:t>typical of the census</a:t>
              </a:r>
              <a:r>
                <a:rPr b="1" lang="de-DE" sz="1300" spc="-1" strike="noStrike">
                  <a:solidFill>
                    <a:srgbClr val="5d5d5d"/>
                  </a:solidFill>
                  <a:latin typeface="MetaNormalLF-Roman"/>
                </a:rPr>
                <a:t> </a:t>
              </a:r>
              <a:endParaRPr b="0" lang="en-US" sz="13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016760" y="2878200"/>
            <a:ext cx="1655640" cy="826920"/>
          </a:xfrm>
          <a:prstGeom prst="flowChartMultidocument">
            <a:avLst/>
          </a:prstGeom>
          <a:solidFill>
            <a:srgbClr val="cdafd1"/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5d5d5d"/>
                </a:solidFill>
                <a:latin typeface="MetaNormalLF-Roman"/>
              </a:rPr>
              <a:t>Data collection for special facilities </a:t>
            </a:r>
            <a:br>
              <a:rPr sz="1200"/>
            </a:br>
            <a:r>
              <a:rPr b="0" lang="de-DE" sz="1000" spc="-1" strike="noStrike">
                <a:solidFill>
                  <a:srgbClr val="5d5d5d"/>
                </a:solidFill>
                <a:latin typeface="MetaNormalLF-Roman"/>
              </a:rPr>
              <a:t>2 million persons</a:t>
            </a:r>
            <a:endParaRPr b="0" lang="en-US" sz="10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37120" y="3778200"/>
            <a:ext cx="1656000" cy="827280"/>
          </a:xfrm>
          <a:prstGeom prst="flowChartMultidocument">
            <a:avLst/>
          </a:prstGeom>
          <a:solidFill>
            <a:srgbClr val="cdafd1"/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5d5d5d"/>
                </a:solidFill>
                <a:latin typeface="MetaNormalLF-Roman"/>
              </a:rPr>
              <a:t>Supplementary</a:t>
            </a:r>
            <a:br>
              <a:rPr sz="1200"/>
            </a:br>
            <a:r>
              <a:rPr b="1" lang="de-DE" sz="1200" spc="-1" strike="noStrike">
                <a:solidFill>
                  <a:srgbClr val="5d5d5d"/>
                </a:solidFill>
                <a:latin typeface="MetaNormalLF-Roman"/>
              </a:rPr>
              <a:t>sample survey</a:t>
            </a:r>
            <a:endParaRPr b="0" lang="en-US" sz="1200" spc="-1" strike="noStrike">
              <a:solidFill>
                <a:srgbClr val="5d5d5d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d5d5d"/>
                </a:solidFill>
                <a:latin typeface="MetaNormalLF-Roman"/>
              </a:rPr>
              <a:t>max. 10% of the</a:t>
            </a:r>
            <a:br>
              <a:rPr sz="1000"/>
            </a:br>
            <a:r>
              <a:rPr b="0" lang="de-DE" sz="1000" spc="-1" strike="noStrike">
                <a:solidFill>
                  <a:srgbClr val="5d5d5d"/>
                </a:solidFill>
                <a:latin typeface="MetaNormalLF-Roman"/>
              </a:rPr>
              <a:t>population</a:t>
            </a:r>
            <a:endParaRPr b="0" lang="en-US" sz="1000" spc="-1" strike="noStrike">
              <a:solidFill>
                <a:srgbClr val="5d5d5d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640" y="2878200"/>
            <a:ext cx="1656000" cy="718920"/>
            <a:chOff x="539640" y="2878200"/>
            <a:chExt cx="1656000" cy="718920"/>
          </a:xfrm>
        </p:grpSpPr>
        <p:sp>
          <p:nvSpPr>
            <p:cNvPr id="109" name=""/>
            <p:cNvSpPr/>
            <p:nvPr/>
          </p:nvSpPr>
          <p:spPr>
            <a:xfrm>
              <a:off x="539640" y="2878200"/>
              <a:ext cx="1656000" cy="718920"/>
            </a:xfrm>
            <a:prstGeom prst="flowChartMagneticTape">
              <a:avLst/>
            </a:prstGeom>
            <a:solidFill>
              <a:srgbClr val="bde18a"/>
            </a:solidFill>
            <a:ln w="9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9640" y="2878200"/>
              <a:ext cx="1582920" cy="718920"/>
            </a:xfrm>
            <a:prstGeom prst="flowChartMagneticTape">
              <a:avLst/>
            </a:prstGeom>
            <a:solidFill>
              <a:srgbClr val="bde18a"/>
            </a:solidFill>
            <a:ln w="9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d5d5d"/>
                  </a:solidFill>
                  <a:latin typeface="MetaNormalLF-Roman"/>
                </a:rPr>
                <a:t>Employment registers</a:t>
              </a:r>
              <a:endParaRPr b="0" lang="en-US" sz="1200" spc="-1" strike="noStrike">
                <a:solidFill>
                  <a:srgbClr val="5d5d5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5d5d5d"/>
                  </a:solidFill>
                  <a:latin typeface="MetaNormalLF-Roman"/>
                </a:rPr>
                <a:t>35 million data records</a:t>
              </a:r>
              <a:endParaRPr b="0" lang="en-US" sz="10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98920" y="2878200"/>
            <a:ext cx="1703160" cy="718920"/>
            <a:chOff x="2698920" y="2878200"/>
            <a:chExt cx="1703160" cy="718920"/>
          </a:xfrm>
        </p:grpSpPr>
        <p:sp>
          <p:nvSpPr>
            <p:cNvPr id="112" name=""/>
            <p:cNvSpPr/>
            <p:nvPr/>
          </p:nvSpPr>
          <p:spPr>
            <a:xfrm>
              <a:off x="2746440" y="2878200"/>
              <a:ext cx="1655640" cy="718920"/>
            </a:xfrm>
            <a:prstGeom prst="flowChartMagneticTape">
              <a:avLst/>
            </a:prstGeom>
            <a:solidFill>
              <a:srgbClr val="bde18a"/>
            </a:solidFill>
            <a:ln w="9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920" y="2878200"/>
              <a:ext cx="1582560" cy="718920"/>
            </a:xfrm>
            <a:prstGeom prst="flowChartMagneticTape">
              <a:avLst/>
            </a:prstGeom>
            <a:solidFill>
              <a:srgbClr val="bde18a"/>
            </a:solidFill>
            <a:ln w="9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d5d5d"/>
                  </a:solidFill>
                  <a:latin typeface="MetaNormalLF-Roman"/>
                </a:rPr>
                <a:t>Population registers</a:t>
              </a:r>
              <a:endParaRPr b="0" lang="en-US" sz="1200" spc="-1" strike="noStrike">
                <a:solidFill>
                  <a:srgbClr val="5d5d5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5d5d5d"/>
                  </a:solidFill>
                  <a:latin typeface="MetaNormalLF-Roman"/>
                </a:rPr>
                <a:t>88 million data records</a:t>
              </a:r>
              <a:endParaRPr b="0" lang="en-US" sz="10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857840" y="2878200"/>
            <a:ext cx="1655640" cy="826920"/>
          </a:xfrm>
          <a:prstGeom prst="flowChartMultidocument">
            <a:avLst/>
          </a:prstGeom>
          <a:solidFill>
            <a:srgbClr val="cdafd1"/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5d5d5d"/>
                </a:solidFill>
                <a:latin typeface="MetaNormalLF-Roman"/>
              </a:rPr>
              <a:t>Census of buildings</a:t>
            </a:r>
            <a:br>
              <a:rPr sz="1200"/>
            </a:br>
            <a:r>
              <a:rPr b="1" lang="de-DE" sz="1200" spc="-1" strike="noStrike">
                <a:solidFill>
                  <a:srgbClr val="5d5d5d"/>
                </a:solidFill>
                <a:latin typeface="MetaNormalLF-Roman"/>
              </a:rPr>
              <a:t> and housing</a:t>
            </a:r>
            <a:endParaRPr b="0" lang="en-US" sz="1200" spc="-1" strike="noStrike">
              <a:solidFill>
                <a:srgbClr val="5d5d5d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d5d5d"/>
                </a:solidFill>
                <a:latin typeface="MetaNormalLF-Roman"/>
              </a:rPr>
              <a:t>17.5 million owners of</a:t>
            </a:r>
            <a:br>
              <a:rPr sz="1000"/>
            </a:br>
            <a:r>
              <a:rPr b="0" lang="de-DE" sz="1000" spc="-1" strike="noStrike">
                <a:solidFill>
                  <a:srgbClr val="5d5d5d"/>
                </a:solidFill>
                <a:latin typeface="MetaNormalLF-Roman"/>
              </a:rPr>
              <a:t>buildings/dwellings</a:t>
            </a:r>
            <a:endParaRPr b="0" lang="en-US" sz="1000" spc="-1" strike="noStrike">
              <a:solidFill>
                <a:srgbClr val="5d5d5d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9640" y="4929120"/>
            <a:ext cx="1979640" cy="432000"/>
            <a:chOff x="539640" y="4929120"/>
            <a:chExt cx="1979640" cy="432000"/>
          </a:xfrm>
        </p:grpSpPr>
        <p:sp>
          <p:nvSpPr>
            <p:cNvPr id="116" name=""/>
            <p:cNvSpPr/>
            <p:nvPr/>
          </p:nvSpPr>
          <p:spPr>
            <a:xfrm>
              <a:off x="539640" y="4929120"/>
              <a:ext cx="1656000" cy="432000"/>
            </a:xfrm>
            <a:prstGeom prst="flowChartProcess">
              <a:avLst/>
            </a:prstGeom>
            <a:solidFill>
              <a:srgbClr val="cdafd1"/>
            </a:solidFill>
            <a:ln w="1260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5d5d5d"/>
                  </a:solidFill>
                  <a:latin typeface="MetaNormalLF-Roman"/>
                </a:rPr>
                <a:t>Clarification</a:t>
              </a:r>
              <a:br>
                <a:rPr sz="1200"/>
              </a:br>
              <a:r>
                <a:rPr b="0" lang="de-DE" sz="1200" spc="-1" strike="noStrike">
                  <a:solidFill>
                    <a:srgbClr val="5d5d5d"/>
                  </a:solidFill>
                  <a:latin typeface="MetaNormalLF-Roman"/>
                </a:rPr>
                <a:t>of implausible</a:t>
              </a:r>
              <a:br>
                <a:rPr sz="1200"/>
              </a:br>
              <a:r>
                <a:rPr b="0" lang="de-DE" sz="1200" spc="-1" strike="noStrike">
                  <a:solidFill>
                    <a:srgbClr val="5d5d5d"/>
                  </a:solidFill>
                  <a:latin typeface="MetaNormalLF-Roman"/>
                </a:rPr>
                <a:t>cases</a:t>
              </a:r>
              <a:endParaRPr b="0" lang="en-US" sz="12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5640" y="5219640"/>
              <a:ext cx="32364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-75600" bIns="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195280" y="5073480"/>
              <a:ext cx="32364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558000" rIns="0" tIns="-75600" bIns="0" anchor="b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366920" y="3598920"/>
            <a:ext cx="5757840" cy="1906560"/>
            <a:chOff x="1366920" y="3598920"/>
            <a:chExt cx="5757840" cy="1906560"/>
          </a:xfrm>
        </p:grpSpPr>
        <p:grpSp>
          <p:nvGrpSpPr>
            <p:cNvPr id="120" name=""/>
            <p:cNvGrpSpPr/>
            <p:nvPr/>
          </p:nvGrpSpPr>
          <p:grpSpPr>
            <a:xfrm>
              <a:off x="4533840" y="4570200"/>
              <a:ext cx="2590920" cy="935280"/>
              <a:chOff x="4533840" y="4570200"/>
              <a:chExt cx="2590920" cy="9352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6585120" y="4570200"/>
                <a:ext cx="0" cy="21564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0" rIns="0" tIns="0" bIns="75600" anchor="b">
                <a:noAutofit/>
              </a:bodyPr>
              <a:p>
                <a:endParaRPr b="0" lang="en-US" sz="1800" spc="-1" strike="noStrike">
                  <a:solidFill>
                    <a:srgbClr val="5d5d5d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45120" y="4786200"/>
                <a:ext cx="1079640" cy="719280"/>
              </a:xfrm>
              <a:prstGeom prst="flowChartProcess">
                <a:avLst/>
              </a:prstGeom>
              <a:solidFill>
                <a:srgbClr val="cdafd1"/>
              </a:solidFill>
              <a:ln w="12600">
                <a:solidFill>
                  <a:srgbClr val="5d5d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90000" tIns="46800" bIns="46800" anchor="ctr">
                <a:noAutofit/>
              </a:bodyPr>
              <a:p>
                <a:pPr marL="85680" indent="-85680">
                  <a:lnSpc>
                    <a:spcPct val="80000"/>
                  </a:lnSpc>
                  <a:buClr>
                    <a:srgbClr val="5d5d5d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5d5d5d"/>
                    </a:solidFill>
                    <a:latin typeface="MetaNormalLF-Roman"/>
                  </a:rPr>
                  <a:t>Overcoverage/</a:t>
                </a:r>
                <a:br>
                  <a:rPr sz="1100"/>
                </a:br>
                <a:r>
                  <a:rPr b="0" lang="de-DE" sz="1100" spc="-1" strike="noStrike">
                    <a:solidFill>
                      <a:srgbClr val="5d5d5d"/>
                    </a:solidFill>
                    <a:latin typeface="MetaNormalLF-Roman"/>
                  </a:rPr>
                  <a:t>undercoverage</a:t>
                </a:r>
                <a:endParaRPr b="0" lang="en-US" sz="1100" spc="-1" strike="noStrike">
                  <a:solidFill>
                    <a:srgbClr val="5d5d5d"/>
                  </a:solidFill>
                  <a:latin typeface="Arial"/>
                </a:endParaRPr>
              </a:p>
              <a:p>
                <a:pPr marL="85680" indent="-85680">
                  <a:lnSpc>
                    <a:spcPct val="80000"/>
                  </a:lnSpc>
                  <a:buClr>
                    <a:srgbClr val="5d5d5d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100" spc="-1" strike="noStrike">
                    <a:solidFill>
                      <a:srgbClr val="5d5d5d"/>
                    </a:solidFill>
                    <a:latin typeface="MetaNormalLF-Roman"/>
                  </a:rPr>
                  <a:t>Variable</a:t>
                </a:r>
                <a:br>
                  <a:rPr sz="1100"/>
                </a:br>
                <a:r>
                  <a:rPr b="0" lang="de-DE" sz="1100" spc="-1" strike="noStrike">
                    <a:solidFill>
                      <a:srgbClr val="5d5d5d"/>
                    </a:solidFill>
                    <a:latin typeface="MetaNormalLF-Roman"/>
                  </a:rPr>
                  <a:t>integration</a:t>
                </a:r>
                <a:endParaRPr b="0" lang="en-US" sz="1100" spc="-1" strike="noStrike">
                  <a:solidFill>
                    <a:srgbClr val="5d5d5d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533840" y="5219640"/>
                <a:ext cx="151128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8000" rIns="0" tIns="-75600" bIns="0" anchor="b">
                <a:noAutofit/>
              </a:bodyPr>
              <a:p>
                <a:endParaRPr b="0" lang="en-US" sz="1800" spc="-1" strike="noStrike">
                  <a:solidFill>
                    <a:srgbClr val="5d5d5d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366920" y="3598920"/>
              <a:ext cx="4347720" cy="1906560"/>
              <a:chOff x="1366920" y="3598920"/>
              <a:chExt cx="4347720" cy="190656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2517840" y="4605480"/>
                <a:ext cx="2016000" cy="900000"/>
                <a:chOff x="2517840" y="4605480"/>
                <a:chExt cx="2016000" cy="900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517840" y="4786200"/>
                  <a:ext cx="2016000" cy="719280"/>
                </a:xfrm>
                <a:prstGeom prst="flowChartProcess">
                  <a:avLst/>
                </a:prstGeom>
                <a:solidFill>
                  <a:srgbClr val="ffcc33"/>
                </a:solidFill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90000" tIns="46800" bIns="46800" anchor="ctr">
                  <a:noAutofit/>
                </a:bodyPr>
                <a:p>
                  <a:pPr marL="85680" indent="-85680">
                    <a:lnSpc>
                      <a:spcPct val="80000"/>
                    </a:lnSpc>
                    <a:buClr>
                      <a:srgbClr val="5d5d5d"/>
                    </a:buClr>
                    <a:buSzPct val="6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5d5d5d"/>
                      </a:solidFill>
                      <a:latin typeface="MetaNormalLF-Roman"/>
                    </a:rPr>
                    <a:t>Household generating </a:t>
                  </a:r>
                  <a:br>
                    <a:rPr sz="1200"/>
                  </a:br>
                  <a:r>
                    <a:rPr b="1" lang="de-DE" sz="1200" spc="-1" strike="noStrike">
                      <a:solidFill>
                        <a:srgbClr val="5d5d5d"/>
                      </a:solidFill>
                      <a:latin typeface="MetaNormalLF-Roman"/>
                    </a:rPr>
                    <a:t>procedure</a:t>
                  </a:r>
                  <a:br>
                    <a:rPr sz="1200"/>
                  </a:br>
                  <a:r>
                    <a:rPr b="0" lang="de-DE" sz="1000" spc="-1" strike="noStrike">
                      <a:solidFill>
                        <a:srgbClr val="5d5d5d"/>
                      </a:solidFill>
                      <a:latin typeface="MetaNormalLF-Roman"/>
                    </a:rPr>
                    <a:t>38.5 million households </a:t>
                  </a:r>
                  <a:endParaRPr b="0" lang="en-US" sz="1000" spc="-1" strike="noStrike">
                    <a:solidFill>
                      <a:srgbClr val="5d5d5d"/>
                    </a:solidFill>
                    <a:latin typeface="Arial"/>
                  </a:endParaRPr>
                </a:p>
                <a:p>
                  <a:pPr marL="85680" indent="-85680">
                    <a:lnSpc>
                      <a:spcPct val="80000"/>
                    </a:lnSpc>
                    <a:buClr>
                      <a:srgbClr val="5d5d5d"/>
                    </a:buClr>
                    <a:buSzPct val="6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5d5d5d"/>
                      </a:solidFill>
                      <a:latin typeface="MetaNormalLF-Roman"/>
                    </a:rPr>
                    <a:t>Correction of register errors</a:t>
                  </a:r>
                  <a:endParaRPr b="0" lang="en-US" sz="1200" spc="-1" strike="noStrike">
                    <a:solidFill>
                      <a:srgbClr val="5d5d5d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525840" y="4605480"/>
                  <a:ext cx="0" cy="179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8000" rIns="0" tIns="0" bIns="75600" anchor="b">
                  <a:noAutofit/>
                </a:bodyPr>
                <a:p>
                  <a:endParaRPr b="0" lang="en-US" sz="1800" spc="-1" strike="noStrike">
                    <a:solidFill>
                      <a:srgbClr val="5d5d5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366920" y="3598920"/>
                <a:ext cx="4347720" cy="1476000"/>
                <a:chOff x="1366920" y="3598920"/>
                <a:chExt cx="4347720" cy="1476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684760" y="3633840"/>
                  <a:ext cx="0" cy="143964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8000" rIns="0" tIns="0" bIns="75600" anchor="b">
                  <a:noAutofit/>
                </a:bodyPr>
                <a:p>
                  <a:endParaRPr b="0" lang="en-US" sz="1800" spc="-1" strike="noStrike">
                    <a:solidFill>
                      <a:srgbClr val="5d5d5d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4533480" y="5073120"/>
                  <a:ext cx="1181160" cy="180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58000" rIns="0" tIns="-73800" bIns="1800" anchor="b">
                  <a:noAutofit/>
                </a:bodyPr>
                <a:p>
                  <a:endParaRPr b="0" lang="en-US" sz="1800" spc="-1" strike="noStrike">
                    <a:solidFill>
                      <a:srgbClr val="5d5d5d"/>
                    </a:solidFill>
                    <a:latin typeface="Arial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1366920" y="3598920"/>
                  <a:ext cx="2087640" cy="1127160"/>
                  <a:chOff x="1366920" y="3598920"/>
                  <a:chExt cx="2087640" cy="11271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1366920" y="4695840"/>
                    <a:ext cx="2087640" cy="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58000" rIns="0" tIns="-75600" bIns="0" anchor="b">
                    <a:noAutofit/>
                  </a:bodyPr>
                  <a:p>
                    <a:endParaRPr b="0" lang="en-US" sz="1800" spc="-1" strike="noStrike">
                      <a:solidFill>
                        <a:srgbClr val="5d5d5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366920" y="3598920"/>
                    <a:ext cx="0" cy="1127160"/>
                  </a:xfrm>
                  <a:prstGeom prst="line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58000" rIns="0" tIns="0" bIns="75600" anchor="b">
                    <a:noAutofit/>
                  </a:bodyPr>
                  <a:p>
                    <a:endParaRPr b="0" lang="en-US" sz="1800" spc="-1" strike="noStrike">
                      <a:solidFill>
                        <a:srgbClr val="5d5d5d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34" name=""/>
          <p:cNvSpPr/>
          <p:nvPr/>
        </p:nvSpPr>
        <p:spPr>
          <a:xfrm>
            <a:off x="3525840" y="269892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66920" y="269892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84760" y="269892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45480" y="269892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41360" y="2698920"/>
            <a:ext cx="65325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0" rIns="0" tIns="-75600" bIns="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05480" y="2517840"/>
            <a:ext cx="0" cy="1792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6200" y="1978200"/>
            <a:ext cx="3238560" cy="539640"/>
          </a:xfrm>
          <a:prstGeom prst="flowChartMagneticDisk">
            <a:avLst/>
          </a:prstGeom>
          <a:solidFill>
            <a:srgbClr val="bde18a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9160" bIns="687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d5d5d"/>
                </a:solidFill>
                <a:latin typeface="MetaNormalLF-Roman"/>
              </a:rPr>
              <a:t>Steering file – </a:t>
            </a:r>
            <a:r>
              <a:rPr b="1" lang="de-DE" sz="1100" spc="-1" strike="noStrike">
                <a:solidFill>
                  <a:srgbClr val="5d5d5d"/>
                </a:solidFill>
                <a:latin typeface="MetaNormalLF-Roman"/>
              </a:rPr>
              <a:t>Register of addresses and buildings</a:t>
            </a:r>
            <a:endParaRPr b="0" lang="en-US" sz="11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2708280"/>
            <a:ext cx="0" cy="1079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558000" rIns="0" tIns="0" bIns="75600" anchor="b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sches Bundesa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798-842D-49BD-9250-0E680A45D6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445680"/>
            <a:ext cx="827712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8a618"/>
                </a:solidFill>
                <a:latin typeface="Verdana"/>
              </a:rPr>
              <a:t>Register of addresses and buildings (AGR) 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040" y="203148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Functions pursuant to the 2011 Census Preparation Act, Section 2, Subsection 2: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Steering function in respect of primary data surveys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Sampling frame for sample survey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Completeness checks for buildings, dwellings and persons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Linking of different data sources and co-ordination of survey components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Creating a basis for spatial analyses of census results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sches Bundesa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234-9C87-4E18-BBC9-1ADC03DC76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558720" y="3505320"/>
            <a:ext cx="8153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267b"/>
                </a:solidFill>
                <a:latin typeface="Verdana"/>
              </a:rPr>
              <a:t>BA</a:t>
            </a:r>
            <a:r>
              <a:rPr b="1" lang="de-DE" sz="2400" spc="-1" strike="noStrike">
                <a:solidFill>
                  <a:srgbClr val="6e267b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5d5d5d"/>
                </a:solidFill>
                <a:latin typeface="Verdana"/>
              </a:rPr>
              <a:t>Data of the Federal E</a:t>
            </a:r>
            <a:r>
              <a:rPr b="0" lang="en-US" sz="1800" spc="-1" strike="noStrike">
                <a:solidFill>
                  <a:srgbClr val="5d5d5d"/>
                </a:solidFill>
                <a:latin typeface="Verdana"/>
              </a:rPr>
              <a:t>mployment Agency</a:t>
            </a:r>
            <a:br>
              <a:rPr sz="1800"/>
            </a:br>
            <a:r>
              <a:rPr b="0" lang="en-US" sz="1800" spc="-1" strike="noStrike">
                <a:solidFill>
                  <a:srgbClr val="5d5d5d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5d5d5d"/>
                </a:solidFill>
                <a:latin typeface="Verdana"/>
              </a:rPr>
              <a:t>~ 35 entries</a:t>
            </a:r>
            <a:br>
              <a:rPr sz="1800"/>
            </a:br>
            <a:r>
              <a:rPr b="0" lang="de-DE" sz="1800" spc="-1" strike="noStrike">
                <a:solidFill>
                  <a:srgbClr val="5d5d5d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5d5d5d"/>
                </a:solidFill>
                <a:latin typeface="Verdana"/>
              </a:rPr>
              <a:t>contains employment variables</a:t>
            </a:r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73120" y="5033880"/>
            <a:ext cx="7837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e17000"/>
                </a:solidFill>
                <a:latin typeface="Verdana"/>
              </a:rPr>
              <a:t>GAB</a:t>
            </a:r>
            <a:r>
              <a:rPr b="1" lang="de-DE" sz="2100" spc="-1" strike="noStrike">
                <a:solidFill>
                  <a:srgbClr val="e17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d5d5d"/>
                </a:solidFill>
                <a:latin typeface="Verdana"/>
              </a:rPr>
              <a:t>G</a:t>
            </a:r>
            <a:r>
              <a:rPr b="0" lang="de-DE" sz="1800" spc="-1" strike="noStrike">
                <a:solidFill>
                  <a:srgbClr val="5d5d5d"/>
                </a:solidFill>
                <a:latin typeface="Verdana"/>
              </a:rPr>
              <a:t>eo-referenced address data </a:t>
            </a:r>
            <a:br>
              <a:rPr sz="1800"/>
            </a:br>
            <a:r>
              <a:rPr b="0" lang="de-DE" sz="1800" spc="-1" strike="noStrike">
                <a:solidFill>
                  <a:srgbClr val="5d5d5d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5d5d5d"/>
                </a:solidFill>
                <a:latin typeface="Verdana"/>
              </a:rPr>
              <a:t>~ 21 entries </a:t>
            </a:r>
            <a:br>
              <a:rPr sz="1800"/>
            </a:br>
            <a:r>
              <a:rPr b="0" lang="de-DE" sz="1800" spc="-1" strike="noStrike">
                <a:solidFill>
                  <a:srgbClr val="5d5d5d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5d5d5d"/>
                </a:solidFill>
                <a:latin typeface="Verdana"/>
              </a:rPr>
              <a:t>contains geo-coordinates</a:t>
            </a:r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63400" y="2009880"/>
            <a:ext cx="8215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58a618"/>
                </a:solidFill>
                <a:latin typeface="Verdana"/>
              </a:rPr>
              <a:t>MR</a:t>
            </a:r>
            <a:r>
              <a:rPr b="1" lang="de-DE" sz="2100" spc="-1" strike="noStrike">
                <a:solidFill>
                  <a:srgbClr val="58a618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Data of resident‘s registration offices </a:t>
            </a:r>
            <a:br>
              <a:rPr sz="1900"/>
            </a:b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~ 86 entries</a:t>
            </a:r>
            <a:br>
              <a:rPr sz="1900"/>
            </a:b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contains demographic and geographical information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446040"/>
            <a:ext cx="82771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8a618"/>
                </a:solidFill>
                <a:latin typeface="Verdana"/>
              </a:rPr>
              <a:t>Data acquisition: using registers in place</a:t>
            </a:r>
            <a:endParaRPr b="0" lang="en-US" sz="30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sches Bundesa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F68-ADE7-44A8-ABEB-9D4954F66F9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a618"/>
                </a:solidFill>
                <a:latin typeface="Verdana"/>
              </a:rPr>
              <a:t>The setup of the AGR – overview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522440" y="2976480"/>
            <a:ext cx="3227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MetaNormalLF-Roman"/>
              </a:rPr>
              <a:t>Standardisation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349360"/>
            <a:ext cx="1368360" cy="648000"/>
          </a:xfrm>
          <a:prstGeom prst="ellipse">
            <a:avLst/>
          </a:prstGeom>
          <a:solidFill>
            <a:srgbClr val="58a618">
              <a:alpha val="50000"/>
            </a:srgbClr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2473200"/>
            <a:ext cx="107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MetaNormalLF-Roman"/>
              </a:rPr>
              <a:t>MR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71640" y="3429000"/>
            <a:ext cx="1368360" cy="647640"/>
            <a:chOff x="971640" y="3429000"/>
            <a:chExt cx="1368360" cy="647640"/>
          </a:xfrm>
        </p:grpSpPr>
        <p:sp>
          <p:nvSpPr>
            <p:cNvPr id="153" name=""/>
            <p:cNvSpPr/>
            <p:nvPr/>
          </p:nvSpPr>
          <p:spPr>
            <a:xfrm>
              <a:off x="971640" y="3429000"/>
              <a:ext cx="1368360" cy="647640"/>
            </a:xfrm>
            <a:prstGeom prst="ellipse">
              <a:avLst/>
            </a:prstGeom>
            <a:solidFill>
              <a:srgbClr val="58a618">
                <a:alpha val="50000"/>
              </a:srgbClr>
            </a:solidFill>
            <a:ln w="1260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16000" y="3552840"/>
              <a:ext cx="1079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5d5d5d"/>
                  </a:solidFill>
                  <a:latin typeface="MetaNormalLF-Roman"/>
                </a:rPr>
                <a:t>MR</a:t>
              </a:r>
              <a:r>
                <a:rPr b="0" lang="de-DE" sz="1900" spc="-1" strike="noStrike" baseline="-25000">
                  <a:solidFill>
                    <a:srgbClr val="5d5d5d"/>
                  </a:solidFill>
                  <a:latin typeface="MetaNormalLF-Roman"/>
                </a:rPr>
                <a:t>ST</a:t>
              </a:r>
              <a:endParaRPr b="0" lang="en-US" sz="19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860640" y="3429000"/>
            <a:ext cx="1368360" cy="647640"/>
            <a:chOff x="3860640" y="3429000"/>
            <a:chExt cx="1368360" cy="647640"/>
          </a:xfrm>
        </p:grpSpPr>
        <p:sp>
          <p:nvSpPr>
            <p:cNvPr id="156" name=""/>
            <p:cNvSpPr/>
            <p:nvPr/>
          </p:nvSpPr>
          <p:spPr>
            <a:xfrm>
              <a:off x="3860640" y="3429000"/>
              <a:ext cx="1368360" cy="647640"/>
            </a:xfrm>
            <a:prstGeom prst="ellipse">
              <a:avLst/>
            </a:prstGeom>
            <a:solidFill>
              <a:srgbClr val="6e267b">
                <a:alpha val="50000"/>
              </a:srgbClr>
            </a:solidFill>
            <a:ln w="1260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05000" y="3552840"/>
              <a:ext cx="1079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5d5d5d"/>
                  </a:solidFill>
                  <a:latin typeface="MetaNormalLF-Roman"/>
                </a:rPr>
                <a:t>BA</a:t>
              </a:r>
              <a:r>
                <a:rPr b="0" lang="de-DE" sz="1900" spc="-1" strike="noStrike" baseline="-25000">
                  <a:solidFill>
                    <a:srgbClr val="5d5d5d"/>
                  </a:solidFill>
                  <a:latin typeface="MetaNormalLF-Roman"/>
                </a:rPr>
                <a:t>ST</a:t>
              </a:r>
              <a:endParaRPr b="0" lang="en-US" sz="19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860640" y="2349360"/>
            <a:ext cx="1368720" cy="648000"/>
          </a:xfrm>
          <a:prstGeom prst="ellipse">
            <a:avLst/>
          </a:prstGeom>
          <a:solidFill>
            <a:srgbClr val="6e267b">
              <a:alpha val="50000"/>
            </a:srgbClr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05360" y="2473200"/>
            <a:ext cx="107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MetaNormalLF-Roman"/>
              </a:rPr>
              <a:t>BA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32720" y="2349360"/>
            <a:ext cx="1368360" cy="648000"/>
          </a:xfrm>
          <a:prstGeom prst="ellipse">
            <a:avLst/>
          </a:prstGeom>
          <a:solidFill>
            <a:srgbClr val="e17000">
              <a:alpha val="50000"/>
            </a:srgbClr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2473200"/>
            <a:ext cx="107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MetaNormalLF-Roman"/>
              </a:rPr>
              <a:t>GAB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732720" y="3429000"/>
            <a:ext cx="1368360" cy="647640"/>
            <a:chOff x="6732720" y="3429000"/>
            <a:chExt cx="1368360" cy="647640"/>
          </a:xfrm>
        </p:grpSpPr>
        <p:sp>
          <p:nvSpPr>
            <p:cNvPr id="163" name=""/>
            <p:cNvSpPr/>
            <p:nvPr/>
          </p:nvSpPr>
          <p:spPr>
            <a:xfrm>
              <a:off x="6732720" y="3429000"/>
              <a:ext cx="1368360" cy="647640"/>
            </a:xfrm>
            <a:prstGeom prst="ellipse">
              <a:avLst/>
            </a:prstGeom>
            <a:solidFill>
              <a:srgbClr val="e17000">
                <a:alpha val="50000"/>
              </a:srgbClr>
            </a:solidFill>
            <a:ln w="1260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77080" y="3552840"/>
              <a:ext cx="1079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5d5d5d"/>
                  </a:solidFill>
                  <a:latin typeface="MetaNormalLF-Roman"/>
                </a:rPr>
                <a:t>GAB</a:t>
              </a:r>
              <a:r>
                <a:rPr b="0" lang="de-DE" sz="1900" spc="-1" strike="noStrike" baseline="-25000">
                  <a:solidFill>
                    <a:srgbClr val="5d5d5d"/>
                  </a:solidFill>
                  <a:latin typeface="MetaNormalLF-Roman"/>
                </a:rPr>
                <a:t>ST</a:t>
              </a:r>
              <a:endParaRPr b="0" lang="en-US" sz="19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865680" y="4941720"/>
            <a:ext cx="1400040" cy="647640"/>
            <a:chOff x="3865680" y="4941720"/>
            <a:chExt cx="1400040" cy="647640"/>
          </a:xfrm>
        </p:grpSpPr>
        <p:sp>
          <p:nvSpPr>
            <p:cNvPr id="166" name=""/>
            <p:cNvSpPr/>
            <p:nvPr/>
          </p:nvSpPr>
          <p:spPr>
            <a:xfrm>
              <a:off x="3865680" y="4941720"/>
              <a:ext cx="1368360" cy="647640"/>
            </a:xfrm>
            <a:prstGeom prst="ellipse">
              <a:avLst/>
            </a:prstGeom>
            <a:solidFill>
              <a:srgbClr val="999999">
                <a:alpha val="50000"/>
              </a:srgbClr>
            </a:solidFill>
            <a:ln w="1260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d5d5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98800" y="5065560"/>
              <a:ext cx="1366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5d5d5d"/>
                  </a:solidFill>
                  <a:latin typeface="MetaNormalLF-Roman"/>
                </a:rPr>
                <a:t>AGR</a:t>
              </a:r>
              <a:endParaRPr b="0" lang="en-US" sz="1900" spc="-1" strike="noStrike">
                <a:solidFill>
                  <a:srgbClr val="5d5d5d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593720" y="304308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5d5d5d"/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86320" y="303516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5d5d5d"/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1800" y="304812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5d5d5d"/>
          </a:solidFill>
          <a:ln w="1260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76880" y="2976480"/>
            <a:ext cx="3227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5d5d5d"/>
                </a:solidFill>
                <a:latin typeface="MetaNormalLF-Roman"/>
              </a:rPr>
              <a:t>Referencing</a:t>
            </a:r>
            <a:endParaRPr b="0" lang="en-US" sz="1900" spc="-1" strike="noStrike">
              <a:solidFill>
                <a:srgbClr val="5d5d5d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53" idx="4"/>
          </p:cNvCxnSpPr>
          <p:nvPr/>
        </p:nvCxnSpPr>
        <p:spPr>
          <a:xfrm>
            <a:off x="1655280" y="4076280"/>
            <a:ext cx="2243880" cy="865800"/>
          </a:xfrm>
          <a:prstGeom prst="straightConnector1">
            <a:avLst/>
          </a:prstGeom>
          <a:ln w="38160">
            <a:solidFill>
              <a:srgbClr val="5d5d5d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4544640" y="4076280"/>
            <a:ext cx="5400" cy="865800"/>
          </a:xfrm>
          <a:prstGeom prst="straightConnector1">
            <a:avLst/>
          </a:prstGeom>
          <a:ln w="38160">
            <a:solidFill>
              <a:srgbClr val="5d5d5d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3" idx="4"/>
          </p:cNvCxnSpPr>
          <p:nvPr/>
        </p:nvCxnSpPr>
        <p:spPr>
          <a:xfrm flipH="1">
            <a:off x="5265000" y="4076280"/>
            <a:ext cx="2151720" cy="865800"/>
          </a:xfrm>
          <a:prstGeom prst="straightConnector1">
            <a:avLst/>
          </a:prstGeom>
          <a:ln w="38160">
            <a:solidFill>
              <a:srgbClr val="5d5d5d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sches Bundesa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662-E128-4B10-9686-0CECEF5D51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445680"/>
            <a:ext cx="827712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a618"/>
                </a:solidFill>
                <a:latin typeface="Verdana"/>
              </a:rPr>
              <a:t>The setup of the AGR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203148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ts val="2900"/>
              </a:lnSpc>
              <a:spcBef>
                <a:spcPts val="788"/>
              </a:spcBef>
              <a:spcAft>
                <a:spcPts val="788"/>
              </a:spcAft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Data checks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marL="266760" indent="-266760">
              <a:lnSpc>
                <a:spcPts val="2900"/>
              </a:lnSpc>
              <a:spcBef>
                <a:spcPts val="788"/>
              </a:spcBef>
              <a:spcAft>
                <a:spcPts val="788"/>
              </a:spcAft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Prepro</a:t>
            </a: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cessing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Decomposing the address data into address components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5d5d5d"/>
                </a:solidFill>
                <a:latin typeface="Verdana"/>
              </a:rPr>
              <a:t>Standardisation</a:t>
            </a: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 of the address information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marL="266760" indent="-266760">
              <a:lnSpc>
                <a:spcPts val="2900"/>
              </a:lnSpc>
              <a:spcBef>
                <a:spcPts val="788"/>
              </a:spcBef>
              <a:spcAft>
                <a:spcPts val="788"/>
              </a:spcAft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d5d5d"/>
                </a:solidFill>
                <a:latin typeface="Verdana"/>
              </a:rPr>
              <a:t>Harmonisation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Referencing the street names at street level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Adjustment</a:t>
            </a:r>
            <a:r>
              <a:rPr b="0" lang="de-DE" sz="1900" spc="-1" strike="noStrike">
                <a:solidFill>
                  <a:srgbClr val="5d5d5d"/>
                </a:solidFill>
                <a:latin typeface="Verdana"/>
              </a:rPr>
              <a:t> of changing address identifiers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marL="266760" indent="-266760">
              <a:lnSpc>
                <a:spcPts val="2900"/>
              </a:lnSpc>
              <a:spcBef>
                <a:spcPts val="788"/>
              </a:spcBef>
              <a:spcAft>
                <a:spcPts val="788"/>
              </a:spcAft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5d5d5d"/>
                </a:solidFill>
                <a:latin typeface="Verdana"/>
              </a:rPr>
              <a:t>Merging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marL="266760" indent="0">
              <a:lnSpc>
                <a:spcPts val="2900"/>
              </a:lnSpc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sches Bundesa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AB2-608B-46B5-A5D1-6C8651B2BC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8a618"/>
                </a:solidFill>
                <a:latin typeface="Verdana"/>
              </a:rPr>
              <a:t>The quality assurance of the AGR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4640" y="2025360"/>
            <a:ext cx="8183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ts val="2900"/>
              </a:lnSpc>
              <a:spcBef>
                <a:spcPts val="788"/>
              </a:spcBef>
              <a:spcAft>
                <a:spcPts val="788"/>
              </a:spcAft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Using different registers for building up the AGR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marL="266760" indent="-266760">
              <a:lnSpc>
                <a:spcPts val="2900"/>
              </a:lnSpc>
              <a:spcBef>
                <a:spcPts val="788"/>
              </a:spcBef>
              <a:spcAft>
                <a:spcPts val="788"/>
              </a:spcAft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Classification of a</a:t>
            </a: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ddresses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Checking of addresses which are only in one source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Classification of addresses as “address with housing space”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marL="266760" indent="-266760">
              <a:lnSpc>
                <a:spcPts val="2900"/>
              </a:lnSpc>
              <a:spcBef>
                <a:spcPts val="788"/>
              </a:spcBef>
              <a:spcAft>
                <a:spcPts val="788"/>
              </a:spcAft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Integration of update deliveries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marL="266760" indent="-266760">
              <a:lnSpc>
                <a:spcPts val="2900"/>
              </a:lnSpc>
              <a:spcBef>
                <a:spcPts val="788"/>
              </a:spcBef>
              <a:spcAft>
                <a:spcPts val="788"/>
              </a:spcAft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Installation of an application </a:t>
            </a: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for updating the AGR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Integration of new addresses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Editing of address identifiers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sches Bundesa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DC7-6009-413F-89FE-CCED545CFF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3744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8a618"/>
                </a:solidFill>
                <a:latin typeface="Verdana"/>
              </a:rPr>
              <a:t>Conclusion</a:t>
            </a:r>
            <a:endParaRPr b="0" lang="en-US" sz="3000" spc="-1" strike="noStrike">
              <a:solidFill>
                <a:srgbClr val="58a61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4640" y="2025360"/>
            <a:ext cx="8183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ts val="2900"/>
              </a:lnSpc>
              <a:spcBef>
                <a:spcPts val="788"/>
              </a:spcBef>
              <a:spcAft>
                <a:spcPts val="788"/>
              </a:spcAft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Necessity of a basic register for the 2011 Census model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marL="266760" indent="-266760">
              <a:lnSpc>
                <a:spcPts val="2900"/>
              </a:lnSpc>
              <a:spcBef>
                <a:spcPts val="788"/>
              </a:spcBef>
              <a:spcAft>
                <a:spcPts val="788"/>
              </a:spcAft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Challenges of the AGR 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Combining data from different data sources at the level of addresses without numerical identifiers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marL="266760" indent="-266760">
              <a:lnSpc>
                <a:spcPts val="2900"/>
              </a:lnSpc>
              <a:spcBef>
                <a:spcPts val="788"/>
              </a:spcBef>
              <a:spcAft>
                <a:spcPts val="788"/>
              </a:spcAft>
              <a:buClr>
                <a:srgbClr val="58a618"/>
              </a:buClr>
              <a:buSzPct val="8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5d5d5d"/>
                </a:solidFill>
                <a:latin typeface="Verdana"/>
              </a:rPr>
              <a:t>Futur</a:t>
            </a:r>
            <a:r>
              <a:rPr b="0" lang="en-US" sz="2100" spc="-1" strike="noStrike">
                <a:solidFill>
                  <a:srgbClr val="5d5d5d"/>
                </a:solidFill>
                <a:latin typeface="Verdana"/>
              </a:rPr>
              <a:t>e prospects</a:t>
            </a:r>
            <a:endParaRPr b="0" lang="en-US" sz="21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Using standard address identifiers in the administrative registers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  <a:p>
            <a:pPr lvl="1" marL="781200" indent="-239760">
              <a:lnSpc>
                <a:spcPts val="2900"/>
              </a:lnSpc>
              <a:buClr>
                <a:srgbClr val="5d5d5d"/>
              </a:buClr>
              <a:buSzPct val="8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d5d5d"/>
                </a:solidFill>
                <a:latin typeface="Verdana"/>
              </a:rPr>
              <a:t>Setting up a permanent register of buildings and dwellings</a:t>
            </a:r>
            <a:endParaRPr b="0" lang="en-US" sz="1900" spc="-1" strike="noStrike">
              <a:solidFill>
                <a:srgbClr val="5d5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sches Bundesa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142-931A-4F88-9294-7C2D6F71CB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994360" y="276120"/>
            <a:ext cx="2857680" cy="11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istisches Bundesa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ADC-4BBF-437A-8936-01332BBAAA7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1:32:52Z</dcterms:created>
  <dc:creator>Neutze-M</dc:creator>
  <dc:description/>
  <dc:language>en-US</dc:language>
  <cp:lastModifiedBy>Hirner-S</cp:lastModifiedBy>
  <dcterms:modified xsi:type="dcterms:W3CDTF">2012-05-16T12:31:37Z</dcterms:modified>
  <cp:revision>131</cp:revision>
  <dc:subject/>
  <dc:title>LOREM IPSUM SIT AMET CONSECTETUER SIT</dc:title>
</cp:coreProperties>
</file>